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63FB-5672-40DA-9A52-D53B1150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B485-13DB-419F-A677-4291AF25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8DE6-50C8-4299-8565-82C6E936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F67A-D6F8-493D-918B-B39D6603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A473-F385-47E4-BBB4-4B041760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3F5E-58B3-4626-BDF8-7E01C80E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790A-180E-46BB-8543-6301E541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1A8E-4B99-44FC-9629-747927F2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571D-BB9F-4D23-BDE3-AD608BF3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2F77-0832-40EE-ADEC-65D43177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21E5-B6AD-4BD4-B334-637E1CA3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AEC2-E3B4-47CF-85D2-5C7F7A66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92A4-4E23-4993-991F-239367096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628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SISTEMA xD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530360"/>
            <a:ext cx="8686800" cy="4952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51280" y="4157640"/>
            <a:ext cx="15840" cy="525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51280" y="4309920"/>
            <a:ext cx="15840" cy="525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76680" y="4100400"/>
            <a:ext cx="696960" cy="470160"/>
          </a:xfrm>
          <a:prstGeom prst="rect">
            <a:avLst/>
          </a:prstGeom>
          <a:solidFill>
            <a:srgbClr val="66ff33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25920" y="4303800"/>
            <a:ext cx="450720" cy="28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64400" y="3038400"/>
            <a:ext cx="814320" cy="352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4960" y="1774800"/>
            <a:ext cx="2278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roveedores 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ervicios de Valor Agregado e ISP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97760" y="2044800"/>
            <a:ext cx="1493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nsum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esidencial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 Nego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85600" y="1892160"/>
            <a:ext cx="20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roveedor de Red ADS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89560" y="4062240"/>
            <a:ext cx="579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SPL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5960" y="4624560"/>
            <a:ext cx="10778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ar de co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DSL y PST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MULTIP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93960" y="3745080"/>
            <a:ext cx="30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" y="2568600"/>
            <a:ext cx="1160640" cy="21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897680" y="5511960"/>
            <a:ext cx="465120" cy="353520"/>
            <a:chOff x="7897680" y="5511960"/>
            <a:chExt cx="465120" cy="353520"/>
          </a:xfrm>
        </p:grpSpPr>
        <p:grpSp>
          <p:nvGrpSpPr>
            <p:cNvPr id="56" name=""/>
            <p:cNvGrpSpPr/>
            <p:nvPr/>
          </p:nvGrpSpPr>
          <p:grpSpPr>
            <a:xfrm>
              <a:off x="7897680" y="5511960"/>
              <a:ext cx="465120" cy="149040"/>
              <a:chOff x="7897680" y="5511960"/>
              <a:chExt cx="465120" cy="149040"/>
            </a:xfrm>
          </p:grpSpPr>
          <p:sp>
            <p:nvSpPr>
              <p:cNvPr id="57" name=""/>
              <p:cNvSpPr/>
              <p:nvPr/>
            </p:nvSpPr>
            <p:spPr>
              <a:xfrm>
                <a:off x="7897680" y="5612400"/>
                <a:ext cx="121680" cy="48600"/>
              </a:xfrm>
              <a:custGeom>
                <a:avLst/>
                <a:gdLst/>
                <a:ahLst/>
                <a:rect l="l" t="t" r="r" b="b"/>
                <a:pathLst>
                  <a:path w="150" h="62">
                    <a:moveTo>
                      <a:pt x="10" y="61"/>
                    </a:moveTo>
                    <a:lnTo>
                      <a:pt x="0" y="19"/>
                    </a:lnTo>
                    <a:lnTo>
                      <a:pt x="146" y="0"/>
                    </a:lnTo>
                    <a:lnTo>
                      <a:pt x="149" y="41"/>
                    </a:lnTo>
                    <a:lnTo>
                      <a:pt x="10" y="61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897680" y="5511960"/>
                <a:ext cx="465120" cy="117720"/>
              </a:xfrm>
              <a:custGeom>
                <a:avLst/>
                <a:gdLst/>
                <a:ahLst/>
                <a:rect l="l" t="t" r="r" b="b"/>
                <a:pathLst>
                  <a:path w="574" h="150">
                    <a:moveTo>
                      <a:pt x="0" y="149"/>
                    </a:moveTo>
                    <a:lnTo>
                      <a:pt x="5" y="81"/>
                    </a:lnTo>
                    <a:lnTo>
                      <a:pt x="39" y="39"/>
                    </a:lnTo>
                    <a:lnTo>
                      <a:pt x="133" y="14"/>
                    </a:lnTo>
                    <a:lnTo>
                      <a:pt x="231" y="3"/>
                    </a:lnTo>
                    <a:lnTo>
                      <a:pt x="312" y="0"/>
                    </a:lnTo>
                    <a:lnTo>
                      <a:pt x="396" y="9"/>
                    </a:lnTo>
                    <a:lnTo>
                      <a:pt x="461" y="22"/>
                    </a:lnTo>
                    <a:lnTo>
                      <a:pt x="524" y="41"/>
                    </a:lnTo>
                    <a:lnTo>
                      <a:pt x="556" y="79"/>
                    </a:lnTo>
                    <a:lnTo>
                      <a:pt x="573" y="142"/>
                    </a:lnTo>
                    <a:lnTo>
                      <a:pt x="430" y="137"/>
                    </a:lnTo>
                    <a:lnTo>
                      <a:pt x="440" y="94"/>
                    </a:lnTo>
                    <a:lnTo>
                      <a:pt x="401" y="81"/>
                    </a:lnTo>
                    <a:lnTo>
                      <a:pt x="364" y="74"/>
                    </a:lnTo>
                    <a:lnTo>
                      <a:pt x="308" y="70"/>
                    </a:lnTo>
                    <a:lnTo>
                      <a:pt x="228" y="71"/>
                    </a:lnTo>
                    <a:lnTo>
                      <a:pt x="170" y="80"/>
                    </a:lnTo>
                    <a:lnTo>
                      <a:pt x="133" y="88"/>
                    </a:lnTo>
                    <a:lnTo>
                      <a:pt x="144" y="129"/>
                    </a:lnTo>
                    <a:lnTo>
                      <a:pt x="0" y="149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247600" y="5618160"/>
                <a:ext cx="112680" cy="35280"/>
              </a:xfrm>
              <a:custGeom>
                <a:avLst/>
                <a:gdLst/>
                <a:ahLst/>
                <a:rect l="l" t="t" r="r" b="b"/>
                <a:pathLst>
                  <a:path w="139" h="45">
                    <a:moveTo>
                      <a:pt x="0" y="0"/>
                    </a:moveTo>
                    <a:lnTo>
                      <a:pt x="138" y="5"/>
                    </a:lnTo>
                    <a:lnTo>
                      <a:pt x="132" y="44"/>
                    </a:lnTo>
                    <a:lnTo>
                      <a:pt x="5" y="3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7973640" y="5552640"/>
              <a:ext cx="312840" cy="312840"/>
              <a:chOff x="7973640" y="5552640"/>
              <a:chExt cx="312840" cy="312840"/>
            </a:xfrm>
          </p:grpSpPr>
          <p:sp>
            <p:nvSpPr>
              <p:cNvPr id="61" name=""/>
              <p:cNvSpPr/>
              <p:nvPr/>
            </p:nvSpPr>
            <p:spPr>
              <a:xfrm>
                <a:off x="7997760" y="5589360"/>
                <a:ext cx="264240" cy="198000"/>
              </a:xfrm>
              <a:custGeom>
                <a:avLst/>
                <a:gdLst/>
                <a:ahLst/>
                <a:rect l="l" t="t" r="r" b="b"/>
                <a:pathLst>
                  <a:path w="326" h="252">
                    <a:moveTo>
                      <a:pt x="0" y="251"/>
                    </a:moveTo>
                    <a:lnTo>
                      <a:pt x="30" y="0"/>
                    </a:lnTo>
                    <a:lnTo>
                      <a:pt x="295" y="0"/>
                    </a:lnTo>
                    <a:lnTo>
                      <a:pt x="325" y="251"/>
                    </a:lnTo>
                    <a:lnTo>
                      <a:pt x="0" y="251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973640" y="5787000"/>
                <a:ext cx="312840" cy="78480"/>
              </a:xfrm>
              <a:custGeom>
                <a:avLst/>
                <a:gdLst/>
                <a:ahLst/>
                <a:rect l="l" t="t" r="r" b="b"/>
                <a:pathLst>
                  <a:path w="386" h="100">
                    <a:moveTo>
                      <a:pt x="30" y="0"/>
                    </a:moveTo>
                    <a:lnTo>
                      <a:pt x="354" y="0"/>
                    </a:lnTo>
                    <a:lnTo>
                      <a:pt x="385" y="99"/>
                    </a:lnTo>
                    <a:lnTo>
                      <a:pt x="0" y="99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973640" y="5589360"/>
                <a:ext cx="49320" cy="275760"/>
              </a:xfrm>
              <a:custGeom>
                <a:avLst/>
                <a:gdLst/>
                <a:ahLst/>
                <a:rect l="l" t="t" r="r" b="b"/>
                <a:pathLst>
                  <a:path w="61" h="351">
                    <a:moveTo>
                      <a:pt x="30" y="250"/>
                    </a:moveTo>
                    <a:lnTo>
                      <a:pt x="0" y="350"/>
                    </a:lnTo>
                    <a:lnTo>
                      <a:pt x="31" y="103"/>
                    </a:lnTo>
                    <a:lnTo>
                      <a:pt x="60" y="0"/>
                    </a:lnTo>
                    <a:lnTo>
                      <a:pt x="30" y="25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237160" y="5586480"/>
                <a:ext cx="49320" cy="277200"/>
              </a:xfrm>
              <a:custGeom>
                <a:avLst/>
                <a:gdLst/>
                <a:ahLst/>
                <a:rect l="l" t="t" r="r" b="b"/>
                <a:pathLst>
                  <a:path w="61" h="353">
                    <a:moveTo>
                      <a:pt x="29" y="249"/>
                    </a:moveTo>
                    <a:lnTo>
                      <a:pt x="60" y="352"/>
                    </a:lnTo>
                    <a:lnTo>
                      <a:pt x="27" y="103"/>
                    </a:lnTo>
                    <a:lnTo>
                      <a:pt x="0" y="0"/>
                    </a:lnTo>
                    <a:lnTo>
                      <a:pt x="29" y="249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044920" y="5552640"/>
                <a:ext cx="40320" cy="3780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47"/>
                    </a:moveTo>
                    <a:lnTo>
                      <a:pt x="0" y="35"/>
                    </a:lnTo>
                    <a:lnTo>
                      <a:pt x="7" y="0"/>
                    </a:lnTo>
                    <a:lnTo>
                      <a:pt x="40" y="0"/>
                    </a:lnTo>
                    <a:lnTo>
                      <a:pt x="49" y="33"/>
                    </a:lnTo>
                    <a:lnTo>
                      <a:pt x="49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169840" y="5552640"/>
                <a:ext cx="40320" cy="3780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47"/>
                    </a:moveTo>
                    <a:lnTo>
                      <a:pt x="0" y="35"/>
                    </a:lnTo>
                    <a:lnTo>
                      <a:pt x="7" y="0"/>
                    </a:lnTo>
                    <a:lnTo>
                      <a:pt x="40" y="0"/>
                    </a:lnTo>
                    <a:lnTo>
                      <a:pt x="49" y="33"/>
                    </a:lnTo>
                    <a:lnTo>
                      <a:pt x="49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017920" y="5604480"/>
                <a:ext cx="224640" cy="168120"/>
              </a:xfrm>
              <a:custGeom>
                <a:avLst/>
                <a:gdLst/>
                <a:ahLst/>
                <a:rect l="l" t="t" r="r" b="b"/>
                <a:pathLst>
                  <a:path w="277" h="214">
                    <a:moveTo>
                      <a:pt x="0" y="213"/>
                    </a:moveTo>
                    <a:lnTo>
                      <a:pt x="25" y="0"/>
                    </a:lnTo>
                    <a:lnTo>
                      <a:pt x="250" y="0"/>
                    </a:lnTo>
                    <a:lnTo>
                      <a:pt x="276" y="213"/>
                    </a:lnTo>
                    <a:lnTo>
                      <a:pt x="0" y="213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8076600" y="5630760"/>
              <a:ext cx="110160" cy="116280"/>
              <a:chOff x="8076600" y="5630760"/>
              <a:chExt cx="110160" cy="116280"/>
            </a:xfrm>
          </p:grpSpPr>
          <p:sp>
            <p:nvSpPr>
              <p:cNvPr id="69" name=""/>
              <p:cNvSpPr/>
              <p:nvPr/>
            </p:nvSpPr>
            <p:spPr>
              <a:xfrm>
                <a:off x="8076600" y="5630760"/>
                <a:ext cx="2916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116200" y="5630760"/>
                <a:ext cx="2988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157600" y="5630760"/>
                <a:ext cx="2916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076600" y="5663520"/>
                <a:ext cx="2916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116200" y="5663520"/>
                <a:ext cx="2988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157600" y="5663520"/>
                <a:ext cx="2916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076600" y="5695920"/>
                <a:ext cx="2916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116200" y="5695920"/>
                <a:ext cx="2988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157600" y="5695920"/>
                <a:ext cx="2916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076600" y="5729040"/>
                <a:ext cx="2916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116200" y="5729040"/>
                <a:ext cx="2988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157600" y="5729040"/>
                <a:ext cx="2916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"/>
          <p:cNvSpPr/>
          <p:nvPr/>
        </p:nvSpPr>
        <p:spPr>
          <a:xfrm>
            <a:off x="6535800" y="4251240"/>
            <a:ext cx="398520" cy="301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92760" y="4075200"/>
            <a:ext cx="67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SPL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75240" y="4681440"/>
            <a:ext cx="10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TM o 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587376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8128080" y="3745080"/>
          <a:ext cx="465120" cy="47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080" y="3745080"/>
                    <a:ext cx="46512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8244000" y="3390840"/>
            <a:ext cx="0" cy="4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432560" y="3862440"/>
          <a:ext cx="538200" cy="4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32560" y="3862440"/>
                    <a:ext cx="5382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7780320" y="3390840"/>
            <a:ext cx="0" cy="4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35600" y="4570560"/>
            <a:ext cx="1278000" cy="1177920"/>
          </a:xfrm>
          <a:custGeom>
            <a:avLst/>
            <a:gdLst/>
            <a:ahLst/>
            <a:rect l="l" t="t" r="r" b="b"/>
            <a:pathLst>
              <a:path w="528" h="480">
                <a:moveTo>
                  <a:pt x="0" y="0"/>
                </a:moveTo>
                <a:lnTo>
                  <a:pt x="0" y="480"/>
                </a:lnTo>
                <a:lnTo>
                  <a:pt x="528" y="4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35600" y="3156120"/>
            <a:ext cx="928800" cy="1079280"/>
          </a:xfrm>
          <a:custGeom>
            <a:avLst/>
            <a:gdLst/>
            <a:ahLst/>
            <a:rect l="l" t="t" r="r" b="b"/>
            <a:pathLst>
              <a:path w="384" h="384">
                <a:moveTo>
                  <a:pt x="0" y="384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425840"/>
            <a:ext cx="1563840" cy="97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46640" y="4334040"/>
            <a:ext cx="23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73640" y="4451400"/>
            <a:ext cx="115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6520" y="4570560"/>
            <a:ext cx="74880" cy="1150920"/>
          </a:xfrm>
          <a:custGeom>
            <a:avLst/>
            <a:gdLst/>
            <a:ahLst/>
            <a:rect l="l" t="t" r="r" b="b"/>
            <a:pathLst>
              <a:path w="1152" h="480">
                <a:moveTo>
                  <a:pt x="0" y="480"/>
                </a:moveTo>
                <a:lnTo>
                  <a:pt x="1152" y="480"/>
                </a:lnTo>
                <a:lnTo>
                  <a:pt x="11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46640" y="3625920"/>
            <a:ext cx="23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46640" y="3390840"/>
            <a:ext cx="23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6680" y="3390840"/>
            <a:ext cx="349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76680" y="3625920"/>
            <a:ext cx="349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76680" y="3862440"/>
            <a:ext cx="349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46640" y="3862440"/>
            <a:ext cx="23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25880" y="3274920"/>
            <a:ext cx="115920" cy="704880"/>
          </a:xfrm>
          <a:custGeom>
            <a:avLst/>
            <a:gdLst>
              <a:gd name="textAreaLeft" fmla="*/ 0 w 115920"/>
              <a:gd name="textAreaRight" fmla="*/ 41760 w 115920"/>
              <a:gd name="textAreaTop" fmla="*/ 18360 h 704880"/>
              <a:gd name="textAreaBottom" fmla="*/ 686520 h 70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6520" y="3425760"/>
            <a:ext cx="85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tr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19440" y="3745080"/>
            <a:ext cx="34920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24360" y="5187960"/>
            <a:ext cx="2004840" cy="5202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lan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Telefó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6160" y="2973240"/>
            <a:ext cx="1062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MULTI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AC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97080" y="2565360"/>
            <a:ext cx="463680" cy="2122560"/>
          </a:xfrm>
          <a:prstGeom prst="rect">
            <a:avLst/>
          </a:prstGeom>
          <a:solidFill>
            <a:srgbClr val="e5e5e5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u 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77920" y="2803680"/>
            <a:ext cx="698760" cy="1884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r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Narr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acketçNetw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03480" y="2222640"/>
            <a:ext cx="2081160" cy="2655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22480" y="243036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900000" y="181080"/>
            <a:ext cx="763272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4680" y="674640"/>
            <a:ext cx="9118800" cy="5619600"/>
            <a:chOff x="4680" y="674640"/>
            <a:chExt cx="9118800" cy="5619600"/>
          </a:xfrm>
        </p:grpSpPr>
        <p:grpSp>
          <p:nvGrpSpPr>
            <p:cNvPr id="468" name=""/>
            <p:cNvGrpSpPr/>
            <p:nvPr/>
          </p:nvGrpSpPr>
          <p:grpSpPr>
            <a:xfrm>
              <a:off x="4680" y="1699920"/>
              <a:ext cx="9118800" cy="4594320"/>
              <a:chOff x="4680" y="1699920"/>
              <a:chExt cx="9118800" cy="4594320"/>
            </a:xfrm>
          </p:grpSpPr>
          <p:sp>
            <p:nvSpPr>
              <p:cNvPr id="469" name=""/>
              <p:cNvSpPr/>
              <p:nvPr/>
            </p:nvSpPr>
            <p:spPr>
              <a:xfrm>
                <a:off x="4680" y="1699920"/>
                <a:ext cx="9118800" cy="4594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680" y="1699920"/>
                <a:ext cx="9118800" cy="4594320"/>
              </a:xfrm>
              <a:prstGeom prst="rect">
                <a:avLst/>
              </a:prstGeom>
              <a:noFill/>
              <a:ln cap="rnd" w="11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1313640" y="685440"/>
              <a:ext cx="6543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Ancho de banda las diferentes tecnologías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301760" y="67464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312920" y="106344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01760" y="10522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4057560" y="2712960"/>
              <a:ext cx="4930920" cy="271440"/>
              <a:chOff x="4057560" y="2712960"/>
              <a:chExt cx="4930920" cy="271440"/>
            </a:xfrm>
          </p:grpSpPr>
          <p:sp>
            <p:nvSpPr>
              <p:cNvPr id="476" name=""/>
              <p:cNvSpPr/>
              <p:nvPr/>
            </p:nvSpPr>
            <p:spPr>
              <a:xfrm>
                <a:off x="4057560" y="2712960"/>
                <a:ext cx="4930920" cy="271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057560" y="2712960"/>
                <a:ext cx="4930920" cy="27144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3854880" y="3062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967920" y="306216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519040" y="30621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67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784720" y="306216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4480" y="2695320"/>
              <a:ext cx="237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FC Cable Módem (Coaxial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3400" y="2914560"/>
              <a:ext cx="232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63de8"/>
                  </a:solidFill>
                  <a:latin typeface="Arial"/>
                </a:rPr>
                <a:t>Medio Compartido, 1000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8080" y="3130200"/>
              <a:ext cx="762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TV C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35720" y="397980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50560" y="39798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9640" y="3573360"/>
              <a:ext cx="45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xDS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80840" y="3573360"/>
              <a:ext cx="93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par cobr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3160" y="3792240"/>
              <a:ext cx="212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63de8"/>
                  </a:solidFill>
                  <a:latin typeface="Arial"/>
                </a:rPr>
                <a:t>Medio Dedicado, 4000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9280" y="4008240"/>
              <a:ext cx="40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IL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30360" y="3979800"/>
              <a:ext cx="23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.1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58600" y="39798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4057560" y="3632040"/>
              <a:ext cx="135000" cy="271440"/>
              <a:chOff x="4057560" y="3632040"/>
              <a:chExt cx="135000" cy="271440"/>
            </a:xfrm>
          </p:grpSpPr>
          <p:sp>
            <p:nvSpPr>
              <p:cNvPr id="494" name=""/>
              <p:cNvSpPr/>
              <p:nvPr/>
            </p:nvSpPr>
            <p:spPr>
              <a:xfrm>
                <a:off x="4057560" y="3632040"/>
                <a:ext cx="135000" cy="271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057560" y="3632040"/>
                <a:ext cx="135000" cy="27144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283680" y="4451040"/>
              <a:ext cx="173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C (cobre eléctr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042640" y="44114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82960" y="4681440"/>
              <a:ext cx="222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63de8"/>
                  </a:solidFill>
                  <a:latin typeface="Arial"/>
                </a:rPr>
                <a:t>Medio Compartido, 400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5840" y="4897080"/>
              <a:ext cx="844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Eléctric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05920" y="479088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920400" y="47908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66320" y="47908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8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55680" y="47908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4075200" y="4443120"/>
              <a:ext cx="657000" cy="230400"/>
              <a:chOff x="4075200" y="4443120"/>
              <a:chExt cx="657000" cy="230400"/>
            </a:xfrm>
          </p:grpSpPr>
          <p:sp>
            <p:nvSpPr>
              <p:cNvPr id="505" name=""/>
              <p:cNvSpPr/>
              <p:nvPr/>
            </p:nvSpPr>
            <p:spPr>
              <a:xfrm>
                <a:off x="4075200" y="4443120"/>
                <a:ext cx="657000" cy="230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075200" y="4443120"/>
                <a:ext cx="657000" cy="23040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285840" y="5273640"/>
              <a:ext cx="1572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WA (Microonda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2600" y="5492520"/>
              <a:ext cx="232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63de8"/>
                  </a:solidFill>
                  <a:latin typeface="Arial"/>
                </a:rPr>
                <a:t>Medio Compartido, 3000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9080" y="5708520"/>
              <a:ext cx="48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CL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05920" y="55339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920400" y="553392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13840" y="54939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79520" y="549396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4075200" y="5186160"/>
              <a:ext cx="1738080" cy="230040"/>
              <a:chOff x="4075200" y="5186160"/>
              <a:chExt cx="1738080" cy="230040"/>
            </a:xfrm>
          </p:grpSpPr>
          <p:sp>
            <p:nvSpPr>
              <p:cNvPr id="515" name=""/>
              <p:cNvSpPr/>
              <p:nvPr/>
            </p:nvSpPr>
            <p:spPr>
              <a:xfrm>
                <a:off x="4075200" y="5186160"/>
                <a:ext cx="1738080" cy="230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075200" y="5186160"/>
                <a:ext cx="1738080" cy="23004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284040" y="1884240"/>
              <a:ext cx="169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Ancho de banda e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999440" y="1884240"/>
              <a:ext cx="36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63de8"/>
                  </a:solidFill>
                  <a:latin typeface="Arial"/>
                </a:rPr>
                <a:t>MH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03360" y="1884240"/>
              <a:ext cx="4351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utilizable de cada una de las tecnologías de acc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08240" y="2743200"/>
            <a:ext cx="3454200" cy="27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91160" y="2822400"/>
            <a:ext cx="2044800" cy="261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961240" y="2030040"/>
            <a:ext cx="1692000" cy="118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83400" y="2030400"/>
            <a:ext cx="1551240" cy="12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145360" y="1869840"/>
            <a:ext cx="0" cy="55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45360" y="1870200"/>
            <a:ext cx="28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427960" y="1870200"/>
            <a:ext cx="0" cy="79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53360" y="5754600"/>
            <a:ext cx="21859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cinto Usu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02480" y="4487760"/>
            <a:ext cx="141120" cy="23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23080" y="3614760"/>
            <a:ext cx="141480" cy="23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10320" y="3297240"/>
            <a:ext cx="142920" cy="23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128840" y="3693960"/>
            <a:ext cx="359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773760" y="369360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81960" y="3535200"/>
            <a:ext cx="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308240" y="2347920"/>
            <a:ext cx="133956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47800" y="2347920"/>
            <a:ext cx="11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74960" y="2347920"/>
            <a:ext cx="98748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79520" y="5835600"/>
            <a:ext cx="3384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entral de Conmu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hone3"/>
          <p:cNvSpPr/>
          <p:nvPr/>
        </p:nvSpPr>
        <p:spPr>
          <a:xfrm>
            <a:off x="7934400" y="2981160"/>
            <a:ext cx="447480" cy="5032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hone3"/>
          <p:cNvSpPr/>
          <p:nvPr/>
        </p:nvSpPr>
        <p:spPr>
          <a:xfrm>
            <a:off x="8075520" y="3693960"/>
            <a:ext cx="447840" cy="5050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aptop"/>
          <p:cNvSpPr/>
          <p:nvPr/>
        </p:nvSpPr>
        <p:spPr>
          <a:xfrm>
            <a:off x="7792920" y="4805280"/>
            <a:ext cx="776520" cy="5526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43640" y="3573360"/>
            <a:ext cx="768240" cy="7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88160" y="504180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773760" y="4645080"/>
            <a:ext cx="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7722720" y="3693960"/>
            <a:ext cx="3524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581600" y="3219480"/>
            <a:ext cx="352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3840" y="3376440"/>
            <a:ext cx="1054080" cy="95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4010040"/>
            <a:ext cx="952560" cy="55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ff00ff"/>
                </a:solidFill>
                <a:latin typeface="Arial"/>
              </a:rPr>
              <a:t>Splitt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247920" y="4011120"/>
            <a:ext cx="385920" cy="157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8080" y="2900520"/>
            <a:ext cx="1062000" cy="11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Central de conmuta-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ció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9360" y="4724280"/>
            <a:ext cx="1052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4724280"/>
            <a:ext cx="961920" cy="55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L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941480" y="4487760"/>
            <a:ext cx="635040" cy="238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65200" y="3535200"/>
            <a:ext cx="319320" cy="55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166400" y="4964040"/>
            <a:ext cx="281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9560" y="4724280"/>
            <a:ext cx="4572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095120" y="3456000"/>
            <a:ext cx="282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19480"/>
            <a:ext cx="10638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06800" y="3152880"/>
            <a:ext cx="18338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ucle de abona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46240" y="681120"/>
            <a:ext cx="53611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lación típica de ADSL 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773760" y="5013000"/>
            <a:ext cx="96696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89720" y="3376440"/>
            <a:ext cx="1538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mbrado C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280" y="1238400"/>
            <a:ext cx="8686800" cy="5127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24360" y="1598760"/>
            <a:ext cx="1440" cy="34272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52920" y="2583000"/>
            <a:ext cx="212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43720" y="2867040"/>
            <a:ext cx="700200" cy="3985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936960" y="2225520"/>
            <a:ext cx="1647720" cy="726840"/>
            <a:chOff x="3936960" y="2225520"/>
            <a:chExt cx="1647720" cy="726840"/>
          </a:xfrm>
        </p:grpSpPr>
        <p:sp>
          <p:nvSpPr>
            <p:cNvPr id="159" name=""/>
            <p:cNvSpPr/>
            <p:nvPr/>
          </p:nvSpPr>
          <p:spPr>
            <a:xfrm>
              <a:off x="5437080" y="2225520"/>
              <a:ext cx="147240" cy="726840"/>
            </a:xfrm>
            <a:custGeom>
              <a:avLst/>
              <a:gdLst/>
              <a:ahLst/>
              <a:rect l="l" t="t" r="r" b="b"/>
              <a:pathLst>
                <a:path w="93" h="458">
                  <a:moveTo>
                    <a:pt x="0" y="458"/>
                  </a:moveTo>
                  <a:lnTo>
                    <a:pt x="0" y="72"/>
                  </a:lnTo>
                  <a:lnTo>
                    <a:pt x="93" y="0"/>
                  </a:lnTo>
                  <a:lnTo>
                    <a:pt x="93" y="377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36960" y="2225520"/>
              <a:ext cx="1647720" cy="114120"/>
            </a:xfrm>
            <a:custGeom>
              <a:avLst/>
              <a:gdLst/>
              <a:ahLst/>
              <a:rect l="l" t="t" r="r" b="b"/>
              <a:pathLst>
                <a:path w="1038" h="72">
                  <a:moveTo>
                    <a:pt x="945" y="72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1038" y="0"/>
                  </a:lnTo>
                  <a:lnTo>
                    <a:pt x="945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36960" y="2339640"/>
              <a:ext cx="1500120" cy="6127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871800" y="2397240"/>
            <a:ext cx="16146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81400" y="244008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Cable Mod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440" y="2610000"/>
            <a:ext cx="121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Termination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60040" y="27669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555920" y="2738520"/>
            <a:ext cx="1419120" cy="684000"/>
          </a:xfrm>
          <a:prstGeom prst="line">
            <a:avLst/>
          </a:prstGeom>
          <a:ln w="65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90880" y="2752560"/>
            <a:ext cx="1484280" cy="627120"/>
          </a:xfrm>
          <a:prstGeom prst="line">
            <a:avLst/>
          </a:prstGeom>
          <a:ln w="65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90880" y="2468520"/>
            <a:ext cx="1440" cy="939960"/>
          </a:xfrm>
          <a:prstGeom prst="line">
            <a:avLst/>
          </a:prstGeom>
          <a:ln w="65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63520" y="3265560"/>
            <a:ext cx="946080" cy="527040"/>
            <a:chOff x="1163520" y="3265560"/>
            <a:chExt cx="946080" cy="527040"/>
          </a:xfrm>
        </p:grpSpPr>
        <p:sp>
          <p:nvSpPr>
            <p:cNvPr id="170" name=""/>
            <p:cNvSpPr/>
            <p:nvPr/>
          </p:nvSpPr>
          <p:spPr>
            <a:xfrm>
              <a:off x="1963440" y="3265560"/>
              <a:ext cx="146160" cy="527040"/>
            </a:xfrm>
            <a:custGeom>
              <a:avLst/>
              <a:gdLst/>
              <a:ahLst/>
              <a:rect l="l" t="t" r="r" b="b"/>
              <a:pathLst>
                <a:path w="92" h="332">
                  <a:moveTo>
                    <a:pt x="0" y="332"/>
                  </a:moveTo>
                  <a:lnTo>
                    <a:pt x="0" y="81"/>
                  </a:lnTo>
                  <a:lnTo>
                    <a:pt x="92" y="0"/>
                  </a:lnTo>
                  <a:lnTo>
                    <a:pt x="92" y="260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63520" y="3265560"/>
              <a:ext cx="946080" cy="128520"/>
            </a:xfrm>
            <a:custGeom>
              <a:avLst/>
              <a:gdLst/>
              <a:ahLst/>
              <a:rect l="l" t="t" r="r" b="b"/>
              <a:pathLst>
                <a:path w="596" h="81">
                  <a:moveTo>
                    <a:pt x="504" y="81"/>
                  </a:moveTo>
                  <a:lnTo>
                    <a:pt x="0" y="81"/>
                  </a:lnTo>
                  <a:lnTo>
                    <a:pt x="83" y="0"/>
                  </a:lnTo>
                  <a:lnTo>
                    <a:pt x="596" y="0"/>
                  </a:lnTo>
                  <a:lnTo>
                    <a:pt x="504" y="81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63520" y="3394080"/>
              <a:ext cx="799920" cy="3985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533680" y="3265560"/>
            <a:ext cx="946080" cy="527040"/>
            <a:chOff x="2533680" y="3265560"/>
            <a:chExt cx="946080" cy="527040"/>
          </a:xfrm>
        </p:grpSpPr>
        <p:sp>
          <p:nvSpPr>
            <p:cNvPr id="174" name=""/>
            <p:cNvSpPr/>
            <p:nvPr/>
          </p:nvSpPr>
          <p:spPr>
            <a:xfrm>
              <a:off x="3349800" y="3265560"/>
              <a:ext cx="129960" cy="527040"/>
            </a:xfrm>
            <a:custGeom>
              <a:avLst/>
              <a:gdLst/>
              <a:ahLst/>
              <a:rect l="l" t="t" r="r" b="b"/>
              <a:pathLst>
                <a:path w="82" h="332">
                  <a:moveTo>
                    <a:pt x="0" y="332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82" y="260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33680" y="3265560"/>
              <a:ext cx="946080" cy="114120"/>
            </a:xfrm>
            <a:custGeom>
              <a:avLst/>
              <a:gdLst/>
              <a:ahLst/>
              <a:rect l="l" t="t" r="r" b="b"/>
              <a:pathLst>
                <a:path w="596" h="72">
                  <a:moveTo>
                    <a:pt x="514" y="72"/>
                  </a:moveTo>
                  <a:lnTo>
                    <a:pt x="0" y="72"/>
                  </a:lnTo>
                  <a:lnTo>
                    <a:pt x="83" y="0"/>
                  </a:lnTo>
                  <a:lnTo>
                    <a:pt x="596" y="0"/>
                  </a:lnTo>
                  <a:lnTo>
                    <a:pt x="514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33680" y="3379680"/>
              <a:ext cx="816120" cy="4129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083120" y="3236760"/>
            <a:ext cx="961920" cy="527040"/>
            <a:chOff x="4083120" y="3236760"/>
            <a:chExt cx="961920" cy="527040"/>
          </a:xfrm>
        </p:grpSpPr>
        <p:sp>
          <p:nvSpPr>
            <p:cNvPr id="178" name=""/>
            <p:cNvSpPr/>
            <p:nvPr/>
          </p:nvSpPr>
          <p:spPr>
            <a:xfrm>
              <a:off x="4899240" y="3236760"/>
              <a:ext cx="145800" cy="527040"/>
            </a:xfrm>
            <a:custGeom>
              <a:avLst/>
              <a:gdLst/>
              <a:ahLst/>
              <a:rect l="l" t="t" r="r" b="b"/>
              <a:pathLst>
                <a:path w="92" h="332">
                  <a:moveTo>
                    <a:pt x="0" y="332"/>
                  </a:moveTo>
                  <a:lnTo>
                    <a:pt x="0" y="72"/>
                  </a:lnTo>
                  <a:lnTo>
                    <a:pt x="92" y="0"/>
                  </a:lnTo>
                  <a:lnTo>
                    <a:pt x="92" y="260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83120" y="3236760"/>
              <a:ext cx="961920" cy="114120"/>
            </a:xfrm>
            <a:custGeom>
              <a:avLst/>
              <a:gdLst/>
              <a:ahLst/>
              <a:rect l="l" t="t" r="r" b="b"/>
              <a:pathLst>
                <a:path w="606" h="72">
                  <a:moveTo>
                    <a:pt x="514" y="72"/>
                  </a:moveTo>
                  <a:lnTo>
                    <a:pt x="0" y="72"/>
                  </a:lnTo>
                  <a:lnTo>
                    <a:pt x="93" y="0"/>
                  </a:lnTo>
                  <a:lnTo>
                    <a:pt x="606" y="0"/>
                  </a:lnTo>
                  <a:lnTo>
                    <a:pt x="514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83120" y="3350880"/>
              <a:ext cx="816120" cy="4129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 flipH="1">
            <a:off x="1082520" y="3807000"/>
            <a:ext cx="1843200" cy="698400"/>
          </a:xfrm>
          <a:prstGeom prst="line">
            <a:avLst/>
          </a:prstGeom>
          <a:ln w="49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371320" y="3821040"/>
            <a:ext cx="585720" cy="712800"/>
          </a:xfrm>
          <a:prstGeom prst="line">
            <a:avLst/>
          </a:prstGeom>
          <a:ln w="49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57400" y="3821040"/>
            <a:ext cx="425520" cy="727200"/>
          </a:xfrm>
          <a:prstGeom prst="line">
            <a:avLst/>
          </a:prstGeom>
          <a:ln w="49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57400" y="3763800"/>
            <a:ext cx="1484280" cy="727200"/>
          </a:xfrm>
          <a:prstGeom prst="line">
            <a:avLst/>
          </a:prstGeom>
          <a:ln w="49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89120" y="4390920"/>
            <a:ext cx="815760" cy="484200"/>
            <a:chOff x="789120" y="4390920"/>
            <a:chExt cx="815760" cy="484200"/>
          </a:xfrm>
        </p:grpSpPr>
        <p:sp>
          <p:nvSpPr>
            <p:cNvPr id="186" name=""/>
            <p:cNvSpPr/>
            <p:nvPr/>
          </p:nvSpPr>
          <p:spPr>
            <a:xfrm>
              <a:off x="1456920" y="4390920"/>
              <a:ext cx="147600" cy="484200"/>
            </a:xfrm>
            <a:custGeom>
              <a:avLst/>
              <a:gdLst/>
              <a:ahLst/>
              <a:rect l="l" t="t" r="r" b="b"/>
              <a:pathLst>
                <a:path w="93" h="305">
                  <a:moveTo>
                    <a:pt x="0" y="305"/>
                  </a:moveTo>
                  <a:lnTo>
                    <a:pt x="0" y="72"/>
                  </a:lnTo>
                  <a:lnTo>
                    <a:pt x="93" y="0"/>
                  </a:lnTo>
                  <a:lnTo>
                    <a:pt x="93" y="233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89120" y="4390920"/>
              <a:ext cx="815760" cy="114480"/>
            </a:xfrm>
            <a:custGeom>
              <a:avLst/>
              <a:gdLst/>
              <a:ahLst/>
              <a:rect l="l" t="t" r="r" b="b"/>
              <a:pathLst>
                <a:path w="514" h="72">
                  <a:moveTo>
                    <a:pt x="421" y="72"/>
                  </a:moveTo>
                  <a:lnTo>
                    <a:pt x="0" y="72"/>
                  </a:lnTo>
                  <a:lnTo>
                    <a:pt x="93" y="0"/>
                  </a:lnTo>
                  <a:lnTo>
                    <a:pt x="514" y="0"/>
                  </a:lnTo>
                  <a:lnTo>
                    <a:pt x="421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9120" y="4505400"/>
              <a:ext cx="667800" cy="3697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887760" y="4632480"/>
            <a:ext cx="41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00"/>
                </a:solidFill>
                <a:latin typeface="Arial"/>
              </a:rPr>
              <a:t>NOD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060640" y="4419720"/>
            <a:ext cx="799920" cy="484200"/>
            <a:chOff x="2060640" y="4419720"/>
            <a:chExt cx="799920" cy="484200"/>
          </a:xfrm>
        </p:grpSpPr>
        <p:sp>
          <p:nvSpPr>
            <p:cNvPr id="191" name=""/>
            <p:cNvSpPr/>
            <p:nvPr/>
          </p:nvSpPr>
          <p:spPr>
            <a:xfrm>
              <a:off x="2730240" y="4419720"/>
              <a:ext cx="129960" cy="484200"/>
            </a:xfrm>
            <a:custGeom>
              <a:avLst/>
              <a:gdLst/>
              <a:ahLst/>
              <a:rect l="l" t="t" r="r" b="b"/>
              <a:pathLst>
                <a:path w="82" h="305">
                  <a:moveTo>
                    <a:pt x="0" y="305"/>
                  </a:moveTo>
                  <a:lnTo>
                    <a:pt x="0" y="81"/>
                  </a:lnTo>
                  <a:lnTo>
                    <a:pt x="82" y="0"/>
                  </a:lnTo>
                  <a:lnTo>
                    <a:pt x="82" y="233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60640" y="4419720"/>
              <a:ext cx="799920" cy="128520"/>
            </a:xfrm>
            <a:custGeom>
              <a:avLst/>
              <a:gdLst/>
              <a:ahLst/>
              <a:rect l="l" t="t" r="r" b="b"/>
              <a:pathLst>
                <a:path w="504" h="81">
                  <a:moveTo>
                    <a:pt x="422" y="81"/>
                  </a:moveTo>
                  <a:lnTo>
                    <a:pt x="0" y="81"/>
                  </a:lnTo>
                  <a:lnTo>
                    <a:pt x="83" y="0"/>
                  </a:lnTo>
                  <a:lnTo>
                    <a:pt x="504" y="0"/>
                  </a:lnTo>
                  <a:lnTo>
                    <a:pt x="422" y="81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60640" y="4548240"/>
              <a:ext cx="669600" cy="35568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137040" y="4405320"/>
            <a:ext cx="799920" cy="484200"/>
            <a:chOff x="3137040" y="4405320"/>
            <a:chExt cx="799920" cy="484200"/>
          </a:xfrm>
        </p:grpSpPr>
        <p:sp>
          <p:nvSpPr>
            <p:cNvPr id="195" name=""/>
            <p:cNvSpPr/>
            <p:nvPr/>
          </p:nvSpPr>
          <p:spPr>
            <a:xfrm>
              <a:off x="3807000" y="4405320"/>
              <a:ext cx="129960" cy="484200"/>
            </a:xfrm>
            <a:custGeom>
              <a:avLst/>
              <a:gdLst/>
              <a:ahLst/>
              <a:rect l="l" t="t" r="r" b="b"/>
              <a:pathLst>
                <a:path w="82" h="305">
                  <a:moveTo>
                    <a:pt x="0" y="305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82" y="233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37040" y="4405320"/>
              <a:ext cx="799920" cy="114480"/>
            </a:xfrm>
            <a:custGeom>
              <a:avLst/>
              <a:gdLst/>
              <a:ahLst/>
              <a:rect l="l" t="t" r="r" b="b"/>
              <a:pathLst>
                <a:path w="504" h="72">
                  <a:moveTo>
                    <a:pt x="422" y="72"/>
                  </a:moveTo>
                  <a:lnTo>
                    <a:pt x="0" y="72"/>
                  </a:lnTo>
                  <a:lnTo>
                    <a:pt x="83" y="0"/>
                  </a:lnTo>
                  <a:lnTo>
                    <a:pt x="504" y="0"/>
                  </a:lnTo>
                  <a:lnTo>
                    <a:pt x="422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37040" y="4519800"/>
              <a:ext cx="669960" cy="3697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148280" y="4390920"/>
            <a:ext cx="815760" cy="498600"/>
            <a:chOff x="4148280" y="4390920"/>
            <a:chExt cx="815760" cy="498600"/>
          </a:xfrm>
        </p:grpSpPr>
        <p:sp>
          <p:nvSpPr>
            <p:cNvPr id="199" name=""/>
            <p:cNvSpPr/>
            <p:nvPr/>
          </p:nvSpPr>
          <p:spPr>
            <a:xfrm>
              <a:off x="4817880" y="4390920"/>
              <a:ext cx="145800" cy="498600"/>
            </a:xfrm>
            <a:custGeom>
              <a:avLst/>
              <a:gdLst/>
              <a:ahLst/>
              <a:rect l="l" t="t" r="r" b="b"/>
              <a:pathLst>
                <a:path w="92" h="314">
                  <a:moveTo>
                    <a:pt x="0" y="314"/>
                  </a:moveTo>
                  <a:lnTo>
                    <a:pt x="0" y="81"/>
                  </a:lnTo>
                  <a:lnTo>
                    <a:pt x="92" y="0"/>
                  </a:lnTo>
                  <a:lnTo>
                    <a:pt x="92" y="23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48280" y="4390920"/>
              <a:ext cx="815760" cy="128880"/>
            </a:xfrm>
            <a:custGeom>
              <a:avLst/>
              <a:gdLst/>
              <a:ahLst/>
              <a:rect l="l" t="t" r="r" b="b"/>
              <a:pathLst>
                <a:path w="514" h="81">
                  <a:moveTo>
                    <a:pt x="422" y="81"/>
                  </a:moveTo>
                  <a:lnTo>
                    <a:pt x="0" y="81"/>
                  </a:lnTo>
                  <a:lnTo>
                    <a:pt x="93" y="0"/>
                  </a:lnTo>
                  <a:lnTo>
                    <a:pt x="514" y="0"/>
                  </a:lnTo>
                  <a:lnTo>
                    <a:pt x="422" y="81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48280" y="4519800"/>
              <a:ext cx="669600" cy="3697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4524480" y="4889520"/>
            <a:ext cx="1440" cy="89676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24480" y="5173560"/>
            <a:ext cx="260280" cy="180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24480" y="5373720"/>
            <a:ext cx="1531800" cy="1440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24480" y="5643720"/>
            <a:ext cx="244440" cy="144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131840" y="4889520"/>
            <a:ext cx="260280" cy="896760"/>
            <a:chOff x="1131840" y="4889520"/>
            <a:chExt cx="260280" cy="896760"/>
          </a:xfrm>
        </p:grpSpPr>
        <p:sp>
          <p:nvSpPr>
            <p:cNvPr id="207" name=""/>
            <p:cNvSpPr/>
            <p:nvPr/>
          </p:nvSpPr>
          <p:spPr>
            <a:xfrm>
              <a:off x="1131840" y="4889520"/>
              <a:ext cx="1440" cy="89676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31840" y="5159160"/>
              <a:ext cx="260280" cy="108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31840" y="5373360"/>
              <a:ext cx="260280" cy="108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31840" y="5643360"/>
              <a:ext cx="244440" cy="108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430440" y="4903920"/>
            <a:ext cx="261720" cy="896760"/>
            <a:chOff x="3430440" y="4903920"/>
            <a:chExt cx="261720" cy="896760"/>
          </a:xfrm>
        </p:grpSpPr>
        <p:sp>
          <p:nvSpPr>
            <p:cNvPr id="212" name=""/>
            <p:cNvSpPr/>
            <p:nvPr/>
          </p:nvSpPr>
          <p:spPr>
            <a:xfrm>
              <a:off x="3430440" y="4903920"/>
              <a:ext cx="1440" cy="89676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47720" y="5187960"/>
              <a:ext cx="244440" cy="144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47720" y="5388120"/>
              <a:ext cx="244440" cy="144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30440" y="5657760"/>
              <a:ext cx="261720" cy="180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387520" y="4917960"/>
            <a:ext cx="260280" cy="897120"/>
            <a:chOff x="2387520" y="4917960"/>
            <a:chExt cx="260280" cy="897120"/>
          </a:xfrm>
        </p:grpSpPr>
        <p:sp>
          <p:nvSpPr>
            <p:cNvPr id="217" name=""/>
            <p:cNvSpPr/>
            <p:nvPr/>
          </p:nvSpPr>
          <p:spPr>
            <a:xfrm>
              <a:off x="2387520" y="4917960"/>
              <a:ext cx="1440" cy="89712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03360" y="5202360"/>
              <a:ext cx="244440" cy="144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87520" y="5402160"/>
              <a:ext cx="260280" cy="180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87520" y="5672160"/>
              <a:ext cx="260280" cy="144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6040440" y="5743440"/>
            <a:ext cx="880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02720" y="5800680"/>
            <a:ext cx="640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Suscripto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93760" y="4603680"/>
            <a:ext cx="63684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59280" y="4646520"/>
            <a:ext cx="41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00"/>
                </a:solidFill>
                <a:latin typeface="Arial"/>
              </a:rPr>
              <a:t>NOD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70160" y="4591080"/>
            <a:ext cx="636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51520" y="4632480"/>
            <a:ext cx="41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00"/>
                </a:solidFill>
                <a:latin typeface="Arial"/>
              </a:rPr>
              <a:t>NOD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97240" y="4618080"/>
            <a:ext cx="63684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80400" y="4660920"/>
            <a:ext cx="41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00"/>
                </a:solidFill>
                <a:latin typeface="Arial"/>
              </a:rPr>
              <a:t>NOD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78000" y="3465360"/>
            <a:ext cx="4888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60800" y="3521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6440" y="3436920"/>
            <a:ext cx="4888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27800" y="34923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62400" y="3422520"/>
            <a:ext cx="4906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45560" y="34653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5320" y="3892680"/>
            <a:ext cx="1273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5960" y="393552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Troncale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7400" y="4105440"/>
            <a:ext cx="82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ibra op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62680" y="4775040"/>
            <a:ext cx="766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42240" y="4818240"/>
            <a:ext cx="41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41880" y="5002200"/>
            <a:ext cx="54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ax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76280" y="5145120"/>
            <a:ext cx="163440" cy="71280"/>
          </a:xfrm>
          <a:custGeom>
            <a:avLst/>
            <a:gdLst/>
            <a:ahLst/>
            <a:rect l="l" t="t" r="r" b="b"/>
            <a:pathLst>
              <a:path w="103" h="45">
                <a:moveTo>
                  <a:pt x="20" y="0"/>
                </a:moveTo>
                <a:lnTo>
                  <a:pt x="0" y="18"/>
                </a:lnTo>
                <a:lnTo>
                  <a:pt x="0" y="36"/>
                </a:lnTo>
                <a:lnTo>
                  <a:pt x="20" y="45"/>
                </a:lnTo>
                <a:lnTo>
                  <a:pt x="82" y="45"/>
                </a:lnTo>
                <a:lnTo>
                  <a:pt x="103" y="36"/>
                </a:lnTo>
                <a:lnTo>
                  <a:pt x="103" y="18"/>
                </a:lnTo>
                <a:lnTo>
                  <a:pt x="8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92120" y="5330880"/>
            <a:ext cx="147600" cy="85680"/>
          </a:xfrm>
          <a:custGeom>
            <a:avLst/>
            <a:gdLst/>
            <a:ahLst/>
            <a:rect l="l" t="t" r="r" b="b"/>
            <a:pathLst>
              <a:path w="93" h="54">
                <a:moveTo>
                  <a:pt x="10" y="0"/>
                </a:moveTo>
                <a:lnTo>
                  <a:pt x="0" y="18"/>
                </a:lnTo>
                <a:lnTo>
                  <a:pt x="0" y="36"/>
                </a:lnTo>
                <a:lnTo>
                  <a:pt x="10" y="54"/>
                </a:lnTo>
                <a:lnTo>
                  <a:pt x="82" y="54"/>
                </a:lnTo>
                <a:lnTo>
                  <a:pt x="93" y="36"/>
                </a:lnTo>
                <a:lnTo>
                  <a:pt x="93" y="18"/>
                </a:lnTo>
                <a:lnTo>
                  <a:pt x="82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92120" y="5614920"/>
            <a:ext cx="163800" cy="85680"/>
          </a:xfrm>
          <a:custGeom>
            <a:avLst/>
            <a:gdLst/>
            <a:ahLst/>
            <a:rect l="l" t="t" r="r" b="b"/>
            <a:pathLst>
              <a:path w="103" h="54">
                <a:moveTo>
                  <a:pt x="21" y="0"/>
                </a:moveTo>
                <a:lnTo>
                  <a:pt x="0" y="18"/>
                </a:lnTo>
                <a:lnTo>
                  <a:pt x="0" y="36"/>
                </a:lnTo>
                <a:lnTo>
                  <a:pt x="21" y="54"/>
                </a:lnTo>
                <a:lnTo>
                  <a:pt x="82" y="54"/>
                </a:lnTo>
                <a:lnTo>
                  <a:pt x="103" y="36"/>
                </a:lnTo>
                <a:lnTo>
                  <a:pt x="103" y="18"/>
                </a:lnTo>
                <a:lnTo>
                  <a:pt x="82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67160" y="5643720"/>
            <a:ext cx="145800" cy="71280"/>
          </a:xfrm>
          <a:custGeom>
            <a:avLst/>
            <a:gdLst/>
            <a:ahLst/>
            <a:rect l="l" t="t" r="r" b="b"/>
            <a:pathLst>
              <a:path w="92" h="45">
                <a:moveTo>
                  <a:pt x="10" y="0"/>
                </a:moveTo>
                <a:lnTo>
                  <a:pt x="0" y="9"/>
                </a:lnTo>
                <a:lnTo>
                  <a:pt x="0" y="36"/>
                </a:lnTo>
                <a:lnTo>
                  <a:pt x="10" y="45"/>
                </a:lnTo>
                <a:lnTo>
                  <a:pt x="72" y="45"/>
                </a:lnTo>
                <a:lnTo>
                  <a:pt x="92" y="36"/>
                </a:lnTo>
                <a:lnTo>
                  <a:pt x="92" y="9"/>
                </a:lnTo>
                <a:lnTo>
                  <a:pt x="72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50960" y="5388120"/>
            <a:ext cx="162000" cy="71280"/>
          </a:xfrm>
          <a:custGeom>
            <a:avLst/>
            <a:gdLst/>
            <a:ahLst/>
            <a:rect l="l" t="t" r="r" b="b"/>
            <a:pathLst>
              <a:path w="102" h="45">
                <a:moveTo>
                  <a:pt x="20" y="0"/>
                </a:moveTo>
                <a:lnTo>
                  <a:pt x="0" y="9"/>
                </a:lnTo>
                <a:lnTo>
                  <a:pt x="0" y="36"/>
                </a:lnTo>
                <a:lnTo>
                  <a:pt x="20" y="45"/>
                </a:lnTo>
                <a:lnTo>
                  <a:pt x="82" y="45"/>
                </a:lnTo>
                <a:lnTo>
                  <a:pt x="102" y="36"/>
                </a:lnTo>
                <a:lnTo>
                  <a:pt x="102" y="9"/>
                </a:lnTo>
                <a:lnTo>
                  <a:pt x="8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50960" y="5187960"/>
            <a:ext cx="146160" cy="71280"/>
          </a:xfrm>
          <a:custGeom>
            <a:avLst/>
            <a:gdLst/>
            <a:ahLst/>
            <a:rect l="l" t="t" r="r" b="b"/>
            <a:pathLst>
              <a:path w="92" h="45">
                <a:moveTo>
                  <a:pt x="20" y="0"/>
                </a:moveTo>
                <a:lnTo>
                  <a:pt x="0" y="9"/>
                </a:lnTo>
                <a:lnTo>
                  <a:pt x="0" y="36"/>
                </a:lnTo>
                <a:lnTo>
                  <a:pt x="20" y="45"/>
                </a:lnTo>
                <a:lnTo>
                  <a:pt x="82" y="45"/>
                </a:lnTo>
                <a:lnTo>
                  <a:pt x="92" y="36"/>
                </a:lnTo>
                <a:lnTo>
                  <a:pt x="92" y="9"/>
                </a:lnTo>
                <a:lnTo>
                  <a:pt x="8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43200" y="5600880"/>
            <a:ext cx="163800" cy="85680"/>
          </a:xfrm>
          <a:custGeom>
            <a:avLst/>
            <a:gdLst/>
            <a:ahLst/>
            <a:rect l="l" t="t" r="r" b="b"/>
            <a:pathLst>
              <a:path w="103" h="54">
                <a:moveTo>
                  <a:pt x="20" y="0"/>
                </a:moveTo>
                <a:lnTo>
                  <a:pt x="0" y="18"/>
                </a:lnTo>
                <a:lnTo>
                  <a:pt x="0" y="36"/>
                </a:lnTo>
                <a:lnTo>
                  <a:pt x="20" y="54"/>
                </a:lnTo>
                <a:lnTo>
                  <a:pt x="82" y="54"/>
                </a:lnTo>
                <a:lnTo>
                  <a:pt x="103" y="36"/>
                </a:lnTo>
                <a:lnTo>
                  <a:pt x="103" y="18"/>
                </a:lnTo>
                <a:lnTo>
                  <a:pt x="8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43200" y="5330880"/>
            <a:ext cx="146160" cy="85680"/>
          </a:xfrm>
          <a:custGeom>
            <a:avLst/>
            <a:gdLst/>
            <a:ahLst/>
            <a:rect l="l" t="t" r="r" b="b"/>
            <a:pathLst>
              <a:path w="92" h="54">
                <a:moveTo>
                  <a:pt x="20" y="0"/>
                </a:moveTo>
                <a:lnTo>
                  <a:pt x="0" y="18"/>
                </a:lnTo>
                <a:lnTo>
                  <a:pt x="0" y="36"/>
                </a:lnTo>
                <a:lnTo>
                  <a:pt x="20" y="54"/>
                </a:lnTo>
                <a:lnTo>
                  <a:pt x="82" y="54"/>
                </a:lnTo>
                <a:lnTo>
                  <a:pt x="92" y="36"/>
                </a:lnTo>
                <a:lnTo>
                  <a:pt x="92" y="18"/>
                </a:lnTo>
                <a:lnTo>
                  <a:pt x="8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10080" y="5159520"/>
            <a:ext cx="147600" cy="71280"/>
          </a:xfrm>
          <a:custGeom>
            <a:avLst/>
            <a:gdLst/>
            <a:ahLst/>
            <a:rect l="l" t="t" r="r" b="b"/>
            <a:pathLst>
              <a:path w="93" h="45">
                <a:moveTo>
                  <a:pt x="21" y="0"/>
                </a:moveTo>
                <a:lnTo>
                  <a:pt x="0" y="9"/>
                </a:lnTo>
                <a:lnTo>
                  <a:pt x="0" y="36"/>
                </a:lnTo>
                <a:lnTo>
                  <a:pt x="21" y="45"/>
                </a:lnTo>
                <a:lnTo>
                  <a:pt x="83" y="45"/>
                </a:lnTo>
                <a:lnTo>
                  <a:pt x="93" y="36"/>
                </a:lnTo>
                <a:lnTo>
                  <a:pt x="93" y="9"/>
                </a:lnTo>
                <a:lnTo>
                  <a:pt x="83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53080" y="5629320"/>
            <a:ext cx="145800" cy="71280"/>
          </a:xfrm>
          <a:custGeom>
            <a:avLst/>
            <a:gdLst/>
            <a:ahLst/>
            <a:rect l="l" t="t" r="r" b="b"/>
            <a:pathLst>
              <a:path w="92" h="45">
                <a:moveTo>
                  <a:pt x="10" y="0"/>
                </a:moveTo>
                <a:lnTo>
                  <a:pt x="0" y="9"/>
                </a:lnTo>
                <a:lnTo>
                  <a:pt x="0" y="36"/>
                </a:lnTo>
                <a:lnTo>
                  <a:pt x="10" y="45"/>
                </a:lnTo>
                <a:lnTo>
                  <a:pt x="82" y="45"/>
                </a:lnTo>
                <a:lnTo>
                  <a:pt x="92" y="36"/>
                </a:lnTo>
                <a:lnTo>
                  <a:pt x="92" y="9"/>
                </a:lnTo>
                <a:lnTo>
                  <a:pt x="82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86480" y="5145120"/>
            <a:ext cx="147600" cy="71280"/>
          </a:xfrm>
          <a:custGeom>
            <a:avLst/>
            <a:gdLst/>
            <a:ahLst/>
            <a:rect l="l" t="t" r="r" b="b"/>
            <a:pathLst>
              <a:path w="93" h="45">
                <a:moveTo>
                  <a:pt x="11" y="0"/>
                </a:moveTo>
                <a:lnTo>
                  <a:pt x="0" y="9"/>
                </a:lnTo>
                <a:lnTo>
                  <a:pt x="0" y="36"/>
                </a:lnTo>
                <a:lnTo>
                  <a:pt x="11" y="45"/>
                </a:lnTo>
                <a:lnTo>
                  <a:pt x="83" y="45"/>
                </a:lnTo>
                <a:lnTo>
                  <a:pt x="93" y="36"/>
                </a:lnTo>
                <a:lnTo>
                  <a:pt x="93" y="9"/>
                </a:lnTo>
                <a:lnTo>
                  <a:pt x="83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36720" y="1884240"/>
            <a:ext cx="143496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16640" y="1927080"/>
            <a:ext cx="99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33cc"/>
                </a:solidFill>
                <a:latin typeface="Arial"/>
              </a:rPr>
              <a:t>Aprox. 200.000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16640" y="2097000"/>
            <a:ext cx="45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33cc"/>
                </a:solidFill>
                <a:latin typeface="Arial"/>
              </a:rPr>
              <a:t>40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17720" y="2254320"/>
            <a:ext cx="77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33cc"/>
                </a:solidFill>
                <a:latin typeface="Arial"/>
              </a:rPr>
              <a:t>Suscript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02120" y="3821040"/>
            <a:ext cx="18432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81320" y="386388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33cc"/>
                </a:solidFill>
                <a:latin typeface="Arial"/>
              </a:rPr>
              <a:t>10.000-5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82400" y="4033800"/>
            <a:ext cx="120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33cc"/>
                </a:solidFill>
                <a:latin typeface="Arial"/>
              </a:rPr>
              <a:t>suscriptores por 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8520" y="3308400"/>
            <a:ext cx="33591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60600" y="3351240"/>
            <a:ext cx="266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7-38 Mbps Downstream (1 canal = 6 Mhz BW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58080" y="3521160"/>
            <a:ext cx="177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320 Kbps to 10 Mbps Upstr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83160" y="5402160"/>
            <a:ext cx="489240" cy="14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52920" y="5559480"/>
            <a:ext cx="343080" cy="298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18080" y="56149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00880" y="5388120"/>
            <a:ext cx="1440" cy="18576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01880" y="2568600"/>
            <a:ext cx="12715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80720" y="261000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Troncale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82160" y="2795760"/>
            <a:ext cx="82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ibra op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975280" y="5130720"/>
            <a:ext cx="668160" cy="612720"/>
            <a:chOff x="5975280" y="5130720"/>
            <a:chExt cx="668160" cy="612720"/>
          </a:xfrm>
        </p:grpSpPr>
        <p:sp>
          <p:nvSpPr>
            <p:cNvPr id="270" name=""/>
            <p:cNvSpPr/>
            <p:nvPr/>
          </p:nvSpPr>
          <p:spPr>
            <a:xfrm>
              <a:off x="6513120" y="5130720"/>
              <a:ext cx="130320" cy="612720"/>
            </a:xfrm>
            <a:custGeom>
              <a:avLst/>
              <a:gdLst/>
              <a:ahLst/>
              <a:rect l="l" t="t" r="r" b="b"/>
              <a:pathLst>
                <a:path w="82" h="386">
                  <a:moveTo>
                    <a:pt x="0" y="386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82" y="314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75280" y="5130720"/>
              <a:ext cx="668160" cy="114480"/>
            </a:xfrm>
            <a:custGeom>
              <a:avLst/>
              <a:gdLst/>
              <a:ahLst/>
              <a:rect l="l" t="t" r="r" b="b"/>
              <a:pathLst>
                <a:path w="421" h="72">
                  <a:moveTo>
                    <a:pt x="339" y="72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421" y="0"/>
                  </a:lnTo>
                  <a:lnTo>
                    <a:pt x="339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975280" y="5245200"/>
              <a:ext cx="537840" cy="49824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6024600" y="5359320"/>
            <a:ext cx="36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00"/>
                </a:solidFill>
                <a:latin typeface="Arial"/>
              </a:rPr>
              <a:t>C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91480" y="551484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00"/>
                </a:solidFill>
                <a:latin typeface="Arial"/>
              </a:rPr>
              <a:t>Mod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371680" y="1870200"/>
            <a:ext cx="1370160" cy="598320"/>
            <a:chOff x="2371680" y="1870200"/>
            <a:chExt cx="1370160" cy="598320"/>
          </a:xfrm>
        </p:grpSpPr>
        <p:grpSp>
          <p:nvGrpSpPr>
            <p:cNvPr id="276" name=""/>
            <p:cNvGrpSpPr/>
            <p:nvPr/>
          </p:nvGrpSpPr>
          <p:grpSpPr>
            <a:xfrm>
              <a:off x="2371680" y="1870200"/>
              <a:ext cx="1370160" cy="598320"/>
              <a:chOff x="2371680" y="1870200"/>
              <a:chExt cx="1370160" cy="598320"/>
            </a:xfrm>
          </p:grpSpPr>
          <p:sp>
            <p:nvSpPr>
              <p:cNvPr id="277" name=""/>
              <p:cNvSpPr/>
              <p:nvPr/>
            </p:nvSpPr>
            <p:spPr>
              <a:xfrm>
                <a:off x="3610080" y="1870200"/>
                <a:ext cx="131760" cy="598320"/>
              </a:xfrm>
              <a:custGeom>
                <a:avLst/>
                <a:gdLst/>
                <a:ahLst/>
                <a:rect l="l" t="t" r="r" b="b"/>
                <a:pathLst>
                  <a:path w="83" h="377">
                    <a:moveTo>
                      <a:pt x="0" y="377"/>
                    </a:moveTo>
                    <a:lnTo>
                      <a:pt x="0" y="81"/>
                    </a:lnTo>
                    <a:lnTo>
                      <a:pt x="83" y="0"/>
                    </a:lnTo>
                    <a:lnTo>
                      <a:pt x="83" y="305"/>
                    </a:lnTo>
                    <a:lnTo>
                      <a:pt x="0" y="377"/>
                    </a:lnTo>
                    <a:close/>
                  </a:path>
                </a:pathLst>
              </a:custGeom>
              <a:solidFill>
                <a:srgbClr val="2c86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371680" y="1870200"/>
                <a:ext cx="1370160" cy="128520"/>
              </a:xfrm>
              <a:custGeom>
                <a:avLst/>
                <a:gdLst/>
                <a:ahLst/>
                <a:rect l="l" t="t" r="r" b="b"/>
                <a:pathLst>
                  <a:path w="863" h="81">
                    <a:moveTo>
                      <a:pt x="780" y="81"/>
                    </a:moveTo>
                    <a:lnTo>
                      <a:pt x="0" y="81"/>
                    </a:lnTo>
                    <a:lnTo>
                      <a:pt x="82" y="0"/>
                    </a:lnTo>
                    <a:lnTo>
                      <a:pt x="863" y="0"/>
                    </a:lnTo>
                    <a:lnTo>
                      <a:pt x="780" y="81"/>
                    </a:lnTo>
                    <a:close/>
                  </a:path>
                </a:pathLst>
              </a:custGeom>
              <a:solidFill>
                <a:srgbClr val="1e5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371680" y="1998720"/>
                <a:ext cx="1238400" cy="469800"/>
              </a:xfrm>
              <a:prstGeom prst="rect">
                <a:avLst/>
              </a:prstGeom>
              <a:solidFill>
                <a:srgbClr val="277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2517840" y="2027160"/>
              <a:ext cx="946080" cy="4273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96680" y="2068560"/>
              <a:ext cx="63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ff00"/>
                  </a:solidFill>
                  <a:latin typeface="Arial"/>
                </a:rPr>
                <a:t>Cable T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95600" y="223992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ff00"/>
                  </a:solidFill>
                  <a:latin typeface="Arial"/>
                </a:rPr>
                <a:t>Head-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665680" y="2425680"/>
            <a:ext cx="863640" cy="312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44880" y="2495520"/>
            <a:ext cx="64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IP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86520" y="2411280"/>
            <a:ext cx="668520" cy="327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16480" y="2425680"/>
            <a:ext cx="33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Loc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00640" y="2581200"/>
            <a:ext cx="37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676920" y="2568600"/>
            <a:ext cx="15840" cy="498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08880" y="2924280"/>
            <a:ext cx="5223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88800" y="2965320"/>
            <a:ext cx="33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546960" y="2568600"/>
            <a:ext cx="4237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92760" y="3038400"/>
            <a:ext cx="7336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3006720" y="2595600"/>
            <a:ext cx="930240" cy="1440"/>
          </a:xfrm>
          <a:prstGeom prst="line">
            <a:avLst/>
          </a:prstGeom>
          <a:ln w="49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36960" y="1827360"/>
            <a:ext cx="23479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016160" y="1870200"/>
            <a:ext cx="18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10.000 cable modem por ca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017600" y="2039760"/>
            <a:ext cx="170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(5% Penetración, 0.2 Erla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383160" y="1584360"/>
            <a:ext cx="19400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64160" y="1641600"/>
            <a:ext cx="4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13120" y="1641600"/>
            <a:ext cx="1369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crementado el nu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463080" y="17985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e ca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464160" y="1955880"/>
            <a:ext cx="4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14560" y="1955880"/>
            <a:ext cx="128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igración hacia el 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64160" y="2111400"/>
            <a:ext cx="4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13840" y="2111400"/>
            <a:ext cx="68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Red Estr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616720" y="1442880"/>
            <a:ext cx="14760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343160" y="5915160"/>
            <a:ext cx="2757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24520" y="5972040"/>
            <a:ext cx="216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apacidad total 750 MHz, 125 ca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539960" y="4946760"/>
            <a:ext cx="522360" cy="11412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76800" y="4433760"/>
            <a:ext cx="19083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54200" y="4476600"/>
            <a:ext cx="181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33cc"/>
                </a:solidFill>
                <a:latin typeface="Arial"/>
              </a:rPr>
              <a:t>300, 700 a 2000 casas por no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437080" y="2967120"/>
            <a:ext cx="130320" cy="34128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241960" y="5187960"/>
            <a:ext cx="652320" cy="285840"/>
            <a:chOff x="5241960" y="5187960"/>
            <a:chExt cx="652320" cy="285840"/>
          </a:xfrm>
        </p:grpSpPr>
        <p:sp>
          <p:nvSpPr>
            <p:cNvPr id="313" name=""/>
            <p:cNvSpPr/>
            <p:nvPr/>
          </p:nvSpPr>
          <p:spPr>
            <a:xfrm>
              <a:off x="5763960" y="5187960"/>
              <a:ext cx="129960" cy="285840"/>
            </a:xfrm>
            <a:custGeom>
              <a:avLst/>
              <a:gdLst/>
              <a:ahLst/>
              <a:rect l="l" t="t" r="r" b="b"/>
              <a:pathLst>
                <a:path w="82" h="180">
                  <a:moveTo>
                    <a:pt x="0" y="180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82" y="108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41960" y="5187960"/>
              <a:ext cx="652320" cy="114480"/>
            </a:xfrm>
            <a:custGeom>
              <a:avLst/>
              <a:gdLst/>
              <a:ahLst/>
              <a:rect l="l" t="t" r="r" b="b"/>
              <a:pathLst>
                <a:path w="411" h="72">
                  <a:moveTo>
                    <a:pt x="329" y="72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411" y="0"/>
                  </a:lnTo>
                  <a:lnTo>
                    <a:pt x="329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41960" y="5302440"/>
              <a:ext cx="522000" cy="17136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6350040" y="4689360"/>
            <a:ext cx="1109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29960" y="4732200"/>
            <a:ext cx="8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Arial"/>
              </a:rPr>
              <a:t>Set Top 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829480" y="4846680"/>
            <a:ext cx="520560" cy="34128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39920" y="3081240"/>
            <a:ext cx="6699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320560" y="3122640"/>
            <a:ext cx="45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nil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631960" y="2852280"/>
            <a:ext cx="130320" cy="22860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239560" y="3308400"/>
            <a:ext cx="196920" cy="74124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872400" y="5245200"/>
            <a:ext cx="587160" cy="512640"/>
          </a:xfrm>
          <a:prstGeom prst="rect">
            <a:avLst/>
          </a:prstGeom>
          <a:ln w="0">
            <a:noFill/>
          </a:ln>
        </p:spPr>
      </p:pic>
      <p:grpSp>
        <p:nvGrpSpPr>
          <p:cNvPr id="324" name=""/>
          <p:cNvGrpSpPr/>
          <p:nvPr/>
        </p:nvGrpSpPr>
        <p:grpSpPr>
          <a:xfrm>
            <a:off x="1849320" y="1371600"/>
            <a:ext cx="2477880" cy="398520"/>
            <a:chOff x="1849320" y="1371600"/>
            <a:chExt cx="2477880" cy="398520"/>
          </a:xfrm>
        </p:grpSpPr>
        <p:sp>
          <p:nvSpPr>
            <p:cNvPr id="325" name=""/>
            <p:cNvSpPr/>
            <p:nvPr/>
          </p:nvSpPr>
          <p:spPr>
            <a:xfrm>
              <a:off x="4197240" y="1371600"/>
              <a:ext cx="129960" cy="398520"/>
            </a:xfrm>
            <a:custGeom>
              <a:avLst/>
              <a:gdLst/>
              <a:ahLst/>
              <a:rect l="l" t="t" r="r" b="b"/>
              <a:pathLst>
                <a:path w="82" h="251">
                  <a:moveTo>
                    <a:pt x="0" y="251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82" y="179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49320" y="1371600"/>
              <a:ext cx="2477880" cy="114480"/>
            </a:xfrm>
            <a:custGeom>
              <a:avLst/>
              <a:gdLst/>
              <a:ahLst/>
              <a:rect l="l" t="t" r="r" b="b"/>
              <a:pathLst>
                <a:path w="1561" h="72">
                  <a:moveTo>
                    <a:pt x="1479" y="72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1561" y="0"/>
                  </a:lnTo>
                  <a:lnTo>
                    <a:pt x="1479" y="72"/>
                  </a:lnTo>
                  <a:close/>
                </a:path>
              </a:pathLst>
            </a:custGeom>
            <a:solidFill>
              <a:srgbClr val="97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49320" y="1486080"/>
              <a:ext cx="2347920" cy="284040"/>
            </a:xfrm>
            <a:prstGeom prst="rect">
              <a:avLst/>
            </a:prstGeom>
            <a:solidFill>
              <a:srgbClr val="c3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1843560" y="1527120"/>
            <a:ext cx="212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ntribución (conteni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520" y="47628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structura red HFC Cable Mod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BLE MOD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079640" y="1446120"/>
            <a:ext cx="7230960" cy="4794120"/>
            <a:chOff x="1079640" y="1446120"/>
            <a:chExt cx="7230960" cy="479412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4410000" y="3552120"/>
              <a:ext cx="72936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2"/>
            <a:stretch/>
          </p:blipFill>
          <p:spPr>
            <a:xfrm>
              <a:off x="2644560" y="3552120"/>
              <a:ext cx="73008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3"/>
            <a:stretch/>
          </p:blipFill>
          <p:spPr>
            <a:xfrm>
              <a:off x="3498840" y="3552120"/>
              <a:ext cx="72900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4"/>
            <a:stretch/>
          </p:blipFill>
          <p:spPr>
            <a:xfrm>
              <a:off x="1847880" y="3552120"/>
              <a:ext cx="72864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5"/>
            <a:stretch/>
          </p:blipFill>
          <p:spPr>
            <a:xfrm>
              <a:off x="1847880" y="2242440"/>
              <a:ext cx="72864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6"/>
            <a:stretch/>
          </p:blipFill>
          <p:spPr>
            <a:xfrm>
              <a:off x="2701800" y="2242440"/>
              <a:ext cx="72936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7"/>
            <a:stretch/>
          </p:blipFill>
          <p:spPr>
            <a:xfrm>
              <a:off x="3498840" y="2242440"/>
              <a:ext cx="72900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8"/>
            <a:stretch/>
          </p:blipFill>
          <p:spPr>
            <a:xfrm>
              <a:off x="4353480" y="2242440"/>
              <a:ext cx="730080" cy="7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1392120" y="3266640"/>
              <a:ext cx="461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89160" y="298188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2189160" y="326628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3043800" y="2925720"/>
              <a:ext cx="0" cy="62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898080" y="298152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752000" y="298152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04440" y="2811600"/>
              <a:ext cx="1765440" cy="216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05880" y="5316480"/>
              <a:ext cx="20491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100" spc="-1" strike="noStrike">
                  <a:solidFill>
                    <a:srgbClr val="000000"/>
                  </a:solidFill>
                  <a:latin typeface="Arial"/>
                </a:rPr>
                <a:t>Head-e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04400" y="3097440"/>
              <a:ext cx="1169280" cy="51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Derivado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de Servicio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004440" y="2527200"/>
              <a:ext cx="39924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03680" y="2527200"/>
              <a:ext cx="10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86560" y="2527200"/>
              <a:ext cx="28332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04440" y="3266640"/>
              <a:ext cx="39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427520" y="3323520"/>
              <a:ext cx="399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01080" y="4121280"/>
              <a:ext cx="397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27840" y="3211560"/>
              <a:ext cx="48276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48640" y="4121280"/>
              <a:ext cx="11952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elefoní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7086240" y="3607920"/>
              <a:ext cx="227880" cy="45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403680" y="3607920"/>
              <a:ext cx="226800" cy="45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79640" y="2982600"/>
              <a:ext cx="93996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Cable Coax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20360" y="4633920"/>
              <a:ext cx="912240" cy="91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Set To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Bo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Domicili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9"/>
            <a:stretch/>
          </p:blipFill>
          <p:spPr>
            <a:xfrm>
              <a:off x="3727080" y="4519800"/>
              <a:ext cx="93420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phone3"/>
            <p:cNvSpPr/>
            <p:nvPr/>
          </p:nvSpPr>
          <p:spPr>
            <a:xfrm>
              <a:off x="3783600" y="5202360"/>
              <a:ext cx="361440" cy="360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" descr=""/>
            <p:cNvPicPr/>
            <p:nvPr/>
          </p:nvPicPr>
          <p:blipFill>
            <a:blip r:embed="rId10"/>
            <a:stretch/>
          </p:blipFill>
          <p:spPr>
            <a:xfrm>
              <a:off x="3498840" y="5715720"/>
              <a:ext cx="760680" cy="52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4467240" y="5886720"/>
              <a:ext cx="102528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TV se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295520" y="5316480"/>
              <a:ext cx="73980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Telefon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638960" y="4633920"/>
              <a:ext cx="115056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mputad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89160" y="4292280"/>
              <a:ext cx="0" cy="39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815560" y="4804200"/>
              <a:ext cx="102600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815560" y="5031360"/>
              <a:ext cx="968040" cy="34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15560" y="5260680"/>
              <a:ext cx="683280" cy="62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17400" y="1446120"/>
              <a:ext cx="449748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-360" y="470160"/>
            <a:ext cx="9144360" cy="5297040"/>
            <a:chOff x="-360" y="470160"/>
            <a:chExt cx="9144360" cy="5297040"/>
          </a:xfrm>
        </p:grpSpPr>
        <p:pic>
          <p:nvPicPr>
            <p:cNvPr id="373" name="" descr=""/>
            <p:cNvPicPr/>
            <p:nvPr/>
          </p:nvPicPr>
          <p:blipFill>
            <a:blip r:embed="rId1"/>
            <a:stretch/>
          </p:blipFill>
          <p:spPr>
            <a:xfrm>
              <a:off x="465120" y="1866240"/>
              <a:ext cx="48852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147960" y="3643200"/>
              <a:ext cx="1554480" cy="141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3184920" y="1421280"/>
              <a:ext cx="0" cy="177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592000" y="2383200"/>
              <a:ext cx="1297080" cy="8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´Estació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Bas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21720" y="1400040"/>
              <a:ext cx="2887920" cy="377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184360" y="1199520"/>
              <a:ext cx="738720" cy="37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23080" y="1199880"/>
              <a:ext cx="155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478640" y="1199880"/>
              <a:ext cx="593280" cy="37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108400" y="5565600"/>
              <a:ext cx="30358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entral de Conmutación Móv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06480" y="2160720"/>
              <a:ext cx="1742760" cy="96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G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Softwa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Centra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Conmut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79920" y="3716640"/>
              <a:ext cx="1957680" cy="140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GPRS Equip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di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s-ES" sz="1000" spc="-1" strike="noStrike">
                  <a:solidFill>
                    <a:srgbClr val="ff0000"/>
                  </a:solidFill>
                  <a:latin typeface="Arial"/>
                </a:rPr>
                <a:t>SGSN,GGSN</a:t>
              </a: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664000" y="3716640"/>
              <a:ext cx="1016280" cy="111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St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Control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ff0000"/>
                  </a:solidFill>
                  <a:latin typeface="Arial"/>
                </a:rPr>
                <a:t>PCU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58360" y="3272400"/>
              <a:ext cx="0" cy="44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23640" y="4087080"/>
              <a:ext cx="51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4442760" y="2606040"/>
              <a:ext cx="0" cy="148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42760" y="2606400"/>
              <a:ext cx="96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23640" y="4457160"/>
              <a:ext cx="1555560" cy="295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923080" y="3123000"/>
              <a:ext cx="0" cy="59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74200" y="4530600"/>
              <a:ext cx="814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588160" y="4308120"/>
              <a:ext cx="5554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74200" y="2679840"/>
              <a:ext cx="59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366040" y="2532240"/>
              <a:ext cx="7779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66040" y="2532240"/>
              <a:ext cx="7779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46800" y="2534040"/>
              <a:ext cx="9972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87920" y="5567400"/>
              <a:ext cx="4442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331800" y="5197320"/>
              <a:ext cx="14083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regar para GP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3920" y="5493960"/>
              <a:ext cx="23680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li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-360" y="3864600"/>
              <a:ext cx="222840" cy="59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0" y="2975400"/>
              <a:ext cx="44532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185120" y="1570320"/>
              <a:ext cx="66528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50400" y="157032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850400" y="1570320"/>
              <a:ext cx="88992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29720" y="470160"/>
              <a:ext cx="547848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squema de sistema GP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684360" y="0"/>
            <a:ext cx="7632720" cy="6013080"/>
            <a:chOff x="684360" y="0"/>
            <a:chExt cx="7632720" cy="6013080"/>
          </a:xfrm>
        </p:grpSpPr>
        <p:pic>
          <p:nvPicPr>
            <p:cNvPr id="407" name="" descr=""/>
            <p:cNvPicPr/>
            <p:nvPr/>
          </p:nvPicPr>
          <p:blipFill>
            <a:blip r:embed="rId1"/>
            <a:stretch/>
          </p:blipFill>
          <p:spPr>
            <a:xfrm>
              <a:off x="6940800" y="479520"/>
              <a:ext cx="616320" cy="61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2"/>
            <a:stretch/>
          </p:blipFill>
          <p:spPr>
            <a:xfrm>
              <a:off x="6940800" y="1580400"/>
              <a:ext cx="616320" cy="61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" descr=""/>
            <p:cNvPicPr/>
            <p:nvPr/>
          </p:nvPicPr>
          <p:blipFill>
            <a:blip r:embed="rId3"/>
            <a:stretch/>
          </p:blipFill>
          <p:spPr>
            <a:xfrm>
              <a:off x="7010640" y="2611800"/>
              <a:ext cx="616320" cy="61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4"/>
            <a:stretch/>
          </p:blipFill>
          <p:spPr>
            <a:xfrm>
              <a:off x="7010640" y="3574080"/>
              <a:ext cx="616320" cy="6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 flipH="1">
              <a:off x="3778200" y="1512360"/>
              <a:ext cx="135720" cy="21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914640" y="1512360"/>
              <a:ext cx="276120" cy="21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914640" y="961560"/>
              <a:ext cx="0" cy="55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778560" y="3642840"/>
              <a:ext cx="411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778560" y="1512360"/>
              <a:ext cx="273960" cy="137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4052880" y="617040"/>
              <a:ext cx="1581120" cy="550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5497200" y="617400"/>
              <a:ext cx="13644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5497560" y="549720"/>
              <a:ext cx="1236600" cy="27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52880" y="1305720"/>
              <a:ext cx="15811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5497200" y="1373760"/>
              <a:ext cx="13644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497560" y="1580400"/>
              <a:ext cx="109908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52880" y="1442880"/>
              <a:ext cx="165096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5497200" y="2198520"/>
              <a:ext cx="20628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497560" y="2268000"/>
              <a:ext cx="1236600" cy="41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52880" y="1580400"/>
              <a:ext cx="1650960" cy="116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359680" y="2747880"/>
              <a:ext cx="343800" cy="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360040" y="2818080"/>
              <a:ext cx="1168200" cy="82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10320" y="1098360"/>
              <a:ext cx="14446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ucle local inalámbric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22560" y="3779640"/>
              <a:ext cx="199188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stación Bas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353000" y="4122360"/>
              <a:ext cx="0" cy="151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4877640" y="5634720"/>
              <a:ext cx="247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6184080" y="5292720"/>
              <a:ext cx="0" cy="3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3" name="" descr=""/>
            <p:cNvPicPr/>
            <p:nvPr/>
          </p:nvPicPr>
          <p:blipFill>
            <a:blip r:embed="rId5"/>
            <a:stretch/>
          </p:blipFill>
          <p:spPr>
            <a:xfrm>
              <a:off x="5634000" y="4673160"/>
              <a:ext cx="10303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phone3"/>
            <p:cNvSpPr/>
            <p:nvPr/>
          </p:nvSpPr>
          <p:spPr>
            <a:xfrm>
              <a:off x="4671360" y="4743000"/>
              <a:ext cx="436680" cy="4363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878000" y="5155200"/>
              <a:ext cx="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4520" y="4329000"/>
              <a:ext cx="137628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PC Mod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464360" y="4329000"/>
              <a:ext cx="116964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Telefon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85760" y="4397040"/>
              <a:ext cx="130500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26720" y="2336040"/>
              <a:ext cx="1650960" cy="220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026720" y="2129400"/>
              <a:ext cx="41292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439640" y="2129760"/>
              <a:ext cx="89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33160" y="2129760"/>
              <a:ext cx="34452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4360" y="4673160"/>
              <a:ext cx="23382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entro de Administr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35640" y="5808600"/>
              <a:ext cx="37814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uscriptor típ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78040" y="3024720"/>
              <a:ext cx="1100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10000" y="2473200"/>
              <a:ext cx="109836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lace de transpor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90080" y="2818080"/>
              <a:ext cx="687600" cy="11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90080" y="309204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90080" y="343620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90080" y="378036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90080" y="295524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90080" y="323064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90080" y="357408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90080" y="384768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163160" y="2818080"/>
              <a:ext cx="48276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23480" y="3228840"/>
              <a:ext cx="10368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77160" y="2955240"/>
              <a:ext cx="41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783440" y="3368160"/>
              <a:ext cx="20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9640" y="0"/>
              <a:ext cx="33022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onfiguracion WI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395280" y="1341360"/>
          <a:ext cx="8185320" cy="46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1853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2986920" y="33336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WI 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95280" y="773280"/>
            <a:ext cx="874872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0" y="1374840"/>
            <a:ext cx="9144000" cy="53197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838520" y="476280"/>
            <a:ext cx="51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POR LINEA ELEC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12:31:10Z</dcterms:created>
  <dc:creator>Jorge</dc:creator>
  <dc:description/>
  <dc:language>en-US</dc:language>
  <cp:lastModifiedBy>Jorge</cp:lastModifiedBy>
  <dcterms:modified xsi:type="dcterms:W3CDTF">2005-06-17T13:20:14Z</dcterms:modified>
  <cp:revision>4</cp:revision>
  <dc:subject/>
  <dc:title>Diapositiva 1</dc:title>
</cp:coreProperties>
</file>