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FF6-20A7-4A08-B153-4F6256CD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9E0-364B-45F3-BA09-5FE7B302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EB0-B16F-4EC4-AC39-50B56426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F61-C2AE-499C-8089-6ACC2C95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FCE-B167-4FF8-B689-2CFE7BE7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750-EA78-4D91-8834-062FAE6F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13A-2097-4EB3-BEE3-0334E28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FAB-2884-4E41-99BF-FA321E3E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D6C-0233-4413-9842-6B673308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0E2-A585-4C04-A7A6-742A75B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02F-B12B-488A-A2F2-465CF21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D37-4031-4A3C-8138-26F64F24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5E27-8EF0-459E-A8F2-A4401E97C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ISTEMA 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30360"/>
            <a:ext cx="8686800" cy="4952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415764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430992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76680" y="4100400"/>
            <a:ext cx="696960" cy="47016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5920" y="4303800"/>
            <a:ext cx="450720" cy="28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64400" y="3038400"/>
            <a:ext cx="814320" cy="352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4960" y="1774800"/>
            <a:ext cx="2278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es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de Valor Agregado e IS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7760" y="2044800"/>
            <a:ext cx="149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idencial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85600" y="1892160"/>
            <a:ext cx="20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 de Red 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560" y="4062240"/>
            <a:ext cx="57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4624560"/>
            <a:ext cx="10778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ar de c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SL y 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ULTI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93960" y="3745080"/>
            <a:ext cx="30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" y="2568600"/>
            <a:ext cx="1160640" cy="21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97680" y="5511960"/>
            <a:ext cx="465120" cy="353520"/>
            <a:chOff x="7897680" y="5511960"/>
            <a:chExt cx="465120" cy="353520"/>
          </a:xfrm>
        </p:grpSpPr>
        <p:grpSp>
          <p:nvGrpSpPr>
            <p:cNvPr id="56" name=""/>
            <p:cNvGrpSpPr/>
            <p:nvPr/>
          </p:nvGrpSpPr>
          <p:grpSpPr>
            <a:xfrm>
              <a:off x="7897680" y="5511960"/>
              <a:ext cx="465120" cy="149040"/>
              <a:chOff x="7897680" y="5511960"/>
              <a:chExt cx="465120" cy="149040"/>
            </a:xfrm>
          </p:grpSpPr>
          <p:sp>
            <p:nvSpPr>
              <p:cNvPr id="57" name=""/>
              <p:cNvSpPr/>
              <p:nvPr/>
            </p:nvSpPr>
            <p:spPr>
              <a:xfrm>
                <a:off x="7897680" y="5612400"/>
                <a:ext cx="121680" cy="48600"/>
              </a:xfrm>
              <a:custGeom>
                <a:avLst/>
                <a:gdLst/>
                <a:ahLst/>
                <a:rect l="l" t="t" r="r" b="b"/>
                <a:pathLst>
                  <a:path w="150" h="62">
                    <a:moveTo>
                      <a:pt x="10" y="61"/>
                    </a:moveTo>
                    <a:lnTo>
                      <a:pt x="0" y="19"/>
                    </a:lnTo>
                    <a:lnTo>
                      <a:pt x="146" y="0"/>
                    </a:lnTo>
                    <a:lnTo>
                      <a:pt x="149" y="41"/>
                    </a:lnTo>
                    <a:lnTo>
                      <a:pt x="10" y="6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97680" y="5511960"/>
                <a:ext cx="465120" cy="117720"/>
              </a:xfrm>
              <a:custGeom>
                <a:avLst/>
                <a:gdLst/>
                <a:ahLst/>
                <a:rect l="l" t="t" r="r" b="b"/>
                <a:pathLst>
                  <a:path w="574" h="150">
                    <a:moveTo>
                      <a:pt x="0" y="149"/>
                    </a:moveTo>
                    <a:lnTo>
                      <a:pt x="5" y="81"/>
                    </a:lnTo>
                    <a:lnTo>
                      <a:pt x="39" y="39"/>
                    </a:lnTo>
                    <a:lnTo>
                      <a:pt x="133" y="14"/>
                    </a:lnTo>
                    <a:lnTo>
                      <a:pt x="231" y="3"/>
                    </a:lnTo>
                    <a:lnTo>
                      <a:pt x="312" y="0"/>
                    </a:lnTo>
                    <a:lnTo>
                      <a:pt x="396" y="9"/>
                    </a:lnTo>
                    <a:lnTo>
                      <a:pt x="461" y="22"/>
                    </a:lnTo>
                    <a:lnTo>
                      <a:pt x="524" y="41"/>
                    </a:lnTo>
                    <a:lnTo>
                      <a:pt x="556" y="79"/>
                    </a:lnTo>
                    <a:lnTo>
                      <a:pt x="573" y="142"/>
                    </a:lnTo>
                    <a:lnTo>
                      <a:pt x="430" y="137"/>
                    </a:lnTo>
                    <a:lnTo>
                      <a:pt x="440" y="94"/>
                    </a:lnTo>
                    <a:lnTo>
                      <a:pt x="401" y="81"/>
                    </a:lnTo>
                    <a:lnTo>
                      <a:pt x="364" y="74"/>
                    </a:lnTo>
                    <a:lnTo>
                      <a:pt x="308" y="70"/>
                    </a:lnTo>
                    <a:lnTo>
                      <a:pt x="228" y="71"/>
                    </a:lnTo>
                    <a:lnTo>
                      <a:pt x="170" y="80"/>
                    </a:lnTo>
                    <a:lnTo>
                      <a:pt x="133" y="88"/>
                    </a:lnTo>
                    <a:lnTo>
                      <a:pt x="144" y="12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7600" y="5618160"/>
                <a:ext cx="112680" cy="35280"/>
              </a:xfrm>
              <a:custGeom>
                <a:avLst/>
                <a:gdLst/>
                <a:ahLst/>
                <a:rect l="l" t="t" r="r" b="b"/>
                <a:pathLst>
                  <a:path w="139" h="45">
                    <a:moveTo>
                      <a:pt x="0" y="0"/>
                    </a:moveTo>
                    <a:lnTo>
                      <a:pt x="138" y="5"/>
                    </a:lnTo>
                    <a:lnTo>
                      <a:pt x="132" y="44"/>
                    </a:lnTo>
                    <a:lnTo>
                      <a:pt x="5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973640" y="5552640"/>
              <a:ext cx="312840" cy="312840"/>
              <a:chOff x="7973640" y="5552640"/>
              <a:chExt cx="312840" cy="312840"/>
            </a:xfrm>
          </p:grpSpPr>
          <p:sp>
            <p:nvSpPr>
              <p:cNvPr id="61" name=""/>
              <p:cNvSpPr/>
              <p:nvPr/>
            </p:nvSpPr>
            <p:spPr>
              <a:xfrm>
                <a:off x="7997760" y="5589360"/>
                <a:ext cx="264240" cy="198000"/>
              </a:xfrm>
              <a:custGeom>
                <a:avLst/>
                <a:gdLst/>
                <a:ahLst/>
                <a:rect l="l" t="t" r="r" b="b"/>
                <a:pathLst>
                  <a:path w="326" h="252">
                    <a:moveTo>
                      <a:pt x="0" y="251"/>
                    </a:moveTo>
                    <a:lnTo>
                      <a:pt x="30" y="0"/>
                    </a:lnTo>
                    <a:lnTo>
                      <a:pt x="295" y="0"/>
                    </a:lnTo>
                    <a:lnTo>
                      <a:pt x="325" y="251"/>
                    </a:lnTo>
                    <a:lnTo>
                      <a:pt x="0" y="25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73640" y="5787000"/>
                <a:ext cx="312840" cy="78480"/>
              </a:xfrm>
              <a:custGeom>
                <a:avLst/>
                <a:gdLst/>
                <a:ahLst/>
                <a:rect l="l" t="t" r="r" b="b"/>
                <a:pathLst>
                  <a:path w="386" h="100">
                    <a:moveTo>
                      <a:pt x="30" y="0"/>
                    </a:moveTo>
                    <a:lnTo>
                      <a:pt x="354" y="0"/>
                    </a:lnTo>
                    <a:lnTo>
                      <a:pt x="385" y="99"/>
                    </a:lnTo>
                    <a:lnTo>
                      <a:pt x="0" y="99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73640" y="5589360"/>
                <a:ext cx="49320" cy="275760"/>
              </a:xfrm>
              <a:custGeom>
                <a:avLst/>
                <a:gdLst/>
                <a:ahLst/>
                <a:rect l="l" t="t" r="r" b="b"/>
                <a:pathLst>
                  <a:path w="61" h="351">
                    <a:moveTo>
                      <a:pt x="30" y="250"/>
                    </a:moveTo>
                    <a:lnTo>
                      <a:pt x="0" y="350"/>
                    </a:lnTo>
                    <a:lnTo>
                      <a:pt x="31" y="103"/>
                    </a:lnTo>
                    <a:lnTo>
                      <a:pt x="60" y="0"/>
                    </a:lnTo>
                    <a:lnTo>
                      <a:pt x="30" y="25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37160" y="5586480"/>
                <a:ext cx="49320" cy="277200"/>
              </a:xfrm>
              <a:custGeom>
                <a:avLst/>
                <a:gdLst/>
                <a:ahLst/>
                <a:rect l="l" t="t" r="r" b="b"/>
                <a:pathLst>
                  <a:path w="61" h="353">
                    <a:moveTo>
                      <a:pt x="29" y="249"/>
                    </a:moveTo>
                    <a:lnTo>
                      <a:pt x="60" y="352"/>
                    </a:lnTo>
                    <a:lnTo>
                      <a:pt x="27" y="103"/>
                    </a:lnTo>
                    <a:lnTo>
                      <a:pt x="0" y="0"/>
                    </a:lnTo>
                    <a:lnTo>
                      <a:pt x="29" y="24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4492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6984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017920" y="5604480"/>
                <a:ext cx="224640" cy="168120"/>
              </a:xfrm>
              <a:custGeom>
                <a:avLst/>
                <a:gdLst/>
                <a:ahLst/>
                <a:rect l="l" t="t" r="r" b="b"/>
                <a:pathLst>
                  <a:path w="277" h="214">
                    <a:moveTo>
                      <a:pt x="0" y="213"/>
                    </a:moveTo>
                    <a:lnTo>
                      <a:pt x="25" y="0"/>
                    </a:lnTo>
                    <a:lnTo>
                      <a:pt x="250" y="0"/>
                    </a:lnTo>
                    <a:lnTo>
                      <a:pt x="276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076600" y="5630760"/>
              <a:ext cx="110160" cy="116280"/>
              <a:chOff x="8076600" y="5630760"/>
              <a:chExt cx="110160" cy="116280"/>
            </a:xfrm>
          </p:grpSpPr>
          <p:sp>
            <p:nvSpPr>
              <p:cNvPr id="69" name=""/>
              <p:cNvSpPr/>
              <p:nvPr/>
            </p:nvSpPr>
            <p:spPr>
              <a:xfrm>
                <a:off x="8076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16200" y="563076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57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076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16200" y="566352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57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76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16200" y="569592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57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76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16200" y="572904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57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6535800" y="4251240"/>
            <a:ext cx="398520" cy="30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2760" y="407520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75240" y="468144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TM o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58737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128080" y="3745080"/>
          <a:ext cx="46512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080" y="3745080"/>
                    <a:ext cx="465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824400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432560" y="3862440"/>
          <a:ext cx="53820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2560" y="3862440"/>
                    <a:ext cx="5382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78032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5600" y="4570560"/>
            <a:ext cx="1278000" cy="11779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5600" y="3156120"/>
            <a:ext cx="928800" cy="10792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384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425840"/>
            <a:ext cx="1563840" cy="97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46640" y="4334040"/>
            <a:ext cx="23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73640" y="4451400"/>
            <a:ext cx="11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6520" y="4570560"/>
            <a:ext cx="74880" cy="1150920"/>
          </a:xfrm>
          <a:custGeom>
            <a:avLst/>
            <a:gdLst/>
            <a:ahLst/>
            <a:rect l="l" t="t" r="r" b="b"/>
            <a:pathLst>
              <a:path w="1152" h="480">
                <a:moveTo>
                  <a:pt x="0" y="480"/>
                </a:moveTo>
                <a:lnTo>
                  <a:pt x="1152" y="480"/>
                </a:lnTo>
                <a:lnTo>
                  <a:pt x="11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6640" y="362592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6640" y="33908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6680" y="33908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76680" y="362592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76680" y="38624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6640" y="38624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25880" y="3274920"/>
            <a:ext cx="115920" cy="704880"/>
          </a:xfrm>
          <a:custGeom>
            <a:avLst/>
            <a:gdLst>
              <a:gd name="textAreaLeft" fmla="*/ 0 w 115920"/>
              <a:gd name="textAreaRight" fmla="*/ 41760 w 11592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6520" y="342576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9440" y="3745080"/>
            <a:ext cx="3492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24360" y="5187960"/>
            <a:ext cx="2004840" cy="5202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elef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160" y="2973240"/>
            <a:ext cx="106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ULTI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A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97080" y="2565360"/>
            <a:ext cx="463680" cy="2122560"/>
          </a:xfrm>
          <a:prstGeom prst="rect">
            <a:avLst/>
          </a:prstGeom>
          <a:solidFill>
            <a:srgbClr val="e5e5e5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77920" y="2803680"/>
            <a:ext cx="698760" cy="1884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ar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acketçNetw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3480" y="2222640"/>
            <a:ext cx="2081160" cy="2655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2480" y="24303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900000" y="181080"/>
            <a:ext cx="76327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4680" y="674640"/>
            <a:ext cx="9118800" cy="5619600"/>
            <a:chOff x="4680" y="674640"/>
            <a:chExt cx="9118800" cy="5619600"/>
          </a:xfrm>
        </p:grpSpPr>
        <p:grpSp>
          <p:nvGrpSpPr>
            <p:cNvPr id="468" name=""/>
            <p:cNvGrpSpPr/>
            <p:nvPr/>
          </p:nvGrpSpPr>
          <p:grpSpPr>
            <a:xfrm>
              <a:off x="4680" y="1699920"/>
              <a:ext cx="9118800" cy="4594320"/>
              <a:chOff x="4680" y="1699920"/>
              <a:chExt cx="9118800" cy="4594320"/>
            </a:xfrm>
          </p:grpSpPr>
          <p:sp>
            <p:nvSpPr>
              <p:cNvPr id="469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noFill/>
              <a:ln cap="rnd" w="11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313640" y="685440"/>
              <a:ext cx="6543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Ancho de banda las diferentes tecnologías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01760" y="6746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12920" y="10634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01760" y="10522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057560" y="2712960"/>
              <a:ext cx="4930920" cy="271440"/>
              <a:chOff x="4057560" y="2712960"/>
              <a:chExt cx="4930920" cy="271440"/>
            </a:xfrm>
          </p:grpSpPr>
          <p:sp>
            <p:nvSpPr>
              <p:cNvPr id="476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854880" y="306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679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19040" y="30621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67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7847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4480" y="2695320"/>
              <a:ext cx="23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C Cable Módem (Coaxi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3400" y="291456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1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8080" y="3130200"/>
              <a:ext cx="76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TV 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35720" y="397980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056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9640" y="3573360"/>
              <a:ext cx="45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0840" y="357336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par cob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3160" y="3792240"/>
              <a:ext cx="21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Dedicado, 4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" y="4008240"/>
              <a:ext cx="4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I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30360" y="397980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.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5860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057560" y="3632040"/>
              <a:ext cx="135000" cy="271440"/>
              <a:chOff x="4057560" y="3632040"/>
              <a:chExt cx="135000" cy="271440"/>
            </a:xfrm>
          </p:grpSpPr>
          <p:sp>
            <p:nvSpPr>
              <p:cNvPr id="494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283680" y="445104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C (cobre eléctr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42640" y="4411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960" y="4681440"/>
              <a:ext cx="22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4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5840" y="489708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Eléctr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5920" y="4790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2040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66320" y="4790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8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568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075200" y="4443120"/>
              <a:ext cx="657000" cy="230400"/>
              <a:chOff x="4075200" y="4443120"/>
              <a:chExt cx="657000" cy="230400"/>
            </a:xfrm>
          </p:grpSpPr>
          <p:sp>
            <p:nvSpPr>
              <p:cNvPr id="505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285840" y="5273640"/>
              <a:ext cx="1572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WA (Microond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2600" y="549252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3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080" y="570852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C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5920" y="5533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20400" y="55339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3840" y="5493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79520" y="54939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075200" y="5186160"/>
              <a:ext cx="1738080" cy="230040"/>
              <a:chOff x="4075200" y="5186160"/>
              <a:chExt cx="1738080" cy="230040"/>
            </a:xfrm>
          </p:grpSpPr>
          <p:sp>
            <p:nvSpPr>
              <p:cNvPr id="515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284040" y="1884240"/>
              <a:ext cx="169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Ancho de banda 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99440" y="188424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03360" y="1884240"/>
              <a:ext cx="435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utilizable de cada una de las tecnologías de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08240" y="2743200"/>
            <a:ext cx="3454200" cy="27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91160" y="2822400"/>
            <a:ext cx="2044800" cy="261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61240" y="2030040"/>
            <a:ext cx="1692000" cy="11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83400" y="2030400"/>
            <a:ext cx="1551240" cy="12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145360" y="1869840"/>
            <a:ext cx="0" cy="55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45360" y="1870200"/>
            <a:ext cx="28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27960" y="1870200"/>
            <a:ext cx="0" cy="7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53360" y="5754600"/>
            <a:ext cx="2185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cinto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2480" y="4487760"/>
            <a:ext cx="14112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23080" y="3614760"/>
            <a:ext cx="14148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10320" y="3297240"/>
            <a:ext cx="14292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28840" y="3693960"/>
            <a:ext cx="359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773760" y="3693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1960" y="353520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08240" y="2347920"/>
            <a:ext cx="133956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7800" y="23479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74960" y="2347920"/>
            <a:ext cx="98748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9520" y="5835600"/>
            <a:ext cx="3384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entral de Conmu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hone3"/>
          <p:cNvSpPr/>
          <p:nvPr/>
        </p:nvSpPr>
        <p:spPr>
          <a:xfrm>
            <a:off x="7934400" y="2981160"/>
            <a:ext cx="447480" cy="50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hone3"/>
          <p:cNvSpPr/>
          <p:nvPr/>
        </p:nvSpPr>
        <p:spPr>
          <a:xfrm>
            <a:off x="8075520" y="3693960"/>
            <a:ext cx="447840" cy="505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aptop"/>
          <p:cNvSpPr/>
          <p:nvPr/>
        </p:nvSpPr>
        <p:spPr>
          <a:xfrm>
            <a:off x="7792920" y="4805280"/>
            <a:ext cx="77652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3573360"/>
            <a:ext cx="7682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8160" y="504180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73760" y="46450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7722720" y="3693960"/>
            <a:ext cx="3524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581600" y="3219480"/>
            <a:ext cx="352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3840" y="3376440"/>
            <a:ext cx="1054080" cy="9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4010040"/>
            <a:ext cx="952560" cy="55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ff00ff"/>
                </a:solidFill>
                <a:latin typeface="Arial"/>
              </a:rPr>
              <a:t>Split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47920" y="4011120"/>
            <a:ext cx="385920" cy="15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8080" y="2900520"/>
            <a:ext cx="1062000" cy="11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entral de conmuta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ió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9360" y="4724280"/>
            <a:ext cx="1052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724280"/>
            <a:ext cx="96192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41480" y="4487760"/>
            <a:ext cx="635040" cy="23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5200" y="3535200"/>
            <a:ext cx="319320" cy="55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66400" y="496404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560" y="4724280"/>
            <a:ext cx="4572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95120" y="3456000"/>
            <a:ext cx="28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19480"/>
            <a:ext cx="106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06800" y="3152880"/>
            <a:ext cx="1833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ucle de abon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46240" y="681120"/>
            <a:ext cx="53611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ción típica de ADSL 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773760" y="5013000"/>
            <a:ext cx="96696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89720" y="3376440"/>
            <a:ext cx="1538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mbrado C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38400"/>
            <a:ext cx="8686800" cy="5127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1598760"/>
            <a:ext cx="1440" cy="3427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52920" y="2583000"/>
            <a:ext cx="212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43720" y="2867040"/>
            <a:ext cx="700200" cy="398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6960" y="2225520"/>
            <a:ext cx="1647720" cy="726840"/>
            <a:chOff x="3936960" y="2225520"/>
            <a:chExt cx="1647720" cy="726840"/>
          </a:xfrm>
        </p:grpSpPr>
        <p:sp>
          <p:nvSpPr>
            <p:cNvPr id="159" name=""/>
            <p:cNvSpPr/>
            <p:nvPr/>
          </p:nvSpPr>
          <p:spPr>
            <a:xfrm>
              <a:off x="5437080" y="2225520"/>
              <a:ext cx="147240" cy="726840"/>
            </a:xfrm>
            <a:custGeom>
              <a:avLst/>
              <a:gdLst/>
              <a:ahLst/>
              <a:rect l="l" t="t" r="r" b="b"/>
              <a:pathLst>
                <a:path w="93" h="458">
                  <a:moveTo>
                    <a:pt x="0" y="458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377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36960" y="2225520"/>
              <a:ext cx="1647720" cy="114120"/>
            </a:xfrm>
            <a:custGeom>
              <a:avLst/>
              <a:gdLst/>
              <a:ahLst/>
              <a:rect l="l" t="t" r="r" b="b"/>
              <a:pathLst>
                <a:path w="1038" h="72">
                  <a:moveTo>
                    <a:pt x="945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038" y="0"/>
                  </a:lnTo>
                  <a:lnTo>
                    <a:pt x="945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36960" y="2339640"/>
              <a:ext cx="1500120" cy="612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71800" y="2397240"/>
            <a:ext cx="16146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81400" y="24400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able 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440" y="261000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Termin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60040" y="2766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55920" y="2738520"/>
            <a:ext cx="1419120" cy="68400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2752560"/>
            <a:ext cx="1484280" cy="62712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90880" y="2468520"/>
            <a:ext cx="1440" cy="93996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63520" y="3265560"/>
            <a:ext cx="946080" cy="527040"/>
            <a:chOff x="1163520" y="3265560"/>
            <a:chExt cx="946080" cy="527040"/>
          </a:xfrm>
        </p:grpSpPr>
        <p:sp>
          <p:nvSpPr>
            <p:cNvPr id="170" name=""/>
            <p:cNvSpPr/>
            <p:nvPr/>
          </p:nvSpPr>
          <p:spPr>
            <a:xfrm>
              <a:off x="1963440" y="3265560"/>
              <a:ext cx="14616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3520" y="3265560"/>
              <a:ext cx="946080" cy="128520"/>
            </a:xfrm>
            <a:custGeom>
              <a:avLst/>
              <a:gdLst/>
              <a:ahLst/>
              <a:rect l="l" t="t" r="r" b="b"/>
              <a:pathLst>
                <a:path w="596" h="81">
                  <a:moveTo>
                    <a:pt x="504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04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63520" y="3394080"/>
              <a:ext cx="799920" cy="3985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33680" y="3265560"/>
            <a:ext cx="946080" cy="527040"/>
            <a:chOff x="2533680" y="3265560"/>
            <a:chExt cx="946080" cy="527040"/>
          </a:xfrm>
        </p:grpSpPr>
        <p:sp>
          <p:nvSpPr>
            <p:cNvPr id="174" name=""/>
            <p:cNvSpPr/>
            <p:nvPr/>
          </p:nvSpPr>
          <p:spPr>
            <a:xfrm>
              <a:off x="3349800" y="3265560"/>
              <a:ext cx="129960" cy="527040"/>
            </a:xfrm>
            <a:custGeom>
              <a:avLst/>
              <a:gdLst/>
              <a:ahLst/>
              <a:rect l="l" t="t" r="r" b="b"/>
              <a:pathLst>
                <a:path w="82" h="332">
                  <a:moveTo>
                    <a:pt x="0" y="33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3680" y="3265560"/>
              <a:ext cx="946080" cy="114120"/>
            </a:xfrm>
            <a:custGeom>
              <a:avLst/>
              <a:gdLst/>
              <a:ahLst/>
              <a:rect l="l" t="t" r="r" b="b"/>
              <a:pathLst>
                <a:path w="596" h="72">
                  <a:moveTo>
                    <a:pt x="514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33680" y="33796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083120" y="3236760"/>
            <a:ext cx="961920" cy="527040"/>
            <a:chOff x="4083120" y="3236760"/>
            <a:chExt cx="961920" cy="527040"/>
          </a:xfrm>
        </p:grpSpPr>
        <p:sp>
          <p:nvSpPr>
            <p:cNvPr id="178" name=""/>
            <p:cNvSpPr/>
            <p:nvPr/>
          </p:nvSpPr>
          <p:spPr>
            <a:xfrm>
              <a:off x="4899240" y="3236760"/>
              <a:ext cx="14580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72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3120" y="3236760"/>
              <a:ext cx="961920" cy="114120"/>
            </a:xfrm>
            <a:custGeom>
              <a:avLst/>
              <a:gdLst/>
              <a:ahLst/>
              <a:rect l="l" t="t" r="r" b="b"/>
              <a:pathLst>
                <a:path w="606" h="72">
                  <a:moveTo>
                    <a:pt x="514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60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83120" y="33508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H="1">
            <a:off x="1082520" y="3807000"/>
            <a:ext cx="1843200" cy="6984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71320" y="3821040"/>
            <a:ext cx="585720" cy="7128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7400" y="3821040"/>
            <a:ext cx="425520" cy="72720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57400" y="3763800"/>
            <a:ext cx="1484280" cy="7272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89120" y="4390920"/>
            <a:ext cx="815760" cy="484200"/>
            <a:chOff x="789120" y="4390920"/>
            <a:chExt cx="815760" cy="484200"/>
          </a:xfrm>
        </p:grpSpPr>
        <p:sp>
          <p:nvSpPr>
            <p:cNvPr id="186" name=""/>
            <p:cNvSpPr/>
            <p:nvPr/>
          </p:nvSpPr>
          <p:spPr>
            <a:xfrm>
              <a:off x="1456920" y="4390920"/>
              <a:ext cx="147600" cy="484200"/>
            </a:xfrm>
            <a:custGeom>
              <a:avLst/>
              <a:gdLst/>
              <a:ahLst/>
              <a:rect l="l" t="t" r="r" b="b"/>
              <a:pathLst>
                <a:path w="93" h="305">
                  <a:moveTo>
                    <a:pt x="0" y="305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9120" y="4390920"/>
              <a:ext cx="815760" cy="114480"/>
            </a:xfrm>
            <a:custGeom>
              <a:avLst/>
              <a:gdLst/>
              <a:ahLst/>
              <a:rect l="l" t="t" r="r" b="b"/>
              <a:pathLst>
                <a:path w="514" h="72">
                  <a:moveTo>
                    <a:pt x="421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1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9120" y="4505400"/>
              <a:ext cx="6678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8776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060640" y="4419720"/>
            <a:ext cx="799920" cy="484200"/>
            <a:chOff x="2060640" y="4419720"/>
            <a:chExt cx="799920" cy="484200"/>
          </a:xfrm>
        </p:grpSpPr>
        <p:sp>
          <p:nvSpPr>
            <p:cNvPr id="191" name=""/>
            <p:cNvSpPr/>
            <p:nvPr/>
          </p:nvSpPr>
          <p:spPr>
            <a:xfrm>
              <a:off x="2730240" y="44197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81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0640" y="4419720"/>
              <a:ext cx="799920" cy="128520"/>
            </a:xfrm>
            <a:custGeom>
              <a:avLst/>
              <a:gdLst/>
              <a:ahLst/>
              <a:rect l="l" t="t" r="r" b="b"/>
              <a:pathLst>
                <a:path w="504" h="81">
                  <a:moveTo>
                    <a:pt x="422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0640" y="4548240"/>
              <a:ext cx="669600" cy="35568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37040" y="4405320"/>
            <a:ext cx="799920" cy="484200"/>
            <a:chOff x="3137040" y="4405320"/>
            <a:chExt cx="799920" cy="484200"/>
          </a:xfrm>
        </p:grpSpPr>
        <p:sp>
          <p:nvSpPr>
            <p:cNvPr id="195" name=""/>
            <p:cNvSpPr/>
            <p:nvPr/>
          </p:nvSpPr>
          <p:spPr>
            <a:xfrm>
              <a:off x="3807000" y="44053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7040" y="4405320"/>
              <a:ext cx="799920" cy="114480"/>
            </a:xfrm>
            <a:custGeom>
              <a:avLst/>
              <a:gdLst/>
              <a:ahLst/>
              <a:rect l="l" t="t" r="r" b="b"/>
              <a:pathLst>
                <a:path w="504" h="72">
                  <a:moveTo>
                    <a:pt x="422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37040" y="4519800"/>
              <a:ext cx="66996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48280" y="4390920"/>
            <a:ext cx="815760" cy="498600"/>
            <a:chOff x="4148280" y="4390920"/>
            <a:chExt cx="815760" cy="498600"/>
          </a:xfrm>
        </p:grpSpPr>
        <p:sp>
          <p:nvSpPr>
            <p:cNvPr id="199" name=""/>
            <p:cNvSpPr/>
            <p:nvPr/>
          </p:nvSpPr>
          <p:spPr>
            <a:xfrm>
              <a:off x="4817880" y="4390920"/>
              <a:ext cx="145800" cy="498600"/>
            </a:xfrm>
            <a:custGeom>
              <a:avLst/>
              <a:gdLst/>
              <a:ahLst/>
              <a:rect l="l" t="t" r="r" b="b"/>
              <a:pathLst>
                <a:path w="92" h="314">
                  <a:moveTo>
                    <a:pt x="0" y="314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3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48280" y="4390920"/>
              <a:ext cx="815760" cy="128880"/>
            </a:xfrm>
            <a:custGeom>
              <a:avLst/>
              <a:gdLst/>
              <a:ahLst/>
              <a:rect l="l" t="t" r="r" b="b"/>
              <a:pathLst>
                <a:path w="514" h="81">
                  <a:moveTo>
                    <a:pt x="422" y="81"/>
                  </a:moveTo>
                  <a:lnTo>
                    <a:pt x="0" y="81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8280" y="4519800"/>
              <a:ext cx="6696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524480" y="4889520"/>
            <a:ext cx="1440" cy="896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24480" y="5173560"/>
            <a:ext cx="260280" cy="18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24480" y="5373720"/>
            <a:ext cx="1531800" cy="144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4480" y="5643720"/>
            <a:ext cx="244440" cy="144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1840" y="4889520"/>
            <a:ext cx="260280" cy="896760"/>
            <a:chOff x="1131840" y="4889520"/>
            <a:chExt cx="260280" cy="896760"/>
          </a:xfrm>
        </p:grpSpPr>
        <p:sp>
          <p:nvSpPr>
            <p:cNvPr id="207" name=""/>
            <p:cNvSpPr/>
            <p:nvPr/>
          </p:nvSpPr>
          <p:spPr>
            <a:xfrm>
              <a:off x="1131840" y="48895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1840" y="51591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1840" y="53733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31840" y="5643360"/>
              <a:ext cx="24444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30440" y="4903920"/>
            <a:ext cx="261720" cy="896760"/>
            <a:chOff x="3430440" y="4903920"/>
            <a:chExt cx="261720" cy="896760"/>
          </a:xfrm>
        </p:grpSpPr>
        <p:sp>
          <p:nvSpPr>
            <p:cNvPr id="212" name=""/>
            <p:cNvSpPr/>
            <p:nvPr/>
          </p:nvSpPr>
          <p:spPr>
            <a:xfrm>
              <a:off x="3430440" y="49039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47720" y="51879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7720" y="538812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30440" y="5657760"/>
              <a:ext cx="26172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387520" y="4917960"/>
            <a:ext cx="260280" cy="897120"/>
            <a:chOff x="2387520" y="4917960"/>
            <a:chExt cx="260280" cy="897120"/>
          </a:xfrm>
        </p:grpSpPr>
        <p:sp>
          <p:nvSpPr>
            <p:cNvPr id="217" name=""/>
            <p:cNvSpPr/>
            <p:nvPr/>
          </p:nvSpPr>
          <p:spPr>
            <a:xfrm>
              <a:off x="2387520" y="4917960"/>
              <a:ext cx="1440" cy="8971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03360" y="52023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7520" y="5402160"/>
              <a:ext cx="26028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7520" y="5672160"/>
              <a:ext cx="26028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040440" y="5743440"/>
            <a:ext cx="88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2720" y="5800680"/>
            <a:ext cx="64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Suscripto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93760" y="46036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9280" y="46465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70160" y="4591080"/>
            <a:ext cx="6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5152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7240" y="46180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0400" y="46609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78000" y="346536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60800" y="3521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6440" y="343692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27800" y="3492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2400" y="3422520"/>
            <a:ext cx="4906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5560" y="3465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5320" y="3892680"/>
            <a:ext cx="1273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5960" y="393552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7400" y="410544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62680" y="4775040"/>
            <a:ext cx="766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2240" y="481824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1880" y="500220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6280" y="5145120"/>
            <a:ext cx="163440" cy="712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2120" y="5330880"/>
            <a:ext cx="147600" cy="85680"/>
          </a:xfrm>
          <a:custGeom>
            <a:avLst/>
            <a:gdLst/>
            <a:ahLst/>
            <a:rect l="l" t="t" r="r" b="b"/>
            <a:pathLst>
              <a:path w="93" h="54">
                <a:moveTo>
                  <a:pt x="10" y="0"/>
                </a:moveTo>
                <a:lnTo>
                  <a:pt x="0" y="18"/>
                </a:lnTo>
                <a:lnTo>
                  <a:pt x="0" y="36"/>
                </a:lnTo>
                <a:lnTo>
                  <a:pt x="10" y="54"/>
                </a:lnTo>
                <a:lnTo>
                  <a:pt x="82" y="54"/>
                </a:lnTo>
                <a:lnTo>
                  <a:pt x="93" y="36"/>
                </a:lnTo>
                <a:lnTo>
                  <a:pt x="93" y="18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92120" y="561492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1" y="0"/>
                </a:moveTo>
                <a:lnTo>
                  <a:pt x="0" y="18"/>
                </a:lnTo>
                <a:lnTo>
                  <a:pt x="0" y="36"/>
                </a:lnTo>
                <a:lnTo>
                  <a:pt x="21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67160" y="56437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72" y="45"/>
                </a:lnTo>
                <a:lnTo>
                  <a:pt x="92" y="36"/>
                </a:lnTo>
                <a:lnTo>
                  <a:pt x="92" y="9"/>
                </a:lnTo>
                <a:lnTo>
                  <a:pt x="7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0960" y="5388120"/>
            <a:ext cx="162000" cy="71280"/>
          </a:xfrm>
          <a:custGeom>
            <a:avLst/>
            <a:gdLst/>
            <a:ahLst/>
            <a:rect l="l" t="t" r="r" b="b"/>
            <a:pathLst>
              <a:path w="10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2" y="36"/>
                </a:lnTo>
                <a:lnTo>
                  <a:pt x="10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0960" y="5187960"/>
            <a:ext cx="14616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43200" y="560088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43200" y="533088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92" y="36"/>
                </a:lnTo>
                <a:lnTo>
                  <a:pt x="92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10080" y="51595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21" y="0"/>
                </a:moveTo>
                <a:lnTo>
                  <a:pt x="0" y="9"/>
                </a:lnTo>
                <a:lnTo>
                  <a:pt x="0" y="36"/>
                </a:lnTo>
                <a:lnTo>
                  <a:pt x="2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53080" y="56293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6480" y="51451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11" y="0"/>
                </a:moveTo>
                <a:lnTo>
                  <a:pt x="0" y="9"/>
                </a:lnTo>
                <a:lnTo>
                  <a:pt x="0" y="36"/>
                </a:lnTo>
                <a:lnTo>
                  <a:pt x="1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36720" y="1884240"/>
            <a:ext cx="1434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16640" y="1927080"/>
            <a:ext cx="99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Aprox. 200.000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16640" y="209700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40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17720" y="225432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Suscript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2120" y="3821040"/>
            <a:ext cx="18432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81320" y="386388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10.000-5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82400" y="4033800"/>
            <a:ext cx="120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suscriptores por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8520" y="3308400"/>
            <a:ext cx="335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60600" y="3351240"/>
            <a:ext cx="266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7-38 Mbps Downstream (1 canal = 6 Mhz B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58080" y="35211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20 Kbps to 10 Mbps Upst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83160" y="5402160"/>
            <a:ext cx="489240" cy="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52920" y="5559480"/>
            <a:ext cx="343080" cy="298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18080" y="56149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00880" y="5388120"/>
            <a:ext cx="1440" cy="185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01880" y="2568600"/>
            <a:ext cx="1271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720" y="2610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82160" y="279576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75280" y="5130720"/>
            <a:ext cx="668160" cy="612720"/>
            <a:chOff x="5975280" y="5130720"/>
            <a:chExt cx="668160" cy="612720"/>
          </a:xfrm>
        </p:grpSpPr>
        <p:sp>
          <p:nvSpPr>
            <p:cNvPr id="270" name=""/>
            <p:cNvSpPr/>
            <p:nvPr/>
          </p:nvSpPr>
          <p:spPr>
            <a:xfrm>
              <a:off x="6513120" y="5130720"/>
              <a:ext cx="130320" cy="612720"/>
            </a:xfrm>
            <a:custGeom>
              <a:avLst/>
              <a:gdLst/>
              <a:ahLst/>
              <a:rect l="l" t="t" r="r" b="b"/>
              <a:pathLst>
                <a:path w="82" h="386">
                  <a:moveTo>
                    <a:pt x="0" y="386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314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75280" y="5130720"/>
              <a:ext cx="668160" cy="114480"/>
            </a:xfrm>
            <a:custGeom>
              <a:avLst/>
              <a:gdLst/>
              <a:ahLst/>
              <a:rect l="l" t="t" r="r" b="b"/>
              <a:pathLst>
                <a:path w="421" h="72">
                  <a:moveTo>
                    <a:pt x="33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21" y="0"/>
                  </a:lnTo>
                  <a:lnTo>
                    <a:pt x="33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75280" y="5245200"/>
              <a:ext cx="537840" cy="49824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024600" y="5359320"/>
            <a:ext cx="36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C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1480" y="55148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71680" y="1870200"/>
            <a:ext cx="1370160" cy="598320"/>
            <a:chOff x="2371680" y="1870200"/>
            <a:chExt cx="1370160" cy="598320"/>
          </a:xfrm>
        </p:grpSpPr>
        <p:grpSp>
          <p:nvGrpSpPr>
            <p:cNvPr id="276" name=""/>
            <p:cNvGrpSpPr/>
            <p:nvPr/>
          </p:nvGrpSpPr>
          <p:grpSpPr>
            <a:xfrm>
              <a:off x="2371680" y="1870200"/>
              <a:ext cx="1370160" cy="598320"/>
              <a:chOff x="2371680" y="1870200"/>
              <a:chExt cx="1370160" cy="598320"/>
            </a:xfrm>
          </p:grpSpPr>
          <p:sp>
            <p:nvSpPr>
              <p:cNvPr id="277" name=""/>
              <p:cNvSpPr/>
              <p:nvPr/>
            </p:nvSpPr>
            <p:spPr>
              <a:xfrm>
                <a:off x="3610080" y="1870200"/>
                <a:ext cx="131760" cy="598320"/>
              </a:xfrm>
              <a:custGeom>
                <a:avLst/>
                <a:gdLst/>
                <a:ahLst/>
                <a:rect l="l" t="t" r="r" b="b"/>
                <a:pathLst>
                  <a:path w="83" h="377">
                    <a:moveTo>
                      <a:pt x="0" y="377"/>
                    </a:moveTo>
                    <a:lnTo>
                      <a:pt x="0" y="81"/>
                    </a:lnTo>
                    <a:lnTo>
                      <a:pt x="83" y="0"/>
                    </a:lnTo>
                    <a:lnTo>
                      <a:pt x="83" y="305"/>
                    </a:lnTo>
                    <a:lnTo>
                      <a:pt x="0" y="377"/>
                    </a:lnTo>
                    <a:close/>
                  </a:path>
                </a:pathLst>
              </a:custGeom>
              <a:solidFill>
                <a:srgbClr val="2c8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71680" y="1870200"/>
                <a:ext cx="1370160" cy="128520"/>
              </a:xfrm>
              <a:custGeom>
                <a:avLst/>
                <a:gdLst/>
                <a:ahLst/>
                <a:rect l="l" t="t" r="r" b="b"/>
                <a:pathLst>
                  <a:path w="863" h="81">
                    <a:moveTo>
                      <a:pt x="780" y="81"/>
                    </a:moveTo>
                    <a:lnTo>
                      <a:pt x="0" y="81"/>
                    </a:lnTo>
                    <a:lnTo>
                      <a:pt x="82" y="0"/>
                    </a:lnTo>
                    <a:lnTo>
                      <a:pt x="863" y="0"/>
                    </a:lnTo>
                    <a:lnTo>
                      <a:pt x="780" y="81"/>
                    </a:lnTo>
                    <a:close/>
                  </a:path>
                </a:pathLst>
              </a:custGeom>
              <a:solidFill>
                <a:srgbClr val="1e5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71680" y="1998720"/>
                <a:ext cx="1238400" cy="469800"/>
              </a:xfrm>
              <a:prstGeom prst="rect">
                <a:avLst/>
              </a:prstGeom>
              <a:solidFill>
                <a:srgbClr val="277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517840" y="2027160"/>
              <a:ext cx="946080" cy="42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6680" y="2068560"/>
              <a:ext cx="63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Cable T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5600" y="223992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Head-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665680" y="2425680"/>
            <a:ext cx="863640" cy="312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44880" y="249552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P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6520" y="2411280"/>
            <a:ext cx="668520" cy="327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16480" y="242568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00640" y="258120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76920" y="2568600"/>
            <a:ext cx="15840" cy="49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2924280"/>
            <a:ext cx="522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88800" y="296532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46960" y="2568600"/>
            <a:ext cx="423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92760" y="3038400"/>
            <a:ext cx="733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006720" y="2595600"/>
            <a:ext cx="930240" cy="144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36960" y="1827360"/>
            <a:ext cx="2347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16160" y="187020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10.000 cable modem por ca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17600" y="2039760"/>
            <a:ext cx="170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5% Penetración, 0.2 Erla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83160" y="1584360"/>
            <a:ext cx="19400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64160" y="16416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13120" y="1641600"/>
            <a:ext cx="136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rementado el nu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63080" y="17985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e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64160" y="195588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4560" y="1955880"/>
            <a:ext cx="128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igración hacia el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64160" y="21114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3840" y="211140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d Estr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16720" y="1442880"/>
            <a:ext cx="1476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43160" y="5915160"/>
            <a:ext cx="275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24520" y="59720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pacidad total 750 MHz, 125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539960" y="4946760"/>
            <a:ext cx="522360" cy="1141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4433760"/>
            <a:ext cx="1908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4200" y="4476600"/>
            <a:ext cx="181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300, 700 a 2000 casas por 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7080" y="2967120"/>
            <a:ext cx="13032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241960" y="5187960"/>
            <a:ext cx="652320" cy="285840"/>
            <a:chOff x="5241960" y="5187960"/>
            <a:chExt cx="652320" cy="285840"/>
          </a:xfrm>
        </p:grpSpPr>
        <p:sp>
          <p:nvSpPr>
            <p:cNvPr id="313" name=""/>
            <p:cNvSpPr/>
            <p:nvPr/>
          </p:nvSpPr>
          <p:spPr>
            <a:xfrm>
              <a:off x="5763960" y="5187960"/>
              <a:ext cx="129960" cy="285840"/>
            </a:xfrm>
            <a:custGeom>
              <a:avLst/>
              <a:gdLst/>
              <a:ahLst/>
              <a:rect l="l" t="t" r="r" b="b"/>
              <a:pathLst>
                <a:path w="82" h="180">
                  <a:moveTo>
                    <a:pt x="0" y="180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0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41960" y="5187960"/>
              <a:ext cx="652320" cy="114480"/>
            </a:xfrm>
            <a:custGeom>
              <a:avLst/>
              <a:gdLst/>
              <a:ahLst/>
              <a:rect l="l" t="t" r="r" b="b"/>
              <a:pathLst>
                <a:path w="411" h="72">
                  <a:moveTo>
                    <a:pt x="32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11" y="0"/>
                  </a:lnTo>
                  <a:lnTo>
                    <a:pt x="32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1960" y="5302440"/>
              <a:ext cx="522000" cy="17136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350040" y="4689360"/>
            <a:ext cx="1109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29960" y="4732200"/>
            <a:ext cx="8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Arial"/>
              </a:rPr>
              <a:t>Set Top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829480" y="4846680"/>
            <a:ext cx="52056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39920" y="3081240"/>
            <a:ext cx="669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20560" y="312264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il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31960" y="2852280"/>
            <a:ext cx="130320" cy="2286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239560" y="3308400"/>
            <a:ext cx="196920" cy="7412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72400" y="5245200"/>
            <a:ext cx="587160" cy="51264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1849320" y="1371600"/>
            <a:ext cx="2477880" cy="398520"/>
            <a:chOff x="1849320" y="1371600"/>
            <a:chExt cx="2477880" cy="398520"/>
          </a:xfrm>
        </p:grpSpPr>
        <p:sp>
          <p:nvSpPr>
            <p:cNvPr id="325" name=""/>
            <p:cNvSpPr/>
            <p:nvPr/>
          </p:nvSpPr>
          <p:spPr>
            <a:xfrm>
              <a:off x="4197240" y="1371600"/>
              <a:ext cx="129960" cy="398520"/>
            </a:xfrm>
            <a:custGeom>
              <a:avLst/>
              <a:gdLst/>
              <a:ahLst/>
              <a:rect l="l" t="t" r="r" b="b"/>
              <a:pathLst>
                <a:path w="82" h="251">
                  <a:moveTo>
                    <a:pt x="0" y="251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79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9320" y="1371600"/>
              <a:ext cx="2477880" cy="114480"/>
            </a:xfrm>
            <a:custGeom>
              <a:avLst/>
              <a:gdLst/>
              <a:ahLst/>
              <a:rect l="l" t="t" r="r" b="b"/>
              <a:pathLst>
                <a:path w="1561" h="72">
                  <a:moveTo>
                    <a:pt x="147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561" y="0"/>
                  </a:lnTo>
                  <a:lnTo>
                    <a:pt x="1479" y="72"/>
                  </a:lnTo>
                  <a:close/>
                </a:path>
              </a:pathLst>
            </a:custGeom>
            <a:solidFill>
              <a:srgbClr val="97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49320" y="1486080"/>
              <a:ext cx="2347920" cy="284040"/>
            </a:xfrm>
            <a:prstGeom prst="rect">
              <a:avLst/>
            </a:prstGeom>
            <a:solidFill>
              <a:srgbClr val="c3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843560" y="1527120"/>
            <a:ext cx="212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ibución (conten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ructura red HFC Cable 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MOD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79640" y="1446120"/>
            <a:ext cx="7230960" cy="4794120"/>
            <a:chOff x="1079640" y="1446120"/>
            <a:chExt cx="7230960" cy="4794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4410000" y="3552120"/>
              <a:ext cx="72936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2644560" y="3552120"/>
              <a:ext cx="7300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3498840" y="3552120"/>
              <a:ext cx="7290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1847880" y="3552120"/>
              <a:ext cx="72864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5"/>
            <a:stretch/>
          </p:blipFill>
          <p:spPr>
            <a:xfrm>
              <a:off x="1847880" y="2242440"/>
              <a:ext cx="72864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2701800" y="2242440"/>
              <a:ext cx="72936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3498840" y="2242440"/>
              <a:ext cx="72900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8"/>
            <a:stretch/>
          </p:blipFill>
          <p:spPr>
            <a:xfrm>
              <a:off x="4353480" y="2242440"/>
              <a:ext cx="73008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92120" y="3266640"/>
              <a:ext cx="461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89160" y="298188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89160" y="32662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043800" y="2925720"/>
              <a:ext cx="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89808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75200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04440" y="2811600"/>
              <a:ext cx="1765440" cy="21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05880" y="5316480"/>
              <a:ext cx="20491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Head-e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4400" y="3097440"/>
              <a:ext cx="1169280" cy="5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rivad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 Servic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004440" y="2527200"/>
              <a:ext cx="3992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3680" y="252720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86560" y="2527200"/>
              <a:ext cx="28332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04440" y="3266640"/>
              <a:ext cx="39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427520" y="332352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1080" y="4121280"/>
              <a:ext cx="397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27840" y="3211560"/>
              <a:ext cx="4827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48640" y="4121280"/>
              <a:ext cx="1195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lefoní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86240" y="3607920"/>
              <a:ext cx="22788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403680" y="3607920"/>
              <a:ext cx="22680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9640" y="2982600"/>
              <a:ext cx="9399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able Coa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20360" y="4633920"/>
              <a:ext cx="912240" cy="91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et 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micil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9"/>
            <a:stretch/>
          </p:blipFill>
          <p:spPr>
            <a:xfrm>
              <a:off x="3727080" y="4519800"/>
              <a:ext cx="934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phone3"/>
            <p:cNvSpPr/>
            <p:nvPr/>
          </p:nvSpPr>
          <p:spPr>
            <a:xfrm>
              <a:off x="3783600" y="5202360"/>
              <a:ext cx="361440" cy="360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10"/>
            <a:stretch/>
          </p:blipFill>
          <p:spPr>
            <a:xfrm>
              <a:off x="3498840" y="5715720"/>
              <a:ext cx="76068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467240" y="5886720"/>
              <a:ext cx="102528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V se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95520" y="5316480"/>
              <a:ext cx="73980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38960" y="4633920"/>
              <a:ext cx="11505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ad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89160" y="4292280"/>
              <a:ext cx="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815560" y="4804200"/>
              <a:ext cx="102600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5560" y="5031360"/>
              <a:ext cx="96804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5560" y="5260680"/>
              <a:ext cx="68328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17400" y="1446120"/>
              <a:ext cx="449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-360" y="470160"/>
            <a:ext cx="9144360" cy="5297040"/>
            <a:chOff x="-360" y="470160"/>
            <a:chExt cx="9144360" cy="529704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465120" y="1866240"/>
              <a:ext cx="4885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47960" y="3643200"/>
              <a:ext cx="1554480" cy="14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184920" y="1421280"/>
              <a:ext cx="0" cy="177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2000" y="2383200"/>
              <a:ext cx="1297080" cy="8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´Est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21720" y="1400040"/>
              <a:ext cx="2887920" cy="377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184360" y="1199520"/>
              <a:ext cx="738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3080" y="119988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78640" y="1199880"/>
              <a:ext cx="5932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8400" y="5565600"/>
              <a:ext cx="30358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al de Conmutación Móv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06480" y="2160720"/>
              <a:ext cx="1742760" cy="9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G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entr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onmu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79920" y="3716640"/>
              <a:ext cx="1957680" cy="14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GPRS Equip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di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s-ES" sz="1000" spc="-1" strike="noStrike">
                  <a:solidFill>
                    <a:srgbClr val="ff0000"/>
                  </a:solidFill>
                  <a:latin typeface="Arial"/>
                </a:rPr>
                <a:t>SGSN,GGSN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64000" y="3716640"/>
              <a:ext cx="1016280" cy="111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Control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ff0000"/>
                  </a:solidFill>
                  <a:latin typeface="Arial"/>
                </a:rPr>
                <a:t>PC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8360" y="3272400"/>
              <a:ext cx="0" cy="44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23640" y="4087080"/>
              <a:ext cx="51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442760" y="2606040"/>
              <a:ext cx="0" cy="14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2760" y="2606400"/>
              <a:ext cx="96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3640" y="4457160"/>
              <a:ext cx="1555560" cy="295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923080" y="3123000"/>
              <a:ext cx="0" cy="59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4200" y="4530600"/>
              <a:ext cx="814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88160" y="430812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4200" y="2679840"/>
              <a:ext cx="59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46800" y="2534040"/>
              <a:ext cx="9972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7920" y="5567400"/>
              <a:ext cx="444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31800" y="5197320"/>
              <a:ext cx="14083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regar para GP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3920" y="5493960"/>
              <a:ext cx="2368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-360" y="3864600"/>
              <a:ext cx="22284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0" y="2975400"/>
              <a:ext cx="44532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185120" y="1570320"/>
              <a:ext cx="66528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50400" y="15703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850400" y="1570320"/>
              <a:ext cx="88992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29720" y="470160"/>
              <a:ext cx="547848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quema de sistema GP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684360" y="0"/>
            <a:ext cx="7632720" cy="6013080"/>
            <a:chOff x="684360" y="0"/>
            <a:chExt cx="7632720" cy="60130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6940800" y="47952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6940800" y="1580400"/>
              <a:ext cx="6163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7010640" y="261180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4"/>
            <a:stretch/>
          </p:blipFill>
          <p:spPr>
            <a:xfrm>
              <a:off x="7010640" y="3574080"/>
              <a:ext cx="616320" cy="6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flipH="1">
              <a:off x="3778200" y="1512360"/>
              <a:ext cx="1357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14640" y="1512360"/>
              <a:ext cx="2761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914640" y="96156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78560" y="3642840"/>
              <a:ext cx="411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78560" y="1512360"/>
              <a:ext cx="273960" cy="137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052880" y="617040"/>
              <a:ext cx="1581120" cy="55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497200" y="61740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497560" y="549720"/>
              <a:ext cx="12366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52880" y="1305720"/>
              <a:ext cx="15811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497200" y="137376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97560" y="1580400"/>
              <a:ext cx="10990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52880" y="1442880"/>
              <a:ext cx="165096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497200" y="2198520"/>
              <a:ext cx="2062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97560" y="2268000"/>
              <a:ext cx="1236600" cy="41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2880" y="1580400"/>
              <a:ext cx="1650960" cy="11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59680" y="2747880"/>
              <a:ext cx="34380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60040" y="2818080"/>
              <a:ext cx="1168200" cy="82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10320" y="1098360"/>
              <a:ext cx="14446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cle local inalámbr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22560" y="3779640"/>
              <a:ext cx="199188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ación 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53000" y="4122360"/>
              <a:ext cx="0" cy="15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877640" y="5634720"/>
              <a:ext cx="24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184080" y="529272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5634000" y="4673160"/>
              <a:ext cx="1030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phone3"/>
            <p:cNvSpPr/>
            <p:nvPr/>
          </p:nvSpPr>
          <p:spPr>
            <a:xfrm>
              <a:off x="4671360" y="4743000"/>
              <a:ext cx="436680" cy="43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878000" y="5155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4520" y="4329000"/>
              <a:ext cx="1376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C Mod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64360" y="4329000"/>
              <a:ext cx="1169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85760" y="4397040"/>
              <a:ext cx="130500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26720" y="2336040"/>
              <a:ext cx="1650960" cy="220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026720" y="2129400"/>
              <a:ext cx="4129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39640" y="212976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33160" y="2129760"/>
              <a:ext cx="3445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360" y="4673160"/>
              <a:ext cx="23382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o de 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35640" y="5808600"/>
              <a:ext cx="37814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uscriptor típ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78040" y="3024720"/>
              <a:ext cx="110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10000" y="2473200"/>
              <a:ext cx="1098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lace de 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0080" y="2818080"/>
              <a:ext cx="687600" cy="11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90080" y="30920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0080" y="343620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0080" y="378036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0080" y="29552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90080" y="32306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90080" y="35740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90080" y="38476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63160" y="2818080"/>
              <a:ext cx="4827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23480" y="3228840"/>
              <a:ext cx="10368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77160" y="2955240"/>
              <a:ext cx="41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83440" y="3368160"/>
              <a:ext cx="20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9640" y="0"/>
              <a:ext cx="33022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onfiguracion WI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395280" y="1341360"/>
          <a:ext cx="818532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1853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986920" y="33336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WI 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95280" y="773280"/>
            <a:ext cx="87487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9144000" cy="53197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838520" y="476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POR LINEA ELE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2:31:10Z</dcterms:created>
  <dc:creator>Jorge</dc:creator>
  <dc:description/>
  <dc:language>en-US</dc:language>
  <cp:lastModifiedBy>Jorge</cp:lastModifiedBy>
  <dcterms:modified xsi:type="dcterms:W3CDTF">2005-06-17T13:20:14Z</dcterms:modified>
  <cp:revision>4</cp:revision>
  <dc:subject/>
  <dc:title>Diapositiva 1</dc:title>
</cp:coreProperties>
</file>