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809-5D7E-47A4-8DD5-9AE2ACF5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F32-D5CE-4C75-BBE6-66F50B8D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B00-ED67-47CE-9A68-393255F1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705-EB98-47DC-8F49-362EFBDC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A8D-4405-4D12-9418-5E1531FF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BDD8-7D3B-4C24-B325-744C4D4B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A9E2-E272-4631-8D21-6F1A77E1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C986-87C8-4B1D-A379-31AFDFF2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7253-2D10-4073-B2EE-ADC0F40D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05FF-DBD0-4A6B-9254-9BCB3D2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E9F4-90D4-4C80-A6B2-0B1DD07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EC9-4FF2-4932-A6E6-4453F995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11F2-7DF6-4A9C-8C9D-2ED36FB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E5BE-8F9F-4D63-AF8E-42DFE6B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131F-F35C-48F1-BBD5-9FF965CB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E92-8150-4479-A49A-7D094777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64EC-63B3-4FF0-9B10-68900A6E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2EE2-3EDC-48C1-919A-9D9FBBD8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C099-7410-4629-8159-D07E98A7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D253-6208-4101-8990-315160A6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AA91-E3B6-4961-9967-5F5A28F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D94C-A916-4008-A86D-867223C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A12-A294-4EAF-9733-92CA0ABF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C2E2-0803-4741-B9E5-AAF085D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CBB7-A826-499F-BA31-16D57B8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B1DD-6A59-4546-8975-9332644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654B-A0B3-43F0-BF6B-032EB263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5BE5-9070-456E-A548-AB518A8E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EEF4-25D0-4C4C-8AC7-A8A3B8CE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89600-2762-4762-8ADA-7473ED10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896AE-EE2B-493A-A266-C13E7C66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9332-AC4B-4290-B21F-EBD7DDC0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88C7F-6006-4C96-900E-020CA482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944-B84D-439E-A9BF-6C25D1E5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61BD-40FC-4ADE-9805-9A2A7C82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97A71-5F5D-441F-89C1-AA93FAD6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17EB9-4CBC-4B59-AA2B-810A9A24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8F77-7B64-4DF1-9BDA-D2E3705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1780-D0D6-46ED-B425-2CE7DC2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F5DA-8D1D-452A-8C8C-59F7851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943C-486F-44CB-AD3F-693FC798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87DF-1BC8-4141-9D4E-11CA134D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91E8B-7EFA-447D-8A4A-524F412F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3E4-7CEA-476B-B6D0-4015D743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B3A-4F50-41C8-BB98-41BE3B6E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168-A570-406F-AC1F-2E1376E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FFA-93CF-47CB-9490-BD00244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8E0-CF10-4834-A04D-2AC8038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BD6B-CBE7-4541-BEA0-2CBB08824AB0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7844-4D66-430A-B51D-E8A8C0348C26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DCF2-72A9-4039-9F9B-0AA06DE83AEB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B4B3-7C43-4A5A-9C5A-6EE8758FA6A1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upload.wikimedia.org/wikipedia/commons/1/10/BC54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8396280" cy="32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merson Madr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avid Clavi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Miércoles 8 de octubre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5353200"/>
            <a:ext cx="409572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Imagen:BC54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321480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3040" y="2714760"/>
            <a:ext cx="5813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ferentes comportamientos del transi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7839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odel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8834400" cy="29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143000" y="4638600"/>
            <a:ext cx="6072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lta frecue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80658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Prac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8239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blema 1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57520" y="2714400"/>
            <a:ext cx="3429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a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b1=1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b2, Re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c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L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M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₀=10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gm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1=1uF,C2=0,47uF, C3=100uF,Cu=3pF,       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00040" y="2909880"/>
            <a:ext cx="4805280" cy="3948120"/>
          </a:xfrm>
          <a:prstGeom prst="rect">
            <a:avLst/>
          </a:prstGeom>
          <a:ln w="0">
            <a:noFill/>
          </a:ln>
        </p:spPr>
      </p:pic>
      <p:sp>
        <p:nvSpPr>
          <p:cNvPr id="239" name="4 CuadroTexto"/>
          <p:cNvSpPr/>
          <p:nvPr/>
        </p:nvSpPr>
        <p:spPr>
          <a:xfrm>
            <a:off x="285840" y="17859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e el diagrama de bode para la ganancia del ampl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Solu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357200" y="2214720"/>
            <a:ext cx="7075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680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571760" y="2571840"/>
            <a:ext cx="639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6924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transistores bipolares y los de efectos de campo, constituyentes fundamentales de los amplificadores electrónicos, contienen capacidades parásitas no lineales que limitan su velocidad de respuesta cuando las señales cambian rápidamente; esto es, cuando trabajan a alta frecu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modelos que se estudiarán en este tema son modelos en pequeña señal y alta frecuencia. Se trata de versiones linealizadas de los modelos no lineales de gran señal del transisto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Teorema de Mil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14200" y="3286080"/>
            <a:ext cx="4016520" cy="22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3929040" y="3286080"/>
            <a:ext cx="4923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de la aplic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9240" y="2428920"/>
            <a:ext cx="85737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puest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571760" y="2143080"/>
            <a:ext cx="49845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6189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714760" y="1928880"/>
            <a:ext cx="3290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7702560" cy="2290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3"/>
          <a:stretch/>
        </p:blipFill>
        <p:spPr>
          <a:xfrm>
            <a:off x="1000080" y="3929040"/>
            <a:ext cx="6618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rcici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43440" y="1890360"/>
            <a:ext cx="2500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1=1k,R2=10k,R3=10k,R4=1k,Rl1k,Ri=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=3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m 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0" y="2643120"/>
            <a:ext cx="6697800" cy="3929040"/>
          </a:xfrm>
          <a:prstGeom prst="rect">
            <a:avLst/>
          </a:prstGeom>
          <a:ln w="0">
            <a:noFill/>
          </a:ln>
        </p:spPr>
      </p:pic>
      <p:sp>
        <p:nvSpPr>
          <p:cNvPr id="272" name="5 CuadroTexto"/>
          <p:cNvSpPr/>
          <p:nvPr/>
        </p:nvSpPr>
        <p:spPr>
          <a:xfrm>
            <a:off x="214200" y="192888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la respuesta en alta fr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agramas de bo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baj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alt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blem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spuesta en frecuencia de amplificadores transistorizad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agrama de B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6715080" cy="204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214280" y="4286160"/>
            <a:ext cx="65008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Ba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7845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Al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062520" cy="21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714840" y="2928960"/>
            <a:ext cx="4994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General de circuitos dinámic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da condensador se representa por su impedancia compleja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2428920" y="2428920"/>
                <a:ext cx="458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85960" y="3500280"/>
            <a:ext cx="52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xpresiones de la gana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091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209920" cy="2395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715000" y="1857240"/>
            <a:ext cx="2836800" cy="2132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2071800" y="4357800"/>
            <a:ext cx="496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4:37:33Z</dcterms:created>
  <dc:creator> </dc:creator>
  <dc:description/>
  <dc:language>en-US</dc:language>
  <cp:lastModifiedBy> </cp:lastModifiedBy>
  <dcterms:modified xsi:type="dcterms:W3CDTF">2008-10-09T07:21:26Z</dcterms:modified>
  <cp:revision>45</cp:revision>
  <dc:subject/>
  <dc:title>Clase auxiliar 3 Circuitos Electrónicos</dc:title>
</cp:coreProperties>
</file>