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E8F-761D-4007-8485-77DFDF06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351-C62C-4A94-A062-793CF94B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AAD-EC52-40E1-B291-89B2513F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7DC-5DBC-4569-8417-E3FB965C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4F9-347A-4050-B721-0CB14218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770E-150C-488E-82BC-0DBCE9E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B37-F437-4FAE-9446-7A0B922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304E-5D3B-460F-9C8C-08B6EFA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F754-6622-44FC-AE55-53648A3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60C0-D0E0-4467-AA2E-4529AF1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6B8-3350-424E-8437-AAACE5A8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A17-7CBE-4073-A916-B4305534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B984-A654-4B7A-943A-2DF9031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A1E-DE48-48F4-92DF-DE1A139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1FD-D28C-48B3-AF90-F6528ED5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8717-0DBD-40F6-BEDD-FCEF7526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DBC8-3640-487A-A92A-8CA0FE7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C9FE-B769-4417-9F5B-09B1658A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D59C-9E88-4475-AB02-BCBABB8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919B-65A6-4A37-831D-F35948C2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77BE-0B35-4327-A2A8-A435C6F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CEDC-A78A-4DAE-8476-133573AA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5C6-4A39-40FE-A267-2814DAB4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9DFB-0AAB-43F1-A6F3-31C1587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D535-1623-4AE8-B71D-531FBF8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7AC1-7644-4134-93DD-0D1FCFF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8FC2-F340-40D5-A5BE-CEF73C0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EDDB-8B5A-45DE-ABA3-C229BCBB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40B3-F939-4AA4-8EBB-3B001E9A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FFE4-D57C-41A0-B14A-D287A82C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71BE-A6B9-4664-B302-F6300D7F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06A4-F503-41BF-82AF-58C298F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7180-225F-4967-B097-0DB81B12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06D-DC51-42B5-9A3C-C1D5F68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0AEFC-6BEA-4A2B-88ED-33F5DE1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AE66-1785-4C70-9009-52F8A67A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3C81-D43F-467E-B308-93277808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39E9-8EF1-414E-AE67-20BA778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F75A-A669-4958-96F6-28D5A81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4C96-156B-465D-B978-AC66E7C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4903-F9EB-482D-A16C-F702A67F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0FA8-B3D2-4E9F-963C-A66DFE36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9A11-6536-41B4-9D68-55B74AE3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D05-AAB0-4983-8E0F-F78D88C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377-C1FC-4198-942A-72191BA6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C11-DFA9-4B82-A06D-FA234A2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A1E-C4E3-44FC-BADE-6B52B59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086-8D1B-454B-B451-9568113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7B7-2419-4D4F-8512-026809B0E190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87FA-E8B0-4A0D-BBA4-1026D8862C26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3FA0-5FB2-43F1-943B-BE36206BABFB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8601-2376-4AE6-9053-91FDE048DEA6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1/10/BC54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839628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Emerson Madri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avid Clavi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Miércoles 8 de octubre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5353200"/>
            <a:ext cx="4095720" cy="1504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Imagen:BC54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321480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643040" y="2714760"/>
            <a:ext cx="5813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ferentes comportamientos del transi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839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odel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8834400" cy="29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143000" y="4638600"/>
            <a:ext cx="6072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lta frecue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80658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Prac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823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blema 1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57520" y="2714400"/>
            <a:ext cx="3429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a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i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b1=1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b2, Re=100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c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=RL=1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M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R₀=100K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 Ω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gm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1=1uF,C2=0,47uF, C3=100uF,Cu=3pF,       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00040" y="2909880"/>
            <a:ext cx="4805280" cy="3948120"/>
          </a:xfrm>
          <a:prstGeom prst="rect">
            <a:avLst/>
          </a:prstGeom>
          <a:ln w="0">
            <a:noFill/>
          </a:ln>
        </p:spPr>
      </p:pic>
      <p:sp>
        <p:nvSpPr>
          <p:cNvPr id="239" name="4 CuadroTexto"/>
          <p:cNvSpPr/>
          <p:nvPr/>
        </p:nvSpPr>
        <p:spPr>
          <a:xfrm>
            <a:off x="285840" y="17859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e el diagrama de bode para la ganancia del ampl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Solu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357200" y="2214720"/>
            <a:ext cx="7075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680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571760" y="2571840"/>
            <a:ext cx="63928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fecto condensador C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6924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transistores bipolares y los de efectos de campo, constituyentes fundamentales de los amplificadores electrónicos, contienen capacidades parásitas no lineales que limitan su velocidad de respuesta cuando las señales cambian rápidamente; esto es, cuando trabajan a alta frecuenc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modelos que se estudiarán en este tema son modelos en pequeña señal y alta frecuencia. Se trata de versiones linealizadas de los modelos no lineales de gran señal del transisto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Teorema de Mi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14200" y="3286080"/>
            <a:ext cx="4016520" cy="22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3929040" y="3286080"/>
            <a:ext cx="4923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de la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9240" y="2428920"/>
            <a:ext cx="8573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puest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571760" y="2143080"/>
            <a:ext cx="49845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ircuito equivalent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28760" y="2643120"/>
            <a:ext cx="6189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mpl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3290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Continu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7702560" cy="2290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1000080" y="3929040"/>
            <a:ext cx="6618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jercicio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43440" y="1890360"/>
            <a:ext cx="2500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1=1k,R2=10k,R3=10k,R4=1k,Rl1k,Ri=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∏=2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=3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∏=10p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Gm =42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0" y="2643120"/>
            <a:ext cx="6697800" cy="3929040"/>
          </a:xfrm>
          <a:prstGeom prst="rect">
            <a:avLst/>
          </a:prstGeom>
          <a:ln w="0">
            <a:noFill/>
          </a:ln>
        </p:spPr>
      </p:pic>
      <p:sp>
        <p:nvSpPr>
          <p:cNvPr id="272" name="5 CuadroTexto"/>
          <p:cNvSpPr/>
          <p:nvPr/>
        </p:nvSpPr>
        <p:spPr>
          <a:xfrm>
            <a:off x="214200" y="19288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la respuesta en alta 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agramas de bod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baj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en alta frecu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ble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spuesta en frecuencia de amplificadores transistorizad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iagrama de B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715080" cy="204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4286160"/>
            <a:ext cx="65008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Ba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7845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asa Al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06252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714840" y="2928960"/>
            <a:ext cx="4994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General de circuitos dinámic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da condensador se representa por su impedancia compleja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2428920" y="2428920"/>
                <a:ext cx="458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52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xpresiones de la gananci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091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náli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209920" cy="2395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5715000" y="1857240"/>
            <a:ext cx="2836800" cy="2132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2071800" y="4357800"/>
            <a:ext cx="49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4:37:33Z</dcterms:created>
  <dc:creator> </dc:creator>
  <dc:description/>
  <dc:language>en-US</dc:language>
  <cp:lastModifiedBy> </cp:lastModifiedBy>
  <dcterms:modified xsi:type="dcterms:W3CDTF">2008-10-09T07:21:26Z</dcterms:modified>
  <cp:revision>45</cp:revision>
  <dc:subject/>
  <dc:title>Clase auxiliar 3 Circuitos Electrónicos</dc:title>
</cp:coreProperties>
</file>