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9E7-E072-4B4A-9A83-CF3505EB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429-A8CA-4FFC-9B70-2D017E1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89C-5195-4FA3-84FF-B603991A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735-3DF0-4173-8729-1A1242AA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5AA-65A4-4939-AEAC-381E5BA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F61D-0259-4833-842B-5CFAEC4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69E-AE8A-4605-B2D9-4847522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C6A-3F06-41A6-9B72-2B499209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AA0E-915C-4364-8A4F-041D81F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3B5D-1EC6-49F9-8546-ED824C8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81CF-0210-4608-9578-E8DB8BB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0B1-7CF5-4121-852D-22B27FE5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D36B-CFA0-422C-9F15-A1DFB25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EDC-421C-444E-8998-1DDA7BD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70B-4A99-4E5A-9C78-47D1B943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E8C5-5585-40AD-B1D2-106F544B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A3D-2A20-4EA3-9295-D4E5610A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8061-D851-471F-8A92-647AE5AC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A014-733A-4B9B-94E4-0106CE0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8717-96B8-4C9E-A012-CD01523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A168-F368-4847-AAB7-E53D2DC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6759-C15A-4B70-9DDC-49843AF7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4DE-9170-4827-9F18-BFD9BD1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BF46-3AAB-402A-948C-FC1BF50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D50B-A3E3-44E3-966E-2BC1538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F2A9-CA33-4612-9E48-3ACFCF1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45CE-8D05-471E-8A72-266C993D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006A-4E2E-4F13-8CAC-D099C09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CA55-4187-4B08-969E-848B5C61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5D5D-F92D-4EE7-AB11-1144B2FC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5221-590D-4010-85FC-A850C1F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14FC-DEAD-48DD-A5F8-3B3A3D8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F288-6C7E-4C15-99C5-44C4A05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9C4-73D0-4113-84B0-A12BDA6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4580-56CF-4EF4-8F65-3781CA4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C4FF-76E6-4ED6-8DCC-7F0EF167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AF6A-1E82-462B-8B79-3594E8B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C414-517B-4F2E-A7B2-32CA0766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F1C7-C34F-487D-92D2-37759AD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3972-1525-4520-9E8F-C4090B3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7C29-BA89-4784-8ECD-7083D85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ECF4-B0D5-445F-92F5-DBC4544F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AA5F-BD61-4E62-A7D0-5E930E06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717-9CF4-412E-9422-CF0DDBE9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970-F81D-4D8E-BEDE-7C6A324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123-4ADD-4C45-BA5F-5810B69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BF7-5EBD-4BB0-92F7-E30C35A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CE8-8F17-4A15-B9AF-D633760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508-4125-4A8B-B36A-D7C450714A5F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F63C-E70A-49E0-8971-CBF647E2FD7D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F85-F4B0-429C-A828-8C2B9C0534E2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A536-D634-4E6A-8CB1-022F155E1B7C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1/10/BC54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839628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merson Madr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avid Clavi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Miércoles 8 de octubre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5353200"/>
            <a:ext cx="409572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Imagen:BC54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21480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813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ferentes comportamientos del transi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839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odel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8834400" cy="29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143000" y="4638600"/>
            <a:ext cx="607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lta frecue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80658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Prac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823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blema 1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57520" y="2714400"/>
            <a:ext cx="3429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a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b1=1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b2, Re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c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L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M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₀=10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gm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1=1uF,C2=0,47uF, C3=100uF,Cu=3pF,       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00040" y="2909880"/>
            <a:ext cx="4805280" cy="3948120"/>
          </a:xfrm>
          <a:prstGeom prst="rect">
            <a:avLst/>
          </a:prstGeom>
          <a:ln w="0">
            <a:noFill/>
          </a:ln>
        </p:spPr>
      </p:pic>
      <p:sp>
        <p:nvSpPr>
          <p:cNvPr id="239" name="4 CuadroTexto"/>
          <p:cNvSpPr/>
          <p:nvPr/>
        </p:nvSpPr>
        <p:spPr>
          <a:xfrm>
            <a:off x="285840" y="17859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e el diagrama de bode para la ganancia del ampl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Solu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357200" y="2214720"/>
            <a:ext cx="7075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680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571760" y="2571840"/>
            <a:ext cx="639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6924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transistores bipolares y los de efectos de campo, constituyentes fundamentales de los amplificadores electrónicos, contienen capacidades parásitas no lineales que limitan su velocidad de respuesta cuando las señales cambian rápidamente; esto es, cuando trabajan a alta frecu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modelos que se estudiarán en este tema son modelos en pequeña señal y alta frecuencia. Se trata de versiones linealizadas de los modelos no lineales de gran señal del transisto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Teorema de Mi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4200" y="3286080"/>
            <a:ext cx="4016520" cy="22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923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de la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9240" y="2428920"/>
            <a:ext cx="8573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puest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571760" y="2143080"/>
            <a:ext cx="49845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6189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3290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7702560" cy="229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1000080" y="3929040"/>
            <a:ext cx="6618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rcici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43440" y="1890360"/>
            <a:ext cx="2500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1=1k,R2=10k,R3=10k,R4=1k,Rl1k,Ri=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=3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m 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2643120"/>
            <a:ext cx="6697800" cy="3929040"/>
          </a:xfrm>
          <a:prstGeom prst="rect">
            <a:avLst/>
          </a:prstGeom>
          <a:ln w="0">
            <a:noFill/>
          </a:ln>
        </p:spPr>
      </p:pic>
      <p:sp>
        <p:nvSpPr>
          <p:cNvPr id="272" name="5 CuadroTexto"/>
          <p:cNvSpPr/>
          <p:nvPr/>
        </p:nvSpPr>
        <p:spPr>
          <a:xfrm>
            <a:off x="214200" y="19288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la respuesta en alta 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agramas de bo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baj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alt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spuesta en frecuencia de amplificadores transistorizad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agrama de B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715080" cy="204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65008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Ba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7845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Al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06252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714840" y="2928960"/>
            <a:ext cx="4994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General de circuitos dinámic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da condensador se representa por su impedancia compleja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2428920" y="2428920"/>
                <a:ext cx="458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52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xpresiones de la gana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091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209920" cy="2395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715000" y="1857240"/>
            <a:ext cx="2836800" cy="2132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2071800" y="4357800"/>
            <a:ext cx="49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4:37:33Z</dcterms:created>
  <dc:creator> </dc:creator>
  <dc:description/>
  <dc:language>en-US</dc:language>
  <cp:lastModifiedBy> </cp:lastModifiedBy>
  <dcterms:modified xsi:type="dcterms:W3CDTF">2008-10-09T07:21:26Z</dcterms:modified>
  <cp:revision>45</cp:revision>
  <dc:subject/>
  <dc:title>Clase auxiliar 3 Circuitos Electrónicos</dc:title>
</cp:coreProperties>
</file>