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579-73CD-4EF9-A116-A8AB826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8FA-0AA1-4A90-8380-0325FFF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CE0-B80E-4B5A-AA5E-3FF71509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7F0-973D-4155-991E-D9EAAE05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124-0461-4104-A8BA-228F64AD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C0F-D124-462C-B22F-55523FD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4E94-A84A-421C-8309-79A8F28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B6A-490D-45AD-892E-9476EC3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68B-EAAA-4977-95B3-5D1A373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234-6115-4768-9B8D-7DC57E5E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5F57-F84F-4BB9-9C5B-5BAB67B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265-E740-495C-9BAD-0E846D22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8A58-1925-4D3D-A4D0-E655D1E5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9E8B-FE2B-451B-B89E-091BA40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C08B-FAF7-4118-B43D-348B733F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7079-1520-445A-88EA-C58A66A1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E5F3-F5A6-4617-9D51-4E0EC47D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7D32-6C0B-487F-A36E-24C8A82F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2E76-32DA-4EC5-A7C2-B89A335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5107-5723-4862-8BF2-749431C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2605-5D65-4F1A-8B35-074AEBD2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D73D-19E7-42F6-BE48-D2C14B9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C54-FAF4-4801-BD6B-EC45284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BFF9-DFE4-4E35-B530-C709F0A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F0FF-A744-4C9A-A194-2AF730C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F54D-EB04-4F90-87F5-B12B80D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5C3D-A263-4C22-93D6-AF821B1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AC84-2776-4AB0-A8A1-C0F49CA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C1E6-1528-498F-BC15-3016908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A002-FAE0-439E-900C-57378559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7F66-0C54-46F8-9C04-5BF1808E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87BA-B08D-4576-954F-F27D445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4F22-08EF-4AEB-97FF-3B75B76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109-748A-48D3-A1BE-B7282A9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73EA-443E-46A9-A879-32B5B05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F5F7-EB02-4F70-B034-BA06D2C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157E-F300-4A3A-9A85-DF451D6B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7AF2-EC0F-432E-8089-959AABE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B71C-15D9-4AA6-9D8C-8456485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3BD1-128B-464C-8147-38D305F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8286-091D-4240-A171-7736890A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F61A-84CF-47A4-978A-BD4E360C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0F4F-0013-48A0-A2C3-A5DDF3C7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C98-1DA2-4B28-9DE1-1077A7B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486-5A11-4CEF-92D1-FDBFE31D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987-3034-4BE9-AEB5-504E4A1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F67-64CD-4A4A-995D-E691881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BEF-8B17-4E91-B6C0-1E8F1A3F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120-9EF0-4219-AC4D-F4BDCCB54B5C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909-3ED8-476D-94F5-63B445914EC3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4CE-500D-4673-B8B9-B6E63993FDEF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878-20E1-400A-823E-06D350F0DE34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1/10/BC54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839628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merson Madr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avid Clavi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Miércoles 8 de octubre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5353200"/>
            <a:ext cx="409572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Imagen:BC54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21480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813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ferentes comportamientos del transi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839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odel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8834400" cy="29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143000" y="4638600"/>
            <a:ext cx="607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lta frecue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80658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Prac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823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blema 1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57520" y="2714400"/>
            <a:ext cx="3429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a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b1=1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b2, Re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c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L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M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₀=10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gm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1=1uF,C2=0,47uF, C3=100uF,Cu=3pF,       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00040" y="2909880"/>
            <a:ext cx="4805280" cy="3948120"/>
          </a:xfrm>
          <a:prstGeom prst="rect">
            <a:avLst/>
          </a:prstGeom>
          <a:ln w="0">
            <a:noFill/>
          </a:ln>
        </p:spPr>
      </p:pic>
      <p:sp>
        <p:nvSpPr>
          <p:cNvPr id="239" name="4 CuadroTexto"/>
          <p:cNvSpPr/>
          <p:nvPr/>
        </p:nvSpPr>
        <p:spPr>
          <a:xfrm>
            <a:off x="285840" y="17859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e el diagrama de bode para la ganancia del ampl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Solu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357200" y="2214720"/>
            <a:ext cx="7075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680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571760" y="2571840"/>
            <a:ext cx="639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6924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transistores bipolares y los de efectos de campo, constituyentes fundamentales de los amplificadores electrónicos, contienen capacidades parásitas no lineales que limitan su velocidad de respuesta cuando las señales cambian rápidamente; esto es, cuando trabajan a alta frecu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modelos que se estudiarán en este tema son modelos en pequeña señal y alta frecuencia. Se trata de versiones linealizadas de los modelos no lineales de gran señal del transisto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Teorema de Mi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4200" y="3286080"/>
            <a:ext cx="4016520" cy="22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923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de la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9240" y="2428920"/>
            <a:ext cx="8573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puest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571760" y="2143080"/>
            <a:ext cx="49845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6189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3290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7702560" cy="229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1000080" y="3929040"/>
            <a:ext cx="6618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rcici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43440" y="1890360"/>
            <a:ext cx="2500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1=1k,R2=10k,R3=10k,R4=1k,Rl1k,Ri=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=3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m 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2643120"/>
            <a:ext cx="6697800" cy="3929040"/>
          </a:xfrm>
          <a:prstGeom prst="rect">
            <a:avLst/>
          </a:prstGeom>
          <a:ln w="0">
            <a:noFill/>
          </a:ln>
        </p:spPr>
      </p:pic>
      <p:sp>
        <p:nvSpPr>
          <p:cNvPr id="272" name="5 CuadroTexto"/>
          <p:cNvSpPr/>
          <p:nvPr/>
        </p:nvSpPr>
        <p:spPr>
          <a:xfrm>
            <a:off x="214200" y="19288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la respuesta en alta 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agramas de bo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baj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alt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spuesta en frecuencia de amplificadores transistorizad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agrama de B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715080" cy="204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65008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Ba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7845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Al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06252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714840" y="2928960"/>
            <a:ext cx="4994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General de circuitos dinámic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da condensador se representa por su impedancia compleja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2428920" y="2428920"/>
                <a:ext cx="458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52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xpresiones de la gana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091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209920" cy="2395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715000" y="1857240"/>
            <a:ext cx="2836800" cy="2132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2071800" y="4357800"/>
            <a:ext cx="49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4:37:33Z</dcterms:created>
  <dc:creator> </dc:creator>
  <dc:description/>
  <dc:language>en-US</dc:language>
  <cp:lastModifiedBy> </cp:lastModifiedBy>
  <dcterms:modified xsi:type="dcterms:W3CDTF">2008-10-09T07:21:26Z</dcterms:modified>
  <cp:revision>45</cp:revision>
  <dc:subject/>
  <dc:title>Clase auxiliar 3 Circuitos Electrónicos</dc:title>
</cp:coreProperties>
</file>