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225-04AE-4F17-BED7-702BE9C4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E78-4DEB-4F9C-B7D4-7CDFC6A7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22B-74C5-4FAD-9FD8-796885A6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CC0-3496-4934-8DA6-BFCE3DDF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A45-E293-4C3A-B5C4-E586E5DF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5FF-3420-4E53-B20A-4653B157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8C4-2D1E-4AC6-9F06-CFCC5BC2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9AD-4E8A-4657-A159-901E7EB4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0B2-B47E-402A-A339-782101A0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648-72BD-489B-B8D2-045149E8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A25-1247-464A-BF83-06E9272B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0B9-8D9A-43FA-AA95-5DAE7071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5FC2-8FED-44C8-BCB4-F6AB3BD5AA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66"/>
                </a:solidFill>
                <a:latin typeface="Arial"/>
              </a:rPr>
              <a:t>EL42A </a:t>
            </a:r>
            <a:br>
              <a:rPr sz="3800"/>
            </a:br>
            <a:r>
              <a:rPr b="1" lang="es-ES" sz="3800" spc="-1" strike="noStrike">
                <a:solidFill>
                  <a:srgbClr val="000066"/>
                </a:solidFill>
                <a:latin typeface="Arial"/>
              </a:rPr>
              <a:t>CIRCUITOS ELECTRÓNIC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0920" y="3284640"/>
            <a:ext cx="45356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66"/>
                </a:solidFill>
                <a:latin typeface="Arial"/>
              </a:rPr>
              <a:t>CLASE AUXILIAR 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es de potencia con BJ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59120" y="4529160"/>
            <a:ext cx="51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103480" y="45291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42920" y="2205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structor: P. Parada, Auxiliares: E. Madrid , D.Clavijo, Ayudantes: R. Rojas, P. Castillo, P. Pérez, A. Becer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7165080" y="333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U.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5A84-2B7F-48D1-BC1C-677CE75E7A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3F7-D1B3-4844-A347-C37332053D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8"/>
          <p:cNvPicPr/>
          <p:nvPr/>
        </p:nvPicPr>
        <p:blipFill>
          <a:blip r:embed="rId1"/>
          <a:stretch/>
        </p:blipFill>
        <p:spPr>
          <a:xfrm>
            <a:off x="1403280" y="907920"/>
            <a:ext cx="65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D3BA-3259-4968-B03B-AB36EA3A8D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9"/>
          <p:cNvPicPr/>
          <p:nvPr/>
        </p:nvPicPr>
        <p:blipFill>
          <a:blip r:embed="rId1"/>
          <a:stretch/>
        </p:blipFill>
        <p:spPr>
          <a:xfrm>
            <a:off x="395280" y="1413000"/>
            <a:ext cx="7993080" cy="432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752200" y="5753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2869-0011-41A0-9424-8F6460712C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10"/>
          <p:cNvPicPr/>
          <p:nvPr/>
        </p:nvPicPr>
        <p:blipFill>
          <a:blip r:embed="rId1"/>
          <a:stretch/>
        </p:blipFill>
        <p:spPr>
          <a:xfrm>
            <a:off x="468360" y="1197000"/>
            <a:ext cx="792000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2535480" y="546588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DA8B-3B83-4174-9121-F817650093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44EA-9CEE-4097-B9E3-042E9F290A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Ejercici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23080" y="21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etermine la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e transferenci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ircuito de la fig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13"/>
          <p:cNvPicPr/>
          <p:nvPr/>
        </p:nvPicPr>
        <p:blipFill>
          <a:blip r:embed="rId1"/>
          <a:stretch/>
        </p:blipFill>
        <p:spPr>
          <a:xfrm>
            <a:off x="2843280" y="260280"/>
            <a:ext cx="60498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80D-DCD8-48D9-BE51-656A4235CF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Ejercici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4920" y="595008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olución: 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2"/>
          <p:cNvPicPr/>
          <p:nvPr/>
        </p:nvPicPr>
        <p:blipFill>
          <a:blip r:embed="rId1"/>
          <a:stretch/>
        </p:blipFill>
        <p:spPr>
          <a:xfrm>
            <a:off x="539640" y="1125360"/>
            <a:ext cx="7961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AD84-82A2-4D6E-A930-0B990DCF2B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CEF3-2701-4784-836A-0851E0916C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13800" cy="5832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342880" y="6165720"/>
            <a:ext cx="51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Fuente: http://sound.westhost.com/project68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29240" y="20808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 de audio 300 Watts RMS Clase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0CFC-3900-4888-ADDB-AF15B2E872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488360" cy="532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32640" y="260280"/>
            <a:ext cx="83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 de audio 56 W integrado cuasi-compleme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13800" y="4653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LM3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04560" y="50324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emi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D50D-BDA2-446C-A844-DED149CA60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9D71-A78F-4A0F-9671-A680B34501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8360" y="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512280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39080" y="1865160"/>
            <a:ext cx="323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nsistores comple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NPN      2N3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NP      2N3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C344-5973-48B5-8B38-BBEBC93F61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2"/>
          <p:cNvPicPr/>
          <p:nvPr/>
        </p:nvPicPr>
        <p:blipFill>
          <a:blip r:embed="rId1"/>
          <a:stretch/>
        </p:blipFill>
        <p:spPr>
          <a:xfrm>
            <a:off x="468360" y="1125360"/>
            <a:ext cx="7921440" cy="4321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7"/>
          <p:cNvSpPr/>
          <p:nvPr/>
        </p:nvSpPr>
        <p:spPr>
          <a:xfrm>
            <a:off x="3133080" y="551664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E1B0-2B39-4147-A3FD-EA280E807A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1"/>
          <p:cNvPicPr/>
          <p:nvPr/>
        </p:nvPicPr>
        <p:blipFill>
          <a:blip r:embed="rId1"/>
          <a:stretch/>
        </p:blipFill>
        <p:spPr>
          <a:xfrm>
            <a:off x="250920" y="836640"/>
            <a:ext cx="734364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3"/>
          <p:cNvPicPr/>
          <p:nvPr/>
        </p:nvPicPr>
        <p:blipFill>
          <a:blip r:embed="rId2"/>
          <a:stretch/>
        </p:blipFill>
        <p:spPr>
          <a:xfrm>
            <a:off x="250920" y="3716280"/>
            <a:ext cx="7200720" cy="259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525800" y="184464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310880" y="429264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spect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H="1">
            <a:off x="6012000" y="981000"/>
            <a:ext cx="792000" cy="287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734880" y="836640"/>
            <a:ext cx="10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713640" y="1289160"/>
            <a:ext cx="82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6012000" y="148428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BC6-D060-44A9-8E78-62AB250A69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EF91-EB72-4D20-8624-0CD2B1077D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4"/>
          <p:cNvPicPr/>
          <p:nvPr/>
        </p:nvPicPr>
        <p:blipFill>
          <a:blip r:embed="rId1"/>
          <a:stretch/>
        </p:blipFill>
        <p:spPr>
          <a:xfrm>
            <a:off x="3059280" y="1052640"/>
            <a:ext cx="5472000" cy="5132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307440" y="1504800"/>
            <a:ext cx="323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nsistores comple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NPN  2N3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NP  2N3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2725-F8FA-436A-A68F-A205A8DA9A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5"/>
          <p:cNvPicPr/>
          <p:nvPr/>
        </p:nvPicPr>
        <p:blipFill>
          <a:blip r:embed="rId1"/>
          <a:stretch/>
        </p:blipFill>
        <p:spPr>
          <a:xfrm>
            <a:off x="611280" y="1125360"/>
            <a:ext cx="7705800" cy="468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2609280" y="582444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E8E3-C687-4F46-A4E3-6C07BDDA26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6"/>
          <p:cNvPicPr/>
          <p:nvPr/>
        </p:nvPicPr>
        <p:blipFill>
          <a:blip r:embed="rId1"/>
          <a:stretch/>
        </p:blipFill>
        <p:spPr>
          <a:xfrm>
            <a:off x="250920" y="1052640"/>
            <a:ext cx="7920000" cy="27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7"/>
          <p:cNvPicPr/>
          <p:nvPr/>
        </p:nvPicPr>
        <p:blipFill>
          <a:blip r:embed="rId2"/>
          <a:stretch/>
        </p:blipFill>
        <p:spPr>
          <a:xfrm>
            <a:off x="324000" y="3860640"/>
            <a:ext cx="7848360" cy="252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5"/>
          <p:cNvSpPr/>
          <p:nvPr/>
        </p:nvSpPr>
        <p:spPr>
          <a:xfrm>
            <a:off x="4429800" y="1197000"/>
            <a:ext cx="10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H="1">
            <a:off x="3995640" y="1413000"/>
            <a:ext cx="50328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6013440" y="2924280"/>
            <a:ext cx="82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9"/>
          <p:cNvSpPr/>
          <p:nvPr/>
        </p:nvSpPr>
        <p:spPr>
          <a:xfrm flipH="1" flipV="1">
            <a:off x="6084720" y="1628280"/>
            <a:ext cx="216000" cy="12956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8153280" y="1647720"/>
            <a:ext cx="9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7290000" y="4240080"/>
            <a:ext cx="148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spect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4:42:52Z</dcterms:created>
  <dc:creator>Sebita</dc:creator>
  <dc:description/>
  <dc:language>en-US</dc:language>
  <cp:lastModifiedBy> </cp:lastModifiedBy>
  <dcterms:modified xsi:type="dcterms:W3CDTF">2008-09-10T15:29:15Z</dcterms:modified>
  <cp:revision>47</cp:revision>
  <dc:subject/>
  <dc:title>EL42A  CIRCUITOS ELECTRÓNICOS</dc:title>
</cp:coreProperties>
</file>