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EB5-DE05-4B11-B344-6981B775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5E3-8779-48D3-BA01-476BE37F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9F2-9005-4FB4-9ECA-4B61079F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914D-F96F-47CA-9241-A6851447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401-E7BD-44D8-921E-0E151E03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25B-7E56-4ABB-9A43-F52D0D97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C8C-82A2-407A-9A70-F6BD8428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922-0AD4-4436-857B-522716E0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8D4-80C1-4DF5-B5B6-E7CA72DF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F6C-38A9-4EC1-A28B-2DBC2EB8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407-A8C8-4B94-A25F-4AAFBA6D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975-107B-4C42-89D8-CB15A601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957A-3F90-4F11-9010-02A82A9907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66"/>
                </a:solidFill>
                <a:latin typeface="Arial"/>
              </a:rPr>
              <a:t>EL42A </a:t>
            </a:r>
            <a:br>
              <a:rPr sz="3800"/>
            </a:br>
            <a:r>
              <a:rPr b="1" lang="es-ES" sz="3800" spc="-1" strike="noStrike">
                <a:solidFill>
                  <a:srgbClr val="000066"/>
                </a:solidFill>
                <a:latin typeface="Arial"/>
              </a:rPr>
              <a:t>CIRCUITOS ELECTRÓNIC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0920" y="3284640"/>
            <a:ext cx="453564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66"/>
                </a:solidFill>
                <a:latin typeface="Arial"/>
              </a:rPr>
              <a:t>CLASE AUXILIAR 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mplificadores de potencia con BJ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959120" y="4529160"/>
            <a:ext cx="51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103480" y="452916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042920" y="220500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nstructor: P. Parada, Auxiliares: E. Madrid , D.Clavijo, Ayudantes: R. Rojas, P. Castillo, P. Pérez, A. Becer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7165080" y="333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U.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20E9-70E1-4653-A30D-A407FDA632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Estruc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Configuración push-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Amplificador Clase AB con Darl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Ejercici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Ejemplos de ampl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7F99-1417-41CD-B494-9FAEA41552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  Darling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5" descr="8"/>
          <p:cNvPicPr/>
          <p:nvPr/>
        </p:nvPicPr>
        <p:blipFill>
          <a:blip r:embed="rId1"/>
          <a:stretch/>
        </p:blipFill>
        <p:spPr>
          <a:xfrm>
            <a:off x="1403280" y="907920"/>
            <a:ext cx="6553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F2FD-A6B8-4F2B-B18E-9534099FAA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  Darling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9"/>
          <p:cNvPicPr/>
          <p:nvPr/>
        </p:nvPicPr>
        <p:blipFill>
          <a:blip r:embed="rId1"/>
          <a:stretch/>
        </p:blipFill>
        <p:spPr>
          <a:xfrm>
            <a:off x="395280" y="1413000"/>
            <a:ext cx="7993080" cy="4321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752200" y="575316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Función de trans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7844-BB7B-4F37-809E-2856B25B29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  Darling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10"/>
          <p:cNvPicPr/>
          <p:nvPr/>
        </p:nvPicPr>
        <p:blipFill>
          <a:blip r:embed="rId1"/>
          <a:stretch/>
        </p:blipFill>
        <p:spPr>
          <a:xfrm>
            <a:off x="468360" y="1197000"/>
            <a:ext cx="7920000" cy="4103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2535480" y="546588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alida en 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AA15-4F44-4E39-B8F9-9886B40F7F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Estruc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Configuración push-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 con Darl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Ejercici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Ejemplos de ampl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B703-D65F-44DB-89CF-3D8D7D6210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Ejercici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23080" y="2152800"/>
            <a:ext cx="22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etermine la 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e transferenci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ircuito de la fig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13"/>
          <p:cNvPicPr/>
          <p:nvPr/>
        </p:nvPicPr>
        <p:blipFill>
          <a:blip r:embed="rId1"/>
          <a:stretch/>
        </p:blipFill>
        <p:spPr>
          <a:xfrm>
            <a:off x="2843280" y="260280"/>
            <a:ext cx="60498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F9D6-D7A3-4327-94CC-F4280870EC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Ejercici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4920" y="595008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olución: Función de Trans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12"/>
          <p:cNvPicPr/>
          <p:nvPr/>
        </p:nvPicPr>
        <p:blipFill>
          <a:blip r:embed="rId1"/>
          <a:stretch/>
        </p:blipFill>
        <p:spPr>
          <a:xfrm>
            <a:off x="539640" y="1125360"/>
            <a:ext cx="7961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44A0-4142-45CA-802D-55CCFB3002B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Estruc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Configuración push-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 con Darl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Ejercici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Ejemplos de ampl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4C6A-926D-4BBB-A0E1-8334479810A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13800" cy="5832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342880" y="6165720"/>
            <a:ext cx="51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Fuente: http://sound.westhost.com/project68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029240" y="20808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mplificador de audio 300 Watts RMS Clase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CBBE-AC2C-4C71-A65A-530DA77BCB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7488360" cy="5329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332640" y="260280"/>
            <a:ext cx="83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mplificador de audio 56 W integrado cuasi-compleme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13800" y="4653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LM3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04560" y="503244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emi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BE1B-FFD6-4DC8-B352-4C050B378E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Estruc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Configuración push-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 con Darl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Ejercici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Ejemplos de ampl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2705-0497-45DE-BDF6-627122E7D3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68360" y="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Amplificador push-pu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5122800" cy="5400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739080" y="1865160"/>
            <a:ext cx="323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ransistores complem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NPN      2N39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NP      2N3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FA8A-8BC5-4CC0-BAD6-8FA7A1DE8F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Amplificador push-pu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6" descr="2"/>
          <p:cNvPicPr/>
          <p:nvPr/>
        </p:nvPicPr>
        <p:blipFill>
          <a:blip r:embed="rId1"/>
          <a:stretch/>
        </p:blipFill>
        <p:spPr>
          <a:xfrm>
            <a:off x="468360" y="1125360"/>
            <a:ext cx="7921440" cy="4321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7"/>
          <p:cNvSpPr/>
          <p:nvPr/>
        </p:nvSpPr>
        <p:spPr>
          <a:xfrm>
            <a:off x="3133080" y="551664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Función de Trans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52A6-3B8A-4F3B-BF9F-BD11A7E5C6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243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Amplificador push-pu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1"/>
          <p:cNvPicPr/>
          <p:nvPr/>
        </p:nvPicPr>
        <p:blipFill>
          <a:blip r:embed="rId1"/>
          <a:stretch/>
        </p:blipFill>
        <p:spPr>
          <a:xfrm>
            <a:off x="250920" y="836640"/>
            <a:ext cx="7343640" cy="259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3"/>
          <p:cNvPicPr/>
          <p:nvPr/>
        </p:nvPicPr>
        <p:blipFill>
          <a:blip r:embed="rId2"/>
          <a:stretch/>
        </p:blipFill>
        <p:spPr>
          <a:xfrm>
            <a:off x="250920" y="3716280"/>
            <a:ext cx="7200720" cy="2592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525800" y="1844640"/>
            <a:ext cx="11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alid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310880" y="429264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Espect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 flipH="1">
            <a:off x="6012000" y="981000"/>
            <a:ext cx="792000" cy="287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734880" y="836640"/>
            <a:ext cx="10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6713640" y="1289160"/>
            <a:ext cx="82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>
            <a:off x="6012000" y="1484280"/>
            <a:ext cx="72072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4BC9-9378-466F-A6FC-F4293F29B1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Estruc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Configuración push-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Amplificador Clas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 con Darl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Ejercici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Ejemplos de ampl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151A-47AA-46AD-830A-737527E04D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4"/>
          <p:cNvPicPr/>
          <p:nvPr/>
        </p:nvPicPr>
        <p:blipFill>
          <a:blip r:embed="rId1"/>
          <a:stretch/>
        </p:blipFill>
        <p:spPr>
          <a:xfrm>
            <a:off x="3059280" y="1052640"/>
            <a:ext cx="5472000" cy="5132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307440" y="1504800"/>
            <a:ext cx="323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ransistores complem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NPN  2N39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NP  2N3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3FD5-9044-49E9-81D5-5C9EB31147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5"/>
          <p:cNvPicPr/>
          <p:nvPr/>
        </p:nvPicPr>
        <p:blipFill>
          <a:blip r:embed="rId1"/>
          <a:stretch/>
        </p:blipFill>
        <p:spPr>
          <a:xfrm>
            <a:off x="611280" y="1125360"/>
            <a:ext cx="7705800" cy="468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1"/>
          <p:cNvSpPr/>
          <p:nvPr/>
        </p:nvSpPr>
        <p:spPr>
          <a:xfrm>
            <a:off x="2609280" y="582444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Función de Trans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FA3D-1396-4445-BFB3-A5F0B80719E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3" descr="6"/>
          <p:cNvPicPr/>
          <p:nvPr/>
        </p:nvPicPr>
        <p:blipFill>
          <a:blip r:embed="rId1"/>
          <a:stretch/>
        </p:blipFill>
        <p:spPr>
          <a:xfrm>
            <a:off x="250920" y="1052640"/>
            <a:ext cx="7920000" cy="27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4" descr="7"/>
          <p:cNvPicPr/>
          <p:nvPr/>
        </p:nvPicPr>
        <p:blipFill>
          <a:blip r:embed="rId2"/>
          <a:stretch/>
        </p:blipFill>
        <p:spPr>
          <a:xfrm>
            <a:off x="324000" y="3860640"/>
            <a:ext cx="7848360" cy="2521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5"/>
          <p:cNvSpPr/>
          <p:nvPr/>
        </p:nvSpPr>
        <p:spPr>
          <a:xfrm>
            <a:off x="4429800" y="1197000"/>
            <a:ext cx="10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6"/>
          <p:cNvSpPr/>
          <p:nvPr/>
        </p:nvSpPr>
        <p:spPr>
          <a:xfrm flipH="1">
            <a:off x="3995640" y="1413000"/>
            <a:ext cx="50328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7"/>
          <p:cNvSpPr/>
          <p:nvPr/>
        </p:nvSpPr>
        <p:spPr>
          <a:xfrm>
            <a:off x="6013440" y="2924280"/>
            <a:ext cx="82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9"/>
          <p:cNvSpPr/>
          <p:nvPr/>
        </p:nvSpPr>
        <p:spPr>
          <a:xfrm flipH="1" flipV="1">
            <a:off x="6084720" y="1628280"/>
            <a:ext cx="216000" cy="12956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8153280" y="1647720"/>
            <a:ext cx="9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en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1"/>
          <p:cNvSpPr/>
          <p:nvPr/>
        </p:nvSpPr>
        <p:spPr>
          <a:xfrm>
            <a:off x="7290000" y="4240080"/>
            <a:ext cx="1488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Espect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04:42:52Z</dcterms:created>
  <dc:creator>Sebita</dc:creator>
  <dc:description/>
  <dc:language>en-US</dc:language>
  <cp:lastModifiedBy> </cp:lastModifiedBy>
  <dcterms:modified xsi:type="dcterms:W3CDTF">2008-09-10T15:29:15Z</dcterms:modified>
  <cp:revision>47</cp:revision>
  <dc:subject/>
  <dc:title>EL42A  CIRCUITOS ELECTRÓNICOS</dc:title>
</cp:coreProperties>
</file>