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5AC-1463-42C5-B122-8937A6CA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300-A183-469F-8636-C2B49AE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D8E-79F7-492E-8E07-5F15D1FA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E4C-6584-40EB-A7BB-E9F81408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420-D469-4CE5-8006-F1504ADB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7E0-B91E-4D60-A685-A877D0B5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F94-FD03-40A4-B081-4D98C936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696-0AE4-47FF-A208-EBB5BF6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F53-6ED1-411F-B19A-5178C5EE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0CB-AE6F-41C0-A88C-1EE4C769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1F7-6BFD-4675-BE2E-E8B05E2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1D3-F5EF-450D-A214-4DE701FF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2B77-5988-4A9C-9E6F-25F6671452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66"/>
                </a:solidFill>
                <a:latin typeface="Arial"/>
              </a:rPr>
              <a:t>EL42A </a:t>
            </a:r>
            <a:br>
              <a:rPr sz="3800"/>
            </a:br>
            <a:r>
              <a:rPr b="1" lang="es-ES" sz="3800" spc="-1" strike="noStrike">
                <a:solidFill>
                  <a:srgbClr val="000066"/>
                </a:solidFill>
                <a:latin typeface="Arial"/>
              </a:rPr>
              <a:t>CIRCUITOS ELECTRÓNIC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0920" y="3284640"/>
            <a:ext cx="45356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66"/>
                </a:solidFill>
                <a:latin typeface="Arial"/>
              </a:rPr>
              <a:t>CLASE AUXILIAR 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es de potencia con BJ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59120" y="4529160"/>
            <a:ext cx="51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103480" y="45291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42920" y="2205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structor: P. Parada, Auxiliares: E. Madrid , D.Clavijo, Ayudantes: R. Rojas, P. Castillo, P. Pérez, A. Becer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7165080" y="33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.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652-85B1-4DE7-B31B-933469EE4A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450-F2BE-4623-8025-D7F0AEFB8C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8"/>
          <p:cNvPicPr/>
          <p:nvPr/>
        </p:nvPicPr>
        <p:blipFill>
          <a:blip r:embed="rId1"/>
          <a:stretch/>
        </p:blipFill>
        <p:spPr>
          <a:xfrm>
            <a:off x="1403280" y="907920"/>
            <a:ext cx="65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49B-757F-4444-BDF9-AD9B49EF39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"/>
          <p:cNvPicPr/>
          <p:nvPr/>
        </p:nvPicPr>
        <p:blipFill>
          <a:blip r:embed="rId1"/>
          <a:stretch/>
        </p:blipFill>
        <p:spPr>
          <a:xfrm>
            <a:off x="395280" y="1413000"/>
            <a:ext cx="7993080" cy="432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752200" y="57531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824E-AAEA-4B36-A327-ED4090E62E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  Darl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0"/>
          <p:cNvPicPr/>
          <p:nvPr/>
        </p:nvPicPr>
        <p:blipFill>
          <a:blip r:embed="rId1"/>
          <a:stretch/>
        </p:blipFill>
        <p:spPr>
          <a:xfrm>
            <a:off x="468360" y="1197000"/>
            <a:ext cx="792000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2535480" y="546588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B828-79DC-4ADE-88F3-1F494481CD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676-A3AD-4E03-BB37-F79AB9DAE2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Ejercici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23080" y="21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etermine la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e transfer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ircuito de la fig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3"/>
          <p:cNvPicPr/>
          <p:nvPr/>
        </p:nvPicPr>
        <p:blipFill>
          <a:blip r:embed="rId1"/>
          <a:stretch/>
        </p:blipFill>
        <p:spPr>
          <a:xfrm>
            <a:off x="2843280" y="260280"/>
            <a:ext cx="60498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0C1-58A5-4B72-86E3-CEBAEAD8C0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Ejercici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4920" y="595008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olución: 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2"/>
          <p:cNvPicPr/>
          <p:nvPr/>
        </p:nvPicPr>
        <p:blipFill>
          <a:blip r:embed="rId1"/>
          <a:stretch/>
        </p:blipFill>
        <p:spPr>
          <a:xfrm>
            <a:off x="539640" y="1125360"/>
            <a:ext cx="7961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13D-2E73-45BC-997F-06B63C46E4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A77A-BD0F-4000-B7A4-CACEE883C1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13800" cy="5832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342880" y="6165720"/>
            <a:ext cx="51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Fuente: http://sound.westhost.com/project68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029240" y="20808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 de audio 300 Watts RMS Clas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17D2-3E98-456F-BB5C-5F24F11340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48836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32640" y="260280"/>
            <a:ext cx="83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mplificador de audio 56 W integrado cuasi-compleme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13800" y="4653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LM38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04560" y="50324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B1F5-71AA-4652-B439-0D073860C1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3792-2235-44F0-AB15-EB1F9FB17A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512280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39080" y="1865160"/>
            <a:ext cx="323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nsistores comple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NPN      2N3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NP      2N3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4A3-7360-4CEF-9115-76EF9D4560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2"/>
          <p:cNvPicPr/>
          <p:nvPr/>
        </p:nvPicPr>
        <p:blipFill>
          <a:blip r:embed="rId1"/>
          <a:stretch/>
        </p:blipFill>
        <p:spPr>
          <a:xfrm>
            <a:off x="468360" y="1125360"/>
            <a:ext cx="7921440" cy="4321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7"/>
          <p:cNvSpPr/>
          <p:nvPr/>
        </p:nvSpPr>
        <p:spPr>
          <a:xfrm>
            <a:off x="3133080" y="551664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A1CA-9102-4094-A262-117DA96D6B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Amplificador push-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1"/>
          <p:cNvPicPr/>
          <p:nvPr/>
        </p:nvPicPr>
        <p:blipFill>
          <a:blip r:embed="rId1"/>
          <a:stretch/>
        </p:blipFill>
        <p:spPr>
          <a:xfrm>
            <a:off x="250920" y="836640"/>
            <a:ext cx="734364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3"/>
          <p:cNvPicPr/>
          <p:nvPr/>
        </p:nvPicPr>
        <p:blipFill>
          <a:blip r:embed="rId2"/>
          <a:stretch/>
        </p:blipFill>
        <p:spPr>
          <a:xfrm>
            <a:off x="250920" y="3716280"/>
            <a:ext cx="7200720" cy="259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525800" y="184464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310880" y="429264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spect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H="1">
            <a:off x="6012000" y="981000"/>
            <a:ext cx="79200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734880" y="836640"/>
            <a:ext cx="10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713640" y="1289160"/>
            <a:ext cx="82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6012000" y="148428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477C-D5F2-41EE-A1BF-21811A6901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Arial"/>
              </a:rPr>
              <a:t>Estruc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Configuración push-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Amplificador Clas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Amplificador Clase AB con Darl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Ejercicio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Ejemplos de amplific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6181-D4D5-4B13-99A6-54E5DF48B1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4"/>
          <p:cNvPicPr/>
          <p:nvPr/>
        </p:nvPicPr>
        <p:blipFill>
          <a:blip r:embed="rId1"/>
          <a:stretch/>
        </p:blipFill>
        <p:spPr>
          <a:xfrm>
            <a:off x="3059280" y="1052640"/>
            <a:ext cx="5472000" cy="5132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307440" y="1504800"/>
            <a:ext cx="323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nsistores comple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NPN  2N3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NP  2N3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349-5FF3-40CD-9A90-B677B70082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5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468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2609280" y="582444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8331-98D1-4CD7-B2A4-F583E0341F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Amplificador Clase 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6"/>
          <p:cNvPicPr/>
          <p:nvPr/>
        </p:nvPicPr>
        <p:blipFill>
          <a:blip r:embed="rId1"/>
          <a:stretch/>
        </p:blipFill>
        <p:spPr>
          <a:xfrm>
            <a:off x="250920" y="1052640"/>
            <a:ext cx="7920000" cy="27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7"/>
          <p:cNvPicPr/>
          <p:nvPr/>
        </p:nvPicPr>
        <p:blipFill>
          <a:blip r:embed="rId2"/>
          <a:stretch/>
        </p:blipFill>
        <p:spPr>
          <a:xfrm>
            <a:off x="324000" y="3860640"/>
            <a:ext cx="7848360" cy="252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5"/>
          <p:cNvSpPr/>
          <p:nvPr/>
        </p:nvSpPr>
        <p:spPr>
          <a:xfrm>
            <a:off x="4429800" y="1197000"/>
            <a:ext cx="10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H="1">
            <a:off x="3995640" y="1413000"/>
            <a:ext cx="50328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6013440" y="2924280"/>
            <a:ext cx="82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 flipH="1" flipV="1">
            <a:off x="6084720" y="1628280"/>
            <a:ext cx="216000" cy="12956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8153280" y="1647720"/>
            <a:ext cx="9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7290000" y="4240080"/>
            <a:ext cx="148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Espect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4:42:52Z</dcterms:created>
  <dc:creator>Sebita</dc:creator>
  <dc:description/>
  <dc:language>en-US</dc:language>
  <cp:lastModifiedBy> </cp:lastModifiedBy>
  <dcterms:modified xsi:type="dcterms:W3CDTF">2008-09-10T15:29:15Z</dcterms:modified>
  <cp:revision>47</cp:revision>
  <dc:subject/>
  <dc:title>EL42A  CIRCUITOS ELECTRÓNICOS</dc:title>
</cp:coreProperties>
</file>