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9.wmf" ContentType="image/x-wmf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0.png" ContentType="image/png"/>
  <Override PartName="/ppt/media/image48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fld id="{D03941B7-EEF7-4E2B-B4F0-C400B38DFC6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933-50E8-4506-A87C-35593FF8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66444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457-42F9-473C-BF6D-14FD127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36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F1E-6375-4707-8417-F6C4A0D3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828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828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633-E2BD-49FA-8238-C3144710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235-E1CC-4127-81E6-8B9E587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8C1-45BA-495D-89A2-6990E214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A07-E360-4882-8429-7ECD12EF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2A8-43BF-4224-ABCD-3D140373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-116280"/>
            <a:ext cx="8837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744-5A83-4109-A5D8-FEEBFE4C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B2F-CFD9-476A-8343-8843977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36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246-3A8B-42B5-A2A8-8DE6F878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3B0-265E-476D-BEF3-7D81886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fld id="{5001472D-1BC9-40A3-B8C9-9DD905DF7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2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5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ature.com/nature/journal/v445/n7127/pdf/nature05452.pdf" TargetMode="External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35240"/>
            <a:ext cx="7772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hysics of Electronic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3. Collection of Particles in Gases and Solid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814320"/>
                <a:tab algn="l" pos="1173240"/>
                <a:tab algn="l" pos="1531800"/>
                <a:tab algn="l" pos="1890720"/>
                <a:tab algn="l" pos="2249640"/>
                <a:tab algn="l" pos="2608200"/>
                <a:tab algn="l" pos="2967120"/>
                <a:tab algn="l" pos="3325680"/>
                <a:tab algn="l" pos="3684600"/>
                <a:tab algn="l" pos="4043520"/>
                <a:tab algn="l" pos="4402080"/>
                <a:tab algn="l" pos="4761000"/>
                <a:tab algn="l" pos="5119560"/>
                <a:tab algn="l" pos="5478480"/>
                <a:tab algn="l" pos="5837400"/>
                <a:tab algn="l" pos="6195960"/>
                <a:tab algn="l" pos="6554880"/>
                <a:tab algn="l" pos="6913440"/>
                <a:tab algn="l" pos="7272360"/>
                <a:tab algn="l" pos="763128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814320"/>
                <a:tab algn="l" pos="1173240"/>
                <a:tab algn="l" pos="1531800"/>
                <a:tab algn="l" pos="1890720"/>
                <a:tab algn="l" pos="2249640"/>
                <a:tab algn="l" pos="2608200"/>
                <a:tab algn="l" pos="2967120"/>
                <a:tab algn="l" pos="3325680"/>
                <a:tab algn="l" pos="3684600"/>
                <a:tab algn="l" pos="4043520"/>
                <a:tab algn="l" pos="4402080"/>
                <a:tab algn="l" pos="4761000"/>
                <a:tab algn="l" pos="5119560"/>
                <a:tab algn="l" pos="5478480"/>
                <a:tab algn="l" pos="5837400"/>
                <a:tab algn="l" pos="6195960"/>
                <a:tab algn="l" pos="6554880"/>
                <a:tab algn="l" pos="6913440"/>
                <a:tab algn="l" pos="7272360"/>
                <a:tab algn="l" pos="763128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uly – December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rticles in a shell of thickness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gives the fraction of molecules (per unit volume) in a given speed range (per unit range of spe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98720" y="2155680"/>
            <a:ext cx="2219040" cy="398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77920" y="2584440"/>
            <a:ext cx="1876320" cy="495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06600" y="2158920"/>
            <a:ext cx="239760" cy="862200"/>
          </a:xfrm>
          <a:custGeom>
            <a:avLst/>
            <a:gdLst>
              <a:gd name="textAreaLeft" fmla="*/ 0 w 239760"/>
              <a:gd name="textAreaRight" fmla="*/ 86400 w 23976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2475000"/>
            <a:ext cx="424080" cy="237960"/>
          </a:xfrm>
          <a:prstGeom prst="rightArrow">
            <a:avLst>
              <a:gd name="adj1" fmla="val 50000"/>
              <a:gd name="adj2" fmla="val 4455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141800" y="2120760"/>
            <a:ext cx="3662280" cy="80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0" t="12380" r="0" b="1380"/>
          <a:stretch/>
        </p:blipFill>
        <p:spPr>
          <a:xfrm>
            <a:off x="2422440" y="3971880"/>
            <a:ext cx="4514760" cy="2838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82800" y="6280200"/>
            <a:ext cx="18018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2600" y="4297320"/>
            <a:ext cx="2095200" cy="1940040"/>
          </a:xfrm>
          <a:custGeom>
            <a:avLst/>
            <a:gdLst/>
            <a:ahLst/>
            <a:rect l="l" t="t" r="r" b="b"/>
            <a:pathLst>
              <a:path w="1320" h="1222">
                <a:moveTo>
                  <a:pt x="0" y="1207"/>
                </a:moveTo>
                <a:lnTo>
                  <a:pt x="1320" y="1222"/>
                </a:lnTo>
                <a:lnTo>
                  <a:pt x="1320" y="835"/>
                </a:lnTo>
                <a:lnTo>
                  <a:pt x="1281" y="799"/>
                </a:lnTo>
                <a:lnTo>
                  <a:pt x="1245" y="761"/>
                </a:lnTo>
                <a:lnTo>
                  <a:pt x="1197" y="701"/>
                </a:lnTo>
                <a:lnTo>
                  <a:pt x="1166" y="655"/>
                </a:lnTo>
                <a:lnTo>
                  <a:pt x="1120" y="591"/>
                </a:lnTo>
                <a:lnTo>
                  <a:pt x="1075" y="511"/>
                </a:lnTo>
                <a:lnTo>
                  <a:pt x="1041" y="449"/>
                </a:lnTo>
                <a:lnTo>
                  <a:pt x="1005" y="375"/>
                </a:lnTo>
                <a:lnTo>
                  <a:pt x="974" y="303"/>
                </a:lnTo>
                <a:lnTo>
                  <a:pt x="943" y="235"/>
                </a:lnTo>
                <a:lnTo>
                  <a:pt x="921" y="187"/>
                </a:lnTo>
                <a:lnTo>
                  <a:pt x="890" y="130"/>
                </a:lnTo>
                <a:lnTo>
                  <a:pt x="859" y="70"/>
                </a:lnTo>
                <a:lnTo>
                  <a:pt x="840" y="36"/>
                </a:lnTo>
                <a:lnTo>
                  <a:pt x="825" y="19"/>
                </a:lnTo>
                <a:lnTo>
                  <a:pt x="804" y="3"/>
                </a:lnTo>
                <a:lnTo>
                  <a:pt x="775" y="0"/>
                </a:lnTo>
                <a:lnTo>
                  <a:pt x="760" y="0"/>
                </a:lnTo>
                <a:lnTo>
                  <a:pt x="744" y="5"/>
                </a:lnTo>
                <a:lnTo>
                  <a:pt x="720" y="24"/>
                </a:lnTo>
                <a:lnTo>
                  <a:pt x="691" y="46"/>
                </a:lnTo>
                <a:lnTo>
                  <a:pt x="655" y="96"/>
                </a:lnTo>
                <a:lnTo>
                  <a:pt x="636" y="127"/>
                </a:lnTo>
                <a:lnTo>
                  <a:pt x="609" y="178"/>
                </a:lnTo>
                <a:lnTo>
                  <a:pt x="590" y="223"/>
                </a:lnTo>
                <a:lnTo>
                  <a:pt x="568" y="281"/>
                </a:lnTo>
                <a:lnTo>
                  <a:pt x="552" y="331"/>
                </a:lnTo>
                <a:lnTo>
                  <a:pt x="535" y="384"/>
                </a:lnTo>
                <a:lnTo>
                  <a:pt x="513" y="444"/>
                </a:lnTo>
                <a:lnTo>
                  <a:pt x="499" y="490"/>
                </a:lnTo>
                <a:lnTo>
                  <a:pt x="477" y="571"/>
                </a:lnTo>
                <a:lnTo>
                  <a:pt x="446" y="646"/>
                </a:lnTo>
                <a:lnTo>
                  <a:pt x="417" y="720"/>
                </a:lnTo>
                <a:lnTo>
                  <a:pt x="400" y="771"/>
                </a:lnTo>
                <a:lnTo>
                  <a:pt x="376" y="821"/>
                </a:lnTo>
                <a:lnTo>
                  <a:pt x="357" y="864"/>
                </a:lnTo>
                <a:lnTo>
                  <a:pt x="314" y="943"/>
                </a:lnTo>
                <a:lnTo>
                  <a:pt x="283" y="996"/>
                </a:lnTo>
                <a:lnTo>
                  <a:pt x="252" y="1042"/>
                </a:lnTo>
                <a:lnTo>
                  <a:pt x="220" y="1075"/>
                </a:lnTo>
                <a:lnTo>
                  <a:pt x="184" y="1107"/>
                </a:lnTo>
                <a:lnTo>
                  <a:pt x="158" y="1131"/>
                </a:lnTo>
                <a:lnTo>
                  <a:pt x="117" y="1157"/>
                </a:lnTo>
                <a:lnTo>
                  <a:pt x="88" y="1171"/>
                </a:lnTo>
                <a:lnTo>
                  <a:pt x="52" y="1183"/>
                </a:lnTo>
                <a:lnTo>
                  <a:pt x="21" y="1198"/>
                </a:lnTo>
                <a:lnTo>
                  <a:pt x="0" y="1207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363560" y="4724280"/>
            <a:ext cx="809640" cy="581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9400" y="4208400"/>
            <a:ext cx="19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Fraction of molecules with speed less than 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92760" y="6496200"/>
            <a:ext cx="479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67120" y="4022640"/>
            <a:ext cx="479520" cy="2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4000" y="2144880"/>
            <a:ext cx="3598920" cy="84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557520" y="1989000"/>
            <a:ext cx="4397040" cy="927360"/>
            <a:chOff x="3557520" y="1989000"/>
            <a:chExt cx="4397040" cy="9273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557520" y="1989000"/>
              <a:ext cx="234360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rcRect l="5528" t="0" r="0" b="0"/>
            <a:stretch/>
          </p:blipFill>
          <p:spPr>
            <a:xfrm>
              <a:off x="5941080" y="2241000"/>
              <a:ext cx="2013480" cy="64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3"/>
          <a:srcRect l="0" t="12380" r="0" b="1380"/>
          <a:stretch/>
        </p:blipFill>
        <p:spPr>
          <a:xfrm>
            <a:off x="2422440" y="3967200"/>
            <a:ext cx="4514760" cy="2838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36880" y="6272280"/>
            <a:ext cx="141948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79840" y="6272280"/>
            <a:ext cx="108900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48120" y="4314960"/>
            <a:ext cx="285840" cy="1900080"/>
          </a:xfrm>
          <a:custGeom>
            <a:avLst/>
            <a:gdLst/>
            <a:ahLst/>
            <a:rect l="l" t="t" r="r" b="b"/>
            <a:pathLst>
              <a:path w="180" h="1206">
                <a:moveTo>
                  <a:pt x="18" y="1200"/>
                </a:moveTo>
                <a:lnTo>
                  <a:pt x="180" y="1203"/>
                </a:lnTo>
                <a:lnTo>
                  <a:pt x="174" y="48"/>
                </a:lnTo>
                <a:lnTo>
                  <a:pt x="153" y="21"/>
                </a:lnTo>
                <a:lnTo>
                  <a:pt x="129" y="6"/>
                </a:lnTo>
                <a:lnTo>
                  <a:pt x="105" y="0"/>
                </a:lnTo>
                <a:lnTo>
                  <a:pt x="78" y="9"/>
                </a:lnTo>
                <a:lnTo>
                  <a:pt x="57" y="21"/>
                </a:lnTo>
                <a:lnTo>
                  <a:pt x="33" y="39"/>
                </a:lnTo>
                <a:lnTo>
                  <a:pt x="0" y="1206"/>
                </a:lnTo>
                <a:lnTo>
                  <a:pt x="18" y="1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robable veloc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S 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98960" y="4284720"/>
            <a:ext cx="15840" cy="194616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8640" y="3994200"/>
            <a:ext cx="3477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14600" y="5457960"/>
            <a:ext cx="162000" cy="747720"/>
          </a:xfrm>
          <a:custGeom>
            <a:avLst/>
            <a:gdLst/>
            <a:ahLst/>
            <a:rect l="l" t="t" r="r" b="b"/>
            <a:pathLst>
              <a:path w="102" h="477">
                <a:moveTo>
                  <a:pt x="18" y="468"/>
                </a:moveTo>
                <a:lnTo>
                  <a:pt x="102" y="468"/>
                </a:lnTo>
                <a:lnTo>
                  <a:pt x="99" y="0"/>
                </a:lnTo>
                <a:lnTo>
                  <a:pt x="78" y="48"/>
                </a:lnTo>
                <a:lnTo>
                  <a:pt x="54" y="111"/>
                </a:lnTo>
                <a:lnTo>
                  <a:pt x="21" y="171"/>
                </a:lnTo>
                <a:lnTo>
                  <a:pt x="0" y="222"/>
                </a:lnTo>
                <a:lnTo>
                  <a:pt x="0" y="477"/>
                </a:lnTo>
                <a:lnTo>
                  <a:pt x="18" y="4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0680" y="5624640"/>
            <a:ext cx="147600" cy="600120"/>
          </a:xfrm>
          <a:custGeom>
            <a:avLst/>
            <a:gdLst/>
            <a:ahLst/>
            <a:rect l="l" t="t" r="r" b="b"/>
            <a:pathLst>
              <a:path w="93" h="378">
                <a:moveTo>
                  <a:pt x="27" y="378"/>
                </a:moveTo>
                <a:lnTo>
                  <a:pt x="93" y="378"/>
                </a:lnTo>
                <a:lnTo>
                  <a:pt x="78" y="27"/>
                </a:lnTo>
                <a:lnTo>
                  <a:pt x="60" y="12"/>
                </a:lnTo>
                <a:lnTo>
                  <a:pt x="39" y="0"/>
                </a:lnTo>
                <a:lnTo>
                  <a:pt x="0" y="12"/>
                </a:lnTo>
                <a:lnTo>
                  <a:pt x="27" y="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rcRect l="0" t="0" r="6494" b="0"/>
          <a:stretch/>
        </p:blipFill>
        <p:spPr>
          <a:xfrm>
            <a:off x="4010040" y="3998880"/>
            <a:ext cx="208080" cy="250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4226040" y="4436640"/>
            <a:ext cx="15840" cy="180036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156200" y="6289560"/>
            <a:ext cx="172800" cy="247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235320" y="3060720"/>
            <a:ext cx="2700360" cy="8874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148440" y="1576440"/>
            <a:ext cx="1809720" cy="433440"/>
            <a:chOff x="6148440" y="1576440"/>
            <a:chExt cx="1809720" cy="433440"/>
          </a:xfrm>
        </p:grpSpPr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>
              <a:off x="6197760" y="1576440"/>
              <a:ext cx="1760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8"/>
            <a:srcRect l="0" t="0" r="6494" b="0"/>
            <a:stretch/>
          </p:blipFill>
          <p:spPr>
            <a:xfrm>
              <a:off x="6148440" y="1643040"/>
              <a:ext cx="28872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411960" y="16002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984280" y="335916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435720" y="3382920"/>
            <a:ext cx="2117520" cy="444240"/>
            <a:chOff x="6435720" y="3382920"/>
            <a:chExt cx="2117520" cy="444240"/>
          </a:xfrm>
        </p:grpSpPr>
        <p:pic>
          <p:nvPicPr>
            <p:cNvPr id="185" name="" descr=""/>
            <p:cNvPicPr/>
            <p:nvPr/>
          </p:nvPicPr>
          <p:blipFill>
            <a:blip r:embed="rId9"/>
            <a:srcRect l="0" t="0" r="64241" b="0"/>
            <a:stretch/>
          </p:blipFill>
          <p:spPr>
            <a:xfrm>
              <a:off x="6435720" y="3382920"/>
              <a:ext cx="120708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0"/>
            <a:srcRect l="73648" t="0" r="0" b="0"/>
            <a:stretch/>
          </p:blipFill>
          <p:spPr>
            <a:xfrm>
              <a:off x="7663320" y="3428640"/>
              <a:ext cx="88992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 flipV="1">
            <a:off x="4378320" y="4660920"/>
            <a:ext cx="3240" cy="158904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1"/>
          <a:srcRect l="0" t="38421" r="88125" b="0"/>
          <a:stretch/>
        </p:blipFill>
        <p:spPr>
          <a:xfrm>
            <a:off x="4340160" y="6297480"/>
            <a:ext cx="480960" cy="29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nergy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energy is distributed in the 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icles in the ensemble we have considered so far only have kinetic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ing in  the expression for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                   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93880" y="2536920"/>
            <a:ext cx="1282680" cy="376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2400" y="24606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757600" y="2467080"/>
            <a:ext cx="2673360" cy="582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909800" y="3460680"/>
            <a:ext cx="3681360" cy="58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541520" y="4086360"/>
            <a:ext cx="1771560" cy="377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076400" y="4610160"/>
            <a:ext cx="3101760" cy="592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8640" y="4486320"/>
            <a:ext cx="3228840" cy="84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772160" y="4102200"/>
            <a:ext cx="4249440" cy="2379240"/>
            <a:chOff x="4772160" y="4102200"/>
            <a:chExt cx="4249440" cy="2379240"/>
          </a:xfrm>
        </p:grpSpPr>
        <p:grpSp>
          <p:nvGrpSpPr>
            <p:cNvPr id="200" name=""/>
            <p:cNvGrpSpPr/>
            <p:nvPr/>
          </p:nvGrpSpPr>
          <p:grpSpPr>
            <a:xfrm>
              <a:off x="4772160" y="4102200"/>
              <a:ext cx="4249440" cy="2379240"/>
              <a:chOff x="4772160" y="4102200"/>
              <a:chExt cx="4249440" cy="2379240"/>
            </a:xfrm>
          </p:grpSpPr>
          <p:pic>
            <p:nvPicPr>
              <p:cNvPr id="2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72160" y="4262040"/>
                <a:ext cx="4249440" cy="20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5547960" y="4102200"/>
                <a:ext cx="3473280" cy="524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24240" y="6127920"/>
                <a:ext cx="266040" cy="35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4" name="" descr=""/>
            <p:cNvPicPr/>
            <p:nvPr/>
          </p:nvPicPr>
          <p:blipFill>
            <a:blip r:embed="rId7"/>
            <a:stretch/>
          </p:blipFill>
          <p:spPr>
            <a:xfrm>
              <a:off x="5680080" y="6022800"/>
              <a:ext cx="84456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770040" y="5432400"/>
            <a:ext cx="39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density of the particles is independent of the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energy is distributed in the 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consider that the particles in the ensemble not only have KE but also PE (gravitational or electrical fiel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E depends on the position so does the density of the ensem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57520" y="2916360"/>
            <a:ext cx="5047920" cy="49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1035000" y="4492800"/>
          <a:ext cx="284796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5000" y="4492800"/>
                    <a:ext cx="28479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"/>
          <p:cNvGrpSpPr/>
          <p:nvPr/>
        </p:nvGrpSpPr>
        <p:grpSpPr>
          <a:xfrm>
            <a:off x="4573440" y="3956040"/>
            <a:ext cx="4569120" cy="2900160"/>
            <a:chOff x="4573440" y="3956040"/>
            <a:chExt cx="4569120" cy="2900160"/>
          </a:xfrm>
        </p:grpSpPr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4573440" y="4003200"/>
              <a:ext cx="456912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530320" y="3956040"/>
              <a:ext cx="2434320" cy="55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05240" y="2865600"/>
            <a:ext cx="2924280" cy="34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7124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35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6708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670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087880" y="3321000"/>
            <a:ext cx="3282840" cy="314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05240" y="2863800"/>
            <a:ext cx="2924280" cy="343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4300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6672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67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344280" y="3104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51920" y="923400"/>
            <a:ext cx="8837640" cy="58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  reduces to the Boltzman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87880" y="3321000"/>
            <a:ext cx="3282840" cy="314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0600" y="43624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33320" y="4179960"/>
            <a:ext cx="4056120" cy="765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205240" y="2863800"/>
            <a:ext cx="2924280" cy="34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407960" y="5010120"/>
            <a:ext cx="2859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476360"/>
                <a:tab algn="l" pos="1835280"/>
                <a:tab algn="l" pos="2193840"/>
                <a:tab algn="l" pos="2552760"/>
                <a:tab algn="l" pos="2911320"/>
                <a:tab algn="l" pos="3270240"/>
                <a:tab algn="l" pos="3629160"/>
                <a:tab algn="l" pos="3987720"/>
                <a:tab algn="l" pos="4346640"/>
                <a:tab algn="l" pos="4705200"/>
                <a:tab algn="l" pos="5064120"/>
                <a:tab algn="l" pos="5423040"/>
                <a:tab algn="l" pos="5781600"/>
                <a:tab algn="l" pos="6140520"/>
                <a:tab algn="l" pos="6499080"/>
                <a:tab algn="l" pos="6858000"/>
                <a:tab algn="l" pos="7218360"/>
                <a:tab algn="l" pos="7575480"/>
                <a:tab algn="l" pos="7934400"/>
                <a:tab algn="l" pos="829296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49840" y="4246560"/>
            <a:ext cx="241200" cy="1100160"/>
          </a:xfrm>
          <a:custGeom>
            <a:avLst/>
            <a:gdLst>
              <a:gd name="textAreaLeft" fmla="*/ 0 w 241200"/>
              <a:gd name="textAreaRight" fmla="*/ 87120 w 241200"/>
              <a:gd name="textAreaTop" fmla="*/ 28440 h 1100160"/>
              <a:gd name="textAreaBottom" fmla="*/ 107172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000">
            <a:solidFill>
              <a:srgbClr val="00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0600" y="43624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57640" y="46702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707080" y="4594320"/>
            <a:ext cx="2637000" cy="376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840280" y="4952880"/>
            <a:ext cx="2490840" cy="427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2354400" y="6219720"/>
            <a:ext cx="1977840" cy="379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413240" y="633420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6224760"/>
            <a:ext cx="10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300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6672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667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6344280" y="3104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8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defined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33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an be found via norm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1752480" cy="4014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2836800" y="2743200"/>
            <a:ext cx="2809800" cy="760320"/>
            <a:chOff x="2836800" y="2743200"/>
            <a:chExt cx="2809800" cy="76032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2836800" y="2743200"/>
              <a:ext cx="280980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883960" y="2793600"/>
              <a:ext cx="2654280" cy="655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181480" y="4038480"/>
            <a:ext cx="38862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for T = 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duces to a step function. It means that all the states with energies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ccupied and those above, are empty. When T &gt; 0, some states below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emptied and some are occupied due to thermal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rcRect l="3943" t="-1363" r="14474" b="1969"/>
          <a:stretch/>
        </p:blipFill>
        <p:spPr>
          <a:xfrm>
            <a:off x="76320" y="3470400"/>
            <a:ext cx="5029200" cy="33876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5240" y="3436920"/>
            <a:ext cx="149832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3600" y="3406680"/>
            <a:ext cx="97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’s Dem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mon that can violate 2nd. law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2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really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2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experiment see the following arti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nature.com/nature/journal/v445/n7127/pdf/nature05452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A molecular information ratchet” by V. Serre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031760" y="1695600"/>
            <a:ext cx="642780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tents overview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40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hydrogen a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exclusion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ies of classical p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particles obeying the exclusion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 polar coordin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68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solution by separation of variables assu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=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1549440"/>
            <a:ext cx="2286000" cy="590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66560" y="2666880"/>
            <a:ext cx="8413920" cy="794520"/>
            <a:chOff x="466560" y="2666880"/>
            <a:chExt cx="8413920" cy="79452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11205" t="0" r="2518" b="47523"/>
            <a:stretch/>
          </p:blipFill>
          <p:spPr>
            <a:xfrm>
              <a:off x="1112760" y="2666880"/>
              <a:ext cx="5102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46120" y="3092400"/>
              <a:ext cx="174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nl-NL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6560" y="3092400"/>
              <a:ext cx="295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2520" y="2738520"/>
              <a:ext cx="136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lang="nl-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4120" y="3092400"/>
              <a:ext cx="235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lang="nl-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5200" y="3092400"/>
              <a:ext cx="22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7480" y="2743200"/>
              <a:ext cx="128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84480" y="2951280"/>
              <a:ext cx="174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nl-NL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310080" y="2739960"/>
              <a:ext cx="2570400" cy="721440"/>
              <a:chOff x="6310080" y="2739960"/>
              <a:chExt cx="2570400" cy="721440"/>
            </a:xfrm>
          </p:grpSpPr>
          <p:pic>
            <p:nvPicPr>
              <p:cNvPr id="65" name="" descr=""/>
              <p:cNvPicPr/>
              <p:nvPr/>
            </p:nvPicPr>
            <p:blipFill>
              <a:blip r:embed="rId3"/>
              <a:srcRect l="15447" t="51210" r="51081" b="0"/>
              <a:stretch/>
            </p:blipFill>
            <p:spPr>
              <a:xfrm>
                <a:off x="6900840" y="2739960"/>
                <a:ext cx="1979640" cy="71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" name=""/>
              <p:cNvGrpSpPr/>
              <p:nvPr/>
            </p:nvGrpSpPr>
            <p:grpSpPr>
              <a:xfrm>
                <a:off x="6310080" y="2806560"/>
                <a:ext cx="538560" cy="654840"/>
                <a:chOff x="6310080" y="2806560"/>
                <a:chExt cx="538560" cy="654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521760" y="2806560"/>
                  <a:ext cx="32688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i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524640" y="3084480"/>
                  <a:ext cx="2952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620040" y="3156120"/>
                  <a:ext cx="21708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ħ</a:t>
                  </a:r>
                  <a:r>
                    <a:rPr b="1" lang="nl-N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310080" y="2949480"/>
                  <a:ext cx="14544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597720" y="3227400"/>
                  <a:ext cx="745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484360" y="4673520"/>
            <a:ext cx="4176720" cy="70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340000" y="5433840"/>
            <a:ext cx="4435560" cy="1432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23920" y="5530680"/>
            <a:ext cx="860400" cy="384480"/>
          </a:xfrm>
          <a:custGeom>
            <a:avLst/>
            <a:gdLst>
              <a:gd name="textAreaLeft" fmla="*/ 107280 w 860400"/>
              <a:gd name="textAreaRight" fmla="*/ 753120 w 860400"/>
              <a:gd name="textAreaTop" fmla="*/ 96120 h 384480"/>
              <a:gd name="textAreaBottom" fmla="*/ 288360 h 38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03480" y="4749840"/>
            <a:ext cx="210960" cy="1932120"/>
          </a:xfrm>
          <a:custGeom>
            <a:avLst/>
            <a:gdLst>
              <a:gd name="textAreaLeft" fmla="*/ 135000 w 210960"/>
              <a:gd name="textAreaRight" fmla="*/ 211320 w 210960"/>
              <a:gd name="textAreaTop" fmla="*/ 50040 h 1932120"/>
              <a:gd name="textAreaBottom" fmla="*/ 1882080 h 193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imuth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l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w.v. and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24080" y="1549440"/>
            <a:ext cx="2286000" cy="59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57336" t="25372" r="5960" b="20484"/>
          <a:stretch/>
        </p:blipFill>
        <p:spPr>
          <a:xfrm>
            <a:off x="1709640" y="2629080"/>
            <a:ext cx="1446480" cy="502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550880" y="3657600"/>
            <a:ext cx="2344680" cy="52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605480" y="3681360"/>
            <a:ext cx="4014720" cy="380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rcRect l="0" t="8113" r="0" b="12738"/>
          <a:stretch/>
        </p:blipFill>
        <p:spPr>
          <a:xfrm>
            <a:off x="1560600" y="4646520"/>
            <a:ext cx="2628720" cy="65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572000" y="4729320"/>
            <a:ext cx="2117880" cy="428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60520" y="5805360"/>
            <a:ext cx="35161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038480" y="5611680"/>
            <a:ext cx="510552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moving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und state (level with lowest energy)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286000" cy="59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171960" y="3051000"/>
            <a:ext cx="2678040" cy="7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01720" y="3925800"/>
            <a:ext cx="6121440" cy="2932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69600" y="648648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13560" y="3716280"/>
            <a:ext cx="9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000760" y="4362480"/>
            <a:ext cx="1093680" cy="892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8040" y="37479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probability of finding the electron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pin &amp; Exclusion Principle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xist another quantum number describing the electron in an atom: SPIN number. It represents the rotation of the electron over its own axis. It can be obtained by solving the relativistic 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n electron inan atom is completely specified by 4 quantum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clusion principle says that no 2 electrons can have the same quantum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94200" y="4129200"/>
            <a:ext cx="132696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ssemblies of Classical Particle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gas of N neutral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367000"/>
            <a:ext cx="4267080" cy="381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99680" y="2147760"/>
            <a:ext cx="74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l-NL" sz="2400" spc="-1" strike="noStrike" baseline="-25000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331800" y="2554200"/>
            <a:ext cx="95400" cy="238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14840" y="2109960"/>
            <a:ext cx="928800" cy="54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37080" y="1557360"/>
            <a:ext cx="4518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artic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particles in 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y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 a shell of thickness 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nsity of particles having a sp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density of 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62680" y="3143160"/>
            <a:ext cx="2984400" cy="50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432400" y="4379760"/>
            <a:ext cx="2219400" cy="398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1120" y="6275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particle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378400" y="6126120"/>
            <a:ext cx="323856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ssemblies of Classical Particle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tribution function (distribution of speed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et’s consider collisions inside this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ound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441520"/>
            <a:ext cx="2944800" cy="2019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36440" y="240660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 and reversed coll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conserv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2600" y="2205000"/>
            <a:ext cx="2416320" cy="22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646440" y="2870280"/>
            <a:ext cx="2116080" cy="31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71800" y="3646440"/>
            <a:ext cx="175284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178760" y="3095640"/>
            <a:ext cx="1965240" cy="32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910560" y="2519280"/>
            <a:ext cx="226800" cy="1495440"/>
          </a:xfrm>
          <a:custGeom>
            <a:avLst/>
            <a:gdLst>
              <a:gd name="textAreaLeft" fmla="*/ 0 w 226800"/>
              <a:gd name="textAreaRight" fmla="*/ 81720 w 226800"/>
              <a:gd name="textAreaTop" fmla="*/ 38880 h 1495440"/>
              <a:gd name="textAreaBottom" fmla="*/ 1456560 h 14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600" y="5207040"/>
            <a:ext cx="8321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otal number of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73760" y="5595840"/>
            <a:ext cx="424080" cy="238320"/>
          </a:xfrm>
          <a:prstGeom prst="rightArrow">
            <a:avLst>
              <a:gd name="adj1" fmla="val 50000"/>
              <a:gd name="adj2" fmla="val 4448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071800" y="5667480"/>
            <a:ext cx="4481280" cy="709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26360" y="64753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an 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728880" y="4616280"/>
            <a:ext cx="225360" cy="3546360"/>
          </a:xfrm>
          <a:custGeom>
            <a:avLst/>
            <a:gdLst>
              <a:gd name="textAreaLeft" fmla="*/ 144000 w 225360"/>
              <a:gd name="textAreaRight" fmla="*/ 225720 w 225360"/>
              <a:gd name="textAreaTop" fmla="*/ 92160 h 3546360"/>
              <a:gd name="textAreaBottom" fmla="*/ 3454200 h 35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3344760" y="5105520"/>
            <a:ext cx="2799000" cy="676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40880" y="5854680"/>
            <a:ext cx="2295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½(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M v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) [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exp(-</a:t>
            </a:r>
            <a:r>
              <a:rPr b="0" i="1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04720" y="6189840"/>
            <a:ext cx="77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1960" y="5715000"/>
            <a:ext cx="124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4400" y="5202360"/>
            <a:ext cx="227160" cy="1020600"/>
          </a:xfrm>
          <a:custGeom>
            <a:avLst/>
            <a:gdLst>
              <a:gd name="textAreaLeft" fmla="*/ 0 w 227160"/>
              <a:gd name="textAreaRight" fmla="*/ 82080 w 227160"/>
              <a:gd name="textAreaTop" fmla="*/ 26280 h 1020600"/>
              <a:gd name="textAreaBottom" fmla="*/ 99432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8"/>
          <a:srcRect l="0" t="0" r="0" b="77647"/>
          <a:stretch/>
        </p:blipFill>
        <p:spPr>
          <a:xfrm>
            <a:off x="7426440" y="5184720"/>
            <a:ext cx="1482480" cy="293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rcRect l="0" t="50063" r="0" b="0"/>
          <a:stretch/>
        </p:blipFill>
        <p:spPr>
          <a:xfrm>
            <a:off x="7421400" y="5638680"/>
            <a:ext cx="1482840" cy="6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rticles in a shell of thickness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gives the fraction of molecules (per unit volume) in a given speed range (per unit range of spe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98720" y="2155680"/>
            <a:ext cx="2219040" cy="398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77920" y="2584440"/>
            <a:ext cx="1876320" cy="495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06600" y="2158920"/>
            <a:ext cx="239760" cy="862200"/>
          </a:xfrm>
          <a:custGeom>
            <a:avLst/>
            <a:gdLst>
              <a:gd name="textAreaLeft" fmla="*/ 0 w 239760"/>
              <a:gd name="textAreaRight" fmla="*/ 86400 w 23976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1520" y="2475000"/>
            <a:ext cx="424080" cy="237960"/>
          </a:xfrm>
          <a:prstGeom prst="rightArrow">
            <a:avLst>
              <a:gd name="adj1" fmla="val 50000"/>
              <a:gd name="adj2" fmla="val 4455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141800" y="2120760"/>
            <a:ext cx="3662280" cy="80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415880" y="4875120"/>
            <a:ext cx="582840" cy="27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66920" y="5316480"/>
            <a:ext cx="633240" cy="247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5400000">
            <a:off x="1577160" y="5049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6040" y="3903840"/>
            <a:ext cx="34776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22440" y="3971880"/>
            <a:ext cx="4513320" cy="2884320"/>
            <a:chOff x="2422440" y="3971880"/>
            <a:chExt cx="4513320" cy="2884320"/>
          </a:xfrm>
        </p:grpSpPr>
        <p:pic>
          <p:nvPicPr>
            <p:cNvPr id="142" name="" descr=""/>
            <p:cNvPicPr/>
            <p:nvPr/>
          </p:nvPicPr>
          <p:blipFill>
            <a:blip r:embed="rId6"/>
            <a:srcRect l="0" t="12380" r="0" b="1380"/>
            <a:stretch/>
          </p:blipFill>
          <p:spPr>
            <a:xfrm>
              <a:off x="2422440" y="3971880"/>
              <a:ext cx="4513320" cy="28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36160" y="6275520"/>
              <a:ext cx="141876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3560" y="5478840"/>
              <a:ext cx="79200" cy="739080"/>
            </a:xfrm>
            <a:custGeom>
              <a:avLst/>
              <a:gdLst/>
              <a:ahLst/>
              <a:rect l="l" t="t" r="r" b="b"/>
              <a:pathLst>
                <a:path w="50" h="466">
                  <a:moveTo>
                    <a:pt x="0" y="466"/>
                  </a:moveTo>
                  <a:lnTo>
                    <a:pt x="50" y="466"/>
                  </a:lnTo>
                  <a:lnTo>
                    <a:pt x="50" y="0"/>
                  </a:lnTo>
                  <a:lnTo>
                    <a:pt x="0" y="116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79480" y="6275520"/>
              <a:ext cx="34704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47400" y="4319280"/>
              <a:ext cx="285480" cy="1904040"/>
            </a:xfrm>
            <a:custGeom>
              <a:avLst/>
              <a:gdLst/>
              <a:ahLst/>
              <a:rect l="l" t="t" r="r" b="b"/>
              <a:pathLst>
                <a:path w="180" h="1206">
                  <a:moveTo>
                    <a:pt x="18" y="1200"/>
                  </a:moveTo>
                  <a:lnTo>
                    <a:pt x="180" y="1203"/>
                  </a:lnTo>
                  <a:lnTo>
                    <a:pt x="174" y="48"/>
                  </a:lnTo>
                  <a:lnTo>
                    <a:pt x="153" y="21"/>
                  </a:lnTo>
                  <a:lnTo>
                    <a:pt x="129" y="6"/>
                  </a:lnTo>
                  <a:lnTo>
                    <a:pt x="105" y="0"/>
                  </a:lnTo>
                  <a:lnTo>
                    <a:pt x="78" y="9"/>
                  </a:lnTo>
                  <a:lnTo>
                    <a:pt x="57" y="21"/>
                  </a:lnTo>
                  <a:lnTo>
                    <a:pt x="33" y="39"/>
                  </a:lnTo>
                  <a:lnTo>
                    <a:pt x="0" y="1206"/>
                  </a:lnTo>
                  <a:lnTo>
                    <a:pt x="18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36880" y="5014800"/>
            <a:ext cx="1468440" cy="6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cio</dc:creator>
  <dc:description/>
  <dc:language>en-US</dc:language>
  <cp:lastModifiedBy>Depto. Ing. Electrica</cp:lastModifiedBy>
  <dcterms:modified xsi:type="dcterms:W3CDTF">2008-08-11T21:49:15Z</dcterms:modified>
  <cp:revision>107</cp:revision>
  <dc:subject/>
  <dc:title>Physics of Electronics:  1. Introduction to Quantum Mechanics</dc:title>
</cp:coreProperties>
</file>