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59.wmf" ContentType="image/x-wmf"/>
  <Override PartName="/ppt/media/image20.png" ContentType="image/png"/>
  <Override PartName="/ppt/media/image57.png" ContentType="image/png"/>
  <Override PartName="/ppt/media/image18.png" ContentType="image/png"/>
  <Override PartName="/ppt/media/image5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0.png" ContentType="image/png"/>
  <Override PartName="/ppt/media/image48.wmf" ContentType="image/x-wmf"/>
  <Override PartName="/ppt/media/image50.png" ContentType="image/png"/>
  <Override PartName="/ppt/media/image13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1.png" ContentType="image/png"/>
  <Override PartName="/ppt/media/image4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fld id="{73870EC6-6706-4B32-A307-EADE13125594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4084-F6D7-492C-B214-F9326355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-116280"/>
            <a:ext cx="8837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1920" y="923400"/>
            <a:ext cx="88376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1920" y="3664440"/>
            <a:ext cx="88376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BC8E-D67B-4428-BB07-B3062FF4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-116280"/>
            <a:ext cx="8837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920" y="923400"/>
            <a:ext cx="43124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360" y="923400"/>
            <a:ext cx="43124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1920" y="3664440"/>
            <a:ext cx="43124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360" y="3664440"/>
            <a:ext cx="43124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DBB0-4DF4-4B35-AF5E-1214C1FBC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-116280"/>
            <a:ext cx="8837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1920" y="923400"/>
            <a:ext cx="28454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920" y="923400"/>
            <a:ext cx="28454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8280" y="923400"/>
            <a:ext cx="28454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1920" y="3664440"/>
            <a:ext cx="28454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920" y="3664440"/>
            <a:ext cx="28454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8280" y="3664440"/>
            <a:ext cx="28454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043F-7148-4B27-BF55-F8AE2E7D3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-116280"/>
            <a:ext cx="8837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1920" y="923400"/>
            <a:ext cx="8837640" cy="524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8132-414A-43D9-A969-32762485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-116280"/>
            <a:ext cx="8837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1920" y="923400"/>
            <a:ext cx="8837640" cy="52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1AF9-DB12-4EE0-ADBE-A7ACD9E0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-116280"/>
            <a:ext cx="8837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920" y="923400"/>
            <a:ext cx="4312440" cy="52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360" y="923400"/>
            <a:ext cx="4312440" cy="52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5801-49FB-4A32-8CF1-E9F291D6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-116280"/>
            <a:ext cx="8837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8CA0-44E7-4441-A0D7-44D65733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-116280"/>
            <a:ext cx="88376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1BFD-37ED-41F1-8B1C-F74E4F52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-116280"/>
            <a:ext cx="8837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1920" y="923400"/>
            <a:ext cx="43124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360" y="923400"/>
            <a:ext cx="4312440" cy="52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1920" y="3664440"/>
            <a:ext cx="43124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D878-8625-4B85-891D-4F5F6995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-116280"/>
            <a:ext cx="8837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1920" y="923400"/>
            <a:ext cx="4312440" cy="52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360" y="923400"/>
            <a:ext cx="43124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360" y="3664440"/>
            <a:ext cx="43124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710B-557B-4798-9B9F-C17D19B1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-116280"/>
            <a:ext cx="8837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1920" y="923400"/>
            <a:ext cx="43124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360" y="923400"/>
            <a:ext cx="43124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1920" y="3664440"/>
            <a:ext cx="88376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8616-6137-4396-A897-777CA6D9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-116280"/>
            <a:ext cx="8837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923400"/>
            <a:ext cx="8837640" cy="52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04360"/>
                <a:tab algn="l" pos="107632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04360"/>
                <a:tab algn="l" pos="107632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04360"/>
                <a:tab algn="l" pos="107632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04360"/>
                <a:tab algn="l" pos="107632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04360"/>
                <a:tab algn="l" pos="107632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04360"/>
                <a:tab algn="l" pos="10763280"/>
              </a:tabLst>
            </a:pPr>
            <a:fld id="{6CF0734E-44D8-4EB0-9E80-F57F25123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2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5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wmf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nature.com/nature/journal/v445/n7127/pdf/nature05452.pdf" TargetMode="External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35240"/>
            <a:ext cx="77724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Physics of Electronics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3. Collection of Particles in Gases and Solids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814320"/>
                <a:tab algn="l" pos="1173240"/>
                <a:tab algn="l" pos="1531800"/>
                <a:tab algn="l" pos="1890720"/>
                <a:tab algn="l" pos="2249640"/>
                <a:tab algn="l" pos="2608200"/>
                <a:tab algn="l" pos="2967120"/>
                <a:tab algn="l" pos="3325680"/>
                <a:tab algn="l" pos="3684600"/>
                <a:tab algn="l" pos="4043520"/>
                <a:tab algn="l" pos="4402080"/>
                <a:tab algn="l" pos="4761000"/>
                <a:tab algn="l" pos="5119560"/>
                <a:tab algn="l" pos="5478480"/>
                <a:tab algn="l" pos="5837400"/>
                <a:tab algn="l" pos="6195960"/>
                <a:tab algn="l" pos="6554880"/>
                <a:tab algn="l" pos="6913440"/>
                <a:tab algn="l" pos="7272360"/>
                <a:tab algn="l" pos="763128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814320"/>
                <a:tab algn="l" pos="1173240"/>
                <a:tab algn="l" pos="1531800"/>
                <a:tab algn="l" pos="1890720"/>
                <a:tab algn="l" pos="2249640"/>
                <a:tab algn="l" pos="2608200"/>
                <a:tab algn="l" pos="2967120"/>
                <a:tab algn="l" pos="3325680"/>
                <a:tab algn="l" pos="3684600"/>
                <a:tab algn="l" pos="4043520"/>
                <a:tab algn="l" pos="4402080"/>
                <a:tab algn="l" pos="4761000"/>
                <a:tab algn="l" pos="5119560"/>
                <a:tab algn="l" pos="5478480"/>
                <a:tab algn="l" pos="5837400"/>
                <a:tab algn="l" pos="6195960"/>
                <a:tab algn="l" pos="6554880"/>
                <a:tab algn="l" pos="6913440"/>
                <a:tab algn="l" pos="7272360"/>
                <a:tab algn="l" pos="763128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July – December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52280" y="923400"/>
            <a:ext cx="88394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 betwe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particles in a shell of thickness 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gives the fraction of molecules (per unit volume) in a given speed range (per unit range of spe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098720" y="2155680"/>
            <a:ext cx="2219040" cy="3985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177920" y="2584440"/>
            <a:ext cx="1876320" cy="495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306600" y="2158920"/>
            <a:ext cx="239760" cy="862200"/>
          </a:xfrm>
          <a:custGeom>
            <a:avLst/>
            <a:gdLst>
              <a:gd name="textAreaLeft" fmla="*/ 0 w 239760"/>
              <a:gd name="textAreaRight" fmla="*/ 86400 w 239760"/>
              <a:gd name="textAreaTop" fmla="*/ 22320 h 862200"/>
              <a:gd name="textAreaBottom" fmla="*/ 839880 h 86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11520" y="2475000"/>
            <a:ext cx="424080" cy="237960"/>
          </a:xfrm>
          <a:prstGeom prst="rightArrow">
            <a:avLst>
              <a:gd name="adj1" fmla="val 50000"/>
              <a:gd name="adj2" fmla="val 4455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141800" y="2120760"/>
            <a:ext cx="3662280" cy="801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rcRect l="0" t="12380" r="0" b="1380"/>
          <a:stretch/>
        </p:blipFill>
        <p:spPr>
          <a:xfrm>
            <a:off x="2422440" y="3971880"/>
            <a:ext cx="4514760" cy="28386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782800" y="6280200"/>
            <a:ext cx="1801800" cy="5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92600" y="4297320"/>
            <a:ext cx="2095200" cy="1940040"/>
          </a:xfrm>
          <a:custGeom>
            <a:avLst/>
            <a:gdLst/>
            <a:ahLst/>
            <a:rect l="l" t="t" r="r" b="b"/>
            <a:pathLst>
              <a:path w="1320" h="1222">
                <a:moveTo>
                  <a:pt x="0" y="1207"/>
                </a:moveTo>
                <a:lnTo>
                  <a:pt x="1320" y="1222"/>
                </a:lnTo>
                <a:lnTo>
                  <a:pt x="1320" y="835"/>
                </a:lnTo>
                <a:lnTo>
                  <a:pt x="1281" y="799"/>
                </a:lnTo>
                <a:lnTo>
                  <a:pt x="1245" y="761"/>
                </a:lnTo>
                <a:lnTo>
                  <a:pt x="1197" y="701"/>
                </a:lnTo>
                <a:lnTo>
                  <a:pt x="1166" y="655"/>
                </a:lnTo>
                <a:lnTo>
                  <a:pt x="1120" y="591"/>
                </a:lnTo>
                <a:lnTo>
                  <a:pt x="1075" y="511"/>
                </a:lnTo>
                <a:lnTo>
                  <a:pt x="1041" y="449"/>
                </a:lnTo>
                <a:lnTo>
                  <a:pt x="1005" y="375"/>
                </a:lnTo>
                <a:lnTo>
                  <a:pt x="974" y="303"/>
                </a:lnTo>
                <a:lnTo>
                  <a:pt x="943" y="235"/>
                </a:lnTo>
                <a:lnTo>
                  <a:pt x="921" y="187"/>
                </a:lnTo>
                <a:lnTo>
                  <a:pt x="890" y="130"/>
                </a:lnTo>
                <a:lnTo>
                  <a:pt x="859" y="70"/>
                </a:lnTo>
                <a:lnTo>
                  <a:pt x="840" y="36"/>
                </a:lnTo>
                <a:lnTo>
                  <a:pt x="825" y="19"/>
                </a:lnTo>
                <a:lnTo>
                  <a:pt x="804" y="3"/>
                </a:lnTo>
                <a:lnTo>
                  <a:pt x="775" y="0"/>
                </a:lnTo>
                <a:lnTo>
                  <a:pt x="760" y="0"/>
                </a:lnTo>
                <a:lnTo>
                  <a:pt x="744" y="5"/>
                </a:lnTo>
                <a:lnTo>
                  <a:pt x="720" y="24"/>
                </a:lnTo>
                <a:lnTo>
                  <a:pt x="691" y="46"/>
                </a:lnTo>
                <a:lnTo>
                  <a:pt x="655" y="96"/>
                </a:lnTo>
                <a:lnTo>
                  <a:pt x="636" y="127"/>
                </a:lnTo>
                <a:lnTo>
                  <a:pt x="609" y="178"/>
                </a:lnTo>
                <a:lnTo>
                  <a:pt x="590" y="223"/>
                </a:lnTo>
                <a:lnTo>
                  <a:pt x="568" y="281"/>
                </a:lnTo>
                <a:lnTo>
                  <a:pt x="552" y="331"/>
                </a:lnTo>
                <a:lnTo>
                  <a:pt x="535" y="384"/>
                </a:lnTo>
                <a:lnTo>
                  <a:pt x="513" y="444"/>
                </a:lnTo>
                <a:lnTo>
                  <a:pt x="499" y="490"/>
                </a:lnTo>
                <a:lnTo>
                  <a:pt x="477" y="571"/>
                </a:lnTo>
                <a:lnTo>
                  <a:pt x="446" y="646"/>
                </a:lnTo>
                <a:lnTo>
                  <a:pt x="417" y="720"/>
                </a:lnTo>
                <a:lnTo>
                  <a:pt x="400" y="771"/>
                </a:lnTo>
                <a:lnTo>
                  <a:pt x="376" y="821"/>
                </a:lnTo>
                <a:lnTo>
                  <a:pt x="357" y="864"/>
                </a:lnTo>
                <a:lnTo>
                  <a:pt x="314" y="943"/>
                </a:lnTo>
                <a:lnTo>
                  <a:pt x="283" y="996"/>
                </a:lnTo>
                <a:lnTo>
                  <a:pt x="252" y="1042"/>
                </a:lnTo>
                <a:lnTo>
                  <a:pt x="220" y="1075"/>
                </a:lnTo>
                <a:lnTo>
                  <a:pt x="184" y="1107"/>
                </a:lnTo>
                <a:lnTo>
                  <a:pt x="158" y="1131"/>
                </a:lnTo>
                <a:lnTo>
                  <a:pt x="117" y="1157"/>
                </a:lnTo>
                <a:lnTo>
                  <a:pt x="88" y="1171"/>
                </a:lnTo>
                <a:lnTo>
                  <a:pt x="52" y="1183"/>
                </a:lnTo>
                <a:lnTo>
                  <a:pt x="21" y="1198"/>
                </a:lnTo>
                <a:lnTo>
                  <a:pt x="0" y="1207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363560" y="4724280"/>
            <a:ext cx="809640" cy="581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89400" y="4208400"/>
            <a:ext cx="193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Fraction of molecules with speed less than </a:t>
            </a: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v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92760" y="6496200"/>
            <a:ext cx="479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67120" y="4022640"/>
            <a:ext cx="479520" cy="211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4000" y="2144880"/>
            <a:ext cx="3598920" cy="84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Maxwell-Boltzmann Distribution Function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3557520" y="1989000"/>
            <a:ext cx="4397040" cy="927360"/>
            <a:chOff x="3557520" y="1989000"/>
            <a:chExt cx="4397040" cy="92736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3557520" y="1989000"/>
              <a:ext cx="2343600" cy="92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2"/>
            <a:srcRect l="5528" t="0" r="0" b="0"/>
            <a:stretch/>
          </p:blipFill>
          <p:spPr>
            <a:xfrm>
              <a:off x="5941080" y="2241000"/>
              <a:ext cx="2013480" cy="64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6" name="" descr=""/>
          <p:cNvPicPr/>
          <p:nvPr/>
        </p:nvPicPr>
        <p:blipFill>
          <a:blip r:embed="rId3"/>
          <a:srcRect l="0" t="12380" r="0" b="1380"/>
          <a:stretch/>
        </p:blipFill>
        <p:spPr>
          <a:xfrm>
            <a:off x="2422440" y="3967200"/>
            <a:ext cx="4514760" cy="28382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36880" y="6272280"/>
            <a:ext cx="141948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79840" y="6272280"/>
            <a:ext cx="108900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48120" y="4314960"/>
            <a:ext cx="285840" cy="1900080"/>
          </a:xfrm>
          <a:custGeom>
            <a:avLst/>
            <a:gdLst/>
            <a:ahLst/>
            <a:rect l="l" t="t" r="r" b="b"/>
            <a:pathLst>
              <a:path w="180" h="1206">
                <a:moveTo>
                  <a:pt x="18" y="1200"/>
                </a:moveTo>
                <a:lnTo>
                  <a:pt x="180" y="1203"/>
                </a:lnTo>
                <a:lnTo>
                  <a:pt x="174" y="48"/>
                </a:lnTo>
                <a:lnTo>
                  <a:pt x="153" y="21"/>
                </a:lnTo>
                <a:lnTo>
                  <a:pt x="129" y="6"/>
                </a:lnTo>
                <a:lnTo>
                  <a:pt x="105" y="0"/>
                </a:lnTo>
                <a:lnTo>
                  <a:pt x="78" y="9"/>
                </a:lnTo>
                <a:lnTo>
                  <a:pt x="57" y="21"/>
                </a:lnTo>
                <a:lnTo>
                  <a:pt x="33" y="39"/>
                </a:lnTo>
                <a:lnTo>
                  <a:pt x="0" y="1206"/>
                </a:lnTo>
                <a:lnTo>
                  <a:pt x="18" y="1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52280" y="923400"/>
            <a:ext cx="88394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val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probable velocity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veloc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MS veloc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098960" y="4284720"/>
            <a:ext cx="15840" cy="1946160"/>
          </a:xfrm>
          <a:prstGeom prst="line">
            <a:avLst/>
          </a:prstGeom>
          <a:ln w="316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8640" y="3994200"/>
            <a:ext cx="3477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14600" y="5457960"/>
            <a:ext cx="162000" cy="747720"/>
          </a:xfrm>
          <a:custGeom>
            <a:avLst/>
            <a:gdLst/>
            <a:ahLst/>
            <a:rect l="l" t="t" r="r" b="b"/>
            <a:pathLst>
              <a:path w="102" h="477">
                <a:moveTo>
                  <a:pt x="18" y="468"/>
                </a:moveTo>
                <a:lnTo>
                  <a:pt x="102" y="468"/>
                </a:lnTo>
                <a:lnTo>
                  <a:pt x="99" y="0"/>
                </a:lnTo>
                <a:lnTo>
                  <a:pt x="78" y="48"/>
                </a:lnTo>
                <a:lnTo>
                  <a:pt x="54" y="111"/>
                </a:lnTo>
                <a:lnTo>
                  <a:pt x="21" y="171"/>
                </a:lnTo>
                <a:lnTo>
                  <a:pt x="0" y="222"/>
                </a:lnTo>
                <a:lnTo>
                  <a:pt x="0" y="477"/>
                </a:lnTo>
                <a:lnTo>
                  <a:pt x="18" y="4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00680" y="5624640"/>
            <a:ext cx="147600" cy="600120"/>
          </a:xfrm>
          <a:custGeom>
            <a:avLst/>
            <a:gdLst/>
            <a:ahLst/>
            <a:rect l="l" t="t" r="r" b="b"/>
            <a:pathLst>
              <a:path w="93" h="378">
                <a:moveTo>
                  <a:pt x="27" y="378"/>
                </a:moveTo>
                <a:lnTo>
                  <a:pt x="93" y="378"/>
                </a:lnTo>
                <a:lnTo>
                  <a:pt x="78" y="27"/>
                </a:lnTo>
                <a:lnTo>
                  <a:pt x="60" y="12"/>
                </a:lnTo>
                <a:lnTo>
                  <a:pt x="39" y="0"/>
                </a:lnTo>
                <a:lnTo>
                  <a:pt x="0" y="12"/>
                </a:lnTo>
                <a:lnTo>
                  <a:pt x="27" y="3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rcRect l="0" t="0" r="6494" b="0"/>
          <a:stretch/>
        </p:blipFill>
        <p:spPr>
          <a:xfrm>
            <a:off x="4010040" y="3998880"/>
            <a:ext cx="208080" cy="2509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flipV="1">
            <a:off x="4226040" y="4436640"/>
            <a:ext cx="15840" cy="1800360"/>
          </a:xfrm>
          <a:prstGeom prst="line">
            <a:avLst/>
          </a:prstGeom>
          <a:ln w="316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4156200" y="6289560"/>
            <a:ext cx="172800" cy="247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3235320" y="3060720"/>
            <a:ext cx="2700360" cy="88740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6148440" y="1576440"/>
            <a:ext cx="1809720" cy="433440"/>
            <a:chOff x="6148440" y="1576440"/>
            <a:chExt cx="1809720" cy="433440"/>
          </a:xfrm>
        </p:grpSpPr>
        <p:pic>
          <p:nvPicPr>
            <p:cNvPr id="180" name="" descr=""/>
            <p:cNvPicPr/>
            <p:nvPr/>
          </p:nvPicPr>
          <p:blipFill>
            <a:blip r:embed="rId7"/>
            <a:stretch/>
          </p:blipFill>
          <p:spPr>
            <a:xfrm>
              <a:off x="6197760" y="1576440"/>
              <a:ext cx="17604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8"/>
            <a:srcRect l="0" t="0" r="6494" b="0"/>
            <a:stretch/>
          </p:blipFill>
          <p:spPr>
            <a:xfrm>
              <a:off x="6148440" y="1643040"/>
              <a:ext cx="288720" cy="3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6411960" y="160020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357120"/>
                  <a:tab algn="l" pos="716040"/>
                  <a:tab algn="l" pos="1074600"/>
                  <a:tab algn="l" pos="1433520"/>
                  <a:tab algn="l" pos="1792440"/>
                  <a:tab algn="l" pos="2151000"/>
                  <a:tab algn="l" pos="2509920"/>
                  <a:tab algn="l" pos="2868480"/>
                  <a:tab algn="l" pos="3227400"/>
                  <a:tab algn="l" pos="3586320"/>
                  <a:tab algn="l" pos="3944880"/>
                  <a:tab algn="l" pos="4303800"/>
                  <a:tab algn="l" pos="4662360"/>
                  <a:tab algn="l" pos="5021280"/>
                  <a:tab algn="l" pos="5380200"/>
                  <a:tab algn="l" pos="5738760"/>
                  <a:tab algn="l" pos="6097680"/>
                  <a:tab algn="l" pos="6456240"/>
                  <a:tab algn="l" pos="6815160"/>
                  <a:tab algn="l" pos="7174080"/>
                  <a:tab algn="l" pos="7175520"/>
                  <a:tab algn="l" pos="7534440"/>
                  <a:tab algn="l" pos="7893000"/>
                  <a:tab algn="l" pos="8251920"/>
                  <a:tab algn="l" pos="8610480"/>
                  <a:tab algn="l" pos="8969400"/>
                  <a:tab algn="l" pos="9328320"/>
                  <a:tab algn="l" pos="9686880"/>
                  <a:tab algn="l" pos="10045800"/>
                  <a:tab algn="l" pos="10404360"/>
                  <a:tab algn="l" pos="1076328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5984280" y="3359160"/>
            <a:ext cx="4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435720" y="3382920"/>
            <a:ext cx="2117520" cy="444240"/>
            <a:chOff x="6435720" y="3382920"/>
            <a:chExt cx="2117520" cy="444240"/>
          </a:xfrm>
        </p:grpSpPr>
        <p:pic>
          <p:nvPicPr>
            <p:cNvPr id="185" name="" descr=""/>
            <p:cNvPicPr/>
            <p:nvPr/>
          </p:nvPicPr>
          <p:blipFill>
            <a:blip r:embed="rId9"/>
            <a:srcRect l="0" t="0" r="64241" b="0"/>
            <a:stretch/>
          </p:blipFill>
          <p:spPr>
            <a:xfrm>
              <a:off x="6435720" y="3382920"/>
              <a:ext cx="120708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10"/>
            <a:srcRect l="73648" t="0" r="0" b="0"/>
            <a:stretch/>
          </p:blipFill>
          <p:spPr>
            <a:xfrm>
              <a:off x="7663320" y="3428640"/>
              <a:ext cx="889920" cy="39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"/>
          <p:cNvSpPr/>
          <p:nvPr/>
        </p:nvSpPr>
        <p:spPr>
          <a:xfrm flipV="1">
            <a:off x="4378320" y="4660920"/>
            <a:ext cx="3240" cy="1589040"/>
          </a:xfrm>
          <a:prstGeom prst="line">
            <a:avLst/>
          </a:prstGeom>
          <a:ln w="316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1"/>
          <a:srcRect l="0" t="38421" r="88125" b="0"/>
          <a:stretch/>
        </p:blipFill>
        <p:spPr>
          <a:xfrm>
            <a:off x="4340160" y="6297480"/>
            <a:ext cx="480960" cy="2955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Maxwell-Boltzmann Distribution Function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Energy Distribution Function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280" y="923400"/>
            <a:ext cx="88394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he energy is distributed in the ensem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rticles in the ensemble we have considered so far only have kinetic energ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ing in  the expression for 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                    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893880" y="2536920"/>
            <a:ext cx="1282680" cy="3762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282400" y="2460600"/>
            <a:ext cx="4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757600" y="2467080"/>
            <a:ext cx="2673360" cy="5824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1909800" y="3460680"/>
            <a:ext cx="3681360" cy="588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1541520" y="4086360"/>
            <a:ext cx="1771560" cy="377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1076400" y="4610160"/>
            <a:ext cx="3101760" cy="5922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98640" y="4486320"/>
            <a:ext cx="3228840" cy="84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772160" y="4102200"/>
            <a:ext cx="4249440" cy="2379240"/>
            <a:chOff x="4772160" y="4102200"/>
            <a:chExt cx="4249440" cy="2379240"/>
          </a:xfrm>
        </p:grpSpPr>
        <p:grpSp>
          <p:nvGrpSpPr>
            <p:cNvPr id="200" name=""/>
            <p:cNvGrpSpPr/>
            <p:nvPr/>
          </p:nvGrpSpPr>
          <p:grpSpPr>
            <a:xfrm>
              <a:off x="4772160" y="4102200"/>
              <a:ext cx="4249440" cy="2379240"/>
              <a:chOff x="4772160" y="4102200"/>
              <a:chExt cx="4249440" cy="2379240"/>
            </a:xfrm>
          </p:grpSpPr>
          <p:pic>
            <p:nvPicPr>
              <p:cNvPr id="20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772160" y="4262040"/>
                <a:ext cx="4249440" cy="20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>
                <a:off x="5547960" y="4102200"/>
                <a:ext cx="3473280" cy="524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124240" y="6127920"/>
                <a:ext cx="266040" cy="353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04" name="" descr=""/>
            <p:cNvPicPr/>
            <p:nvPr/>
          </p:nvPicPr>
          <p:blipFill>
            <a:blip r:embed="rId7"/>
            <a:stretch/>
          </p:blipFill>
          <p:spPr>
            <a:xfrm>
              <a:off x="5680080" y="6022800"/>
              <a:ext cx="844560" cy="28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"/>
          <p:cNvSpPr/>
          <p:nvPr/>
        </p:nvSpPr>
        <p:spPr>
          <a:xfrm>
            <a:off x="770040" y="5432400"/>
            <a:ext cx="395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that the density of the particles is independent of the 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Boltzmann Distribution Function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2280" y="923400"/>
            <a:ext cx="88394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he energy is distributed in the ensem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ow consider that the particles in the ensemble not only have KE but also PE (gravitational or electrical fiel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PE depends on the position so does the density of the ensem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57520" y="2916360"/>
            <a:ext cx="5047920" cy="49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9" name=""/>
          <p:cNvGraphicFramePr/>
          <p:nvPr/>
        </p:nvGraphicFramePr>
        <p:xfrm>
          <a:off x="1035000" y="4492800"/>
          <a:ext cx="2847960" cy="49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35000" y="4492800"/>
                    <a:ext cx="284796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1" name=""/>
          <p:cNvGrpSpPr/>
          <p:nvPr/>
        </p:nvGrpSpPr>
        <p:grpSpPr>
          <a:xfrm>
            <a:off x="4573440" y="3956040"/>
            <a:ext cx="4569120" cy="2900160"/>
            <a:chOff x="4573440" y="3956040"/>
            <a:chExt cx="4569120" cy="2900160"/>
          </a:xfrm>
        </p:grpSpPr>
        <p:pic>
          <p:nvPicPr>
            <p:cNvPr id="212" name="" descr=""/>
            <p:cNvPicPr/>
            <p:nvPr/>
          </p:nvPicPr>
          <p:blipFill>
            <a:blip r:embed="rId4"/>
            <a:stretch/>
          </p:blipFill>
          <p:spPr>
            <a:xfrm>
              <a:off x="4573440" y="4003200"/>
              <a:ext cx="4569120" cy="285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5530320" y="3956040"/>
              <a:ext cx="2434320" cy="55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Fermi-Dirac Distribution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280" y="923400"/>
            <a:ext cx="88394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sembles obeying exclusion princi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quantum particle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nteract and end up in two state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reviously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09840" y="3825720"/>
            <a:ext cx="172800" cy="158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38120" y="2730600"/>
            <a:ext cx="173160" cy="158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11280" y="2816280"/>
            <a:ext cx="72540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236680" y="2817360"/>
            <a:ext cx="9651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674720" y="3578400"/>
            <a:ext cx="628920" cy="29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98600" y="3579840"/>
            <a:ext cx="881280" cy="18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1840" y="2727360"/>
            <a:ext cx="173160" cy="15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76640" y="3713040"/>
            <a:ext cx="173160" cy="15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205240" y="2865600"/>
            <a:ext cx="2924280" cy="342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71240" y="2590920"/>
            <a:ext cx="883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3520" y="3657600"/>
            <a:ext cx="883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67080" y="2590920"/>
            <a:ext cx="1102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, 1- 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67080" y="3657600"/>
            <a:ext cx="1102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, 1- 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057400" y="3200400"/>
            <a:ext cx="406440" cy="380880"/>
          </a:xfrm>
          <a:custGeom>
            <a:avLst/>
            <a:gdLst/>
            <a:ahLst/>
            <a:rect l="l" t="t" r="r" b="b"/>
            <a:pathLst>
              <a:path w="256" h="288">
                <a:moveTo>
                  <a:pt x="96" y="0"/>
                </a:moveTo>
                <a:cubicBezTo>
                  <a:pt x="176" y="16"/>
                  <a:pt x="256" y="32"/>
                  <a:pt x="240" y="48"/>
                </a:cubicBezTo>
                <a:cubicBezTo>
                  <a:pt x="224" y="64"/>
                  <a:pt x="0" y="80"/>
                  <a:pt x="0" y="96"/>
                </a:cubicBezTo>
                <a:cubicBezTo>
                  <a:pt x="0" y="112"/>
                  <a:pt x="232" y="128"/>
                  <a:pt x="240" y="144"/>
                </a:cubicBezTo>
                <a:cubicBezTo>
                  <a:pt x="248" y="160"/>
                  <a:pt x="48" y="176"/>
                  <a:pt x="48" y="192"/>
                </a:cubicBezTo>
                <a:cubicBezTo>
                  <a:pt x="48" y="208"/>
                  <a:pt x="224" y="224"/>
                  <a:pt x="240" y="240"/>
                </a:cubicBezTo>
                <a:cubicBezTo>
                  <a:pt x="256" y="256"/>
                  <a:pt x="160" y="280"/>
                  <a:pt x="144" y="288"/>
                </a:cubicBezTo>
              </a:path>
            </a:pathLst>
          </a:cu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Fermi-Dirac Distribution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280" y="923400"/>
            <a:ext cx="88394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sembles obeying exclusion princi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quantum particle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nteract and end up in two state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reviously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09840" y="3825720"/>
            <a:ext cx="172800" cy="15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38120" y="2730600"/>
            <a:ext cx="173160" cy="15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11280" y="2816280"/>
            <a:ext cx="725400" cy="38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236680" y="2817360"/>
            <a:ext cx="96516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674720" y="3578400"/>
            <a:ext cx="628920" cy="296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98600" y="3579840"/>
            <a:ext cx="881280" cy="189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01840" y="2727360"/>
            <a:ext cx="173160" cy="158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76640" y="3713040"/>
            <a:ext cx="173160" cy="158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087880" y="3321000"/>
            <a:ext cx="3282840" cy="314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205240" y="2863800"/>
            <a:ext cx="2924280" cy="3430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243000" y="2590920"/>
            <a:ext cx="1102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, 1- 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5280" y="3657600"/>
            <a:ext cx="1102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, 1- 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66720" y="2590920"/>
            <a:ext cx="883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66720" y="3657600"/>
            <a:ext cx="883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3200400"/>
            <a:ext cx="406440" cy="380880"/>
          </a:xfrm>
          <a:custGeom>
            <a:avLst/>
            <a:gdLst/>
            <a:ahLst/>
            <a:rect l="l" t="t" r="r" b="b"/>
            <a:pathLst>
              <a:path w="256" h="288">
                <a:moveTo>
                  <a:pt x="96" y="0"/>
                </a:moveTo>
                <a:cubicBezTo>
                  <a:pt x="176" y="16"/>
                  <a:pt x="256" y="32"/>
                  <a:pt x="240" y="48"/>
                </a:cubicBezTo>
                <a:cubicBezTo>
                  <a:pt x="224" y="64"/>
                  <a:pt x="0" y="80"/>
                  <a:pt x="0" y="96"/>
                </a:cubicBezTo>
                <a:cubicBezTo>
                  <a:pt x="0" y="112"/>
                  <a:pt x="232" y="128"/>
                  <a:pt x="240" y="144"/>
                </a:cubicBezTo>
                <a:cubicBezTo>
                  <a:pt x="248" y="160"/>
                  <a:pt x="48" y="176"/>
                  <a:pt x="48" y="192"/>
                </a:cubicBezTo>
                <a:cubicBezTo>
                  <a:pt x="48" y="208"/>
                  <a:pt x="224" y="224"/>
                  <a:pt x="240" y="240"/>
                </a:cubicBezTo>
                <a:cubicBezTo>
                  <a:pt x="256" y="256"/>
                  <a:pt x="160" y="280"/>
                  <a:pt x="144" y="288"/>
                </a:cubicBezTo>
              </a:path>
            </a:pathLst>
          </a:cu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344280" y="310428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51920" y="923400"/>
            <a:ext cx="8837640" cy="58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sembles obeying exclusion princi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quantum particle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nteract and end up in two state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reviously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t  reduces to the Boltzmann distrib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Fermi-Dirac Distribution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5087880" y="3321000"/>
            <a:ext cx="3282840" cy="3142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20600" y="4362480"/>
            <a:ext cx="476280" cy="231840"/>
          </a:xfrm>
          <a:prstGeom prst="rightArrow">
            <a:avLst>
              <a:gd name="adj1" fmla="val 49926"/>
              <a:gd name="adj2" fmla="val 6662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33320" y="4179960"/>
            <a:ext cx="4056120" cy="765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5205240" y="2863800"/>
            <a:ext cx="2924280" cy="343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407960" y="5010120"/>
            <a:ext cx="28591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476360"/>
                <a:tab algn="l" pos="1835280"/>
                <a:tab algn="l" pos="2193840"/>
                <a:tab algn="l" pos="2552760"/>
                <a:tab algn="l" pos="2911320"/>
                <a:tab algn="l" pos="3270240"/>
                <a:tab algn="l" pos="3629160"/>
                <a:tab algn="l" pos="3987720"/>
                <a:tab algn="l" pos="4346640"/>
                <a:tab algn="l" pos="4705200"/>
                <a:tab algn="l" pos="5064120"/>
                <a:tab algn="l" pos="5423040"/>
                <a:tab algn="l" pos="5781600"/>
                <a:tab algn="l" pos="6140520"/>
                <a:tab algn="l" pos="6499080"/>
                <a:tab algn="l" pos="6858000"/>
                <a:tab algn="l" pos="7218360"/>
                <a:tab algn="l" pos="7575480"/>
                <a:tab algn="l" pos="7934400"/>
                <a:tab algn="l" pos="829296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Lucida Sans Unicode"/>
              </a:rPr>
              <a:t>2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49840" y="4246560"/>
            <a:ext cx="241200" cy="1100160"/>
          </a:xfrm>
          <a:custGeom>
            <a:avLst/>
            <a:gdLst>
              <a:gd name="textAreaLeft" fmla="*/ 0 w 241200"/>
              <a:gd name="textAreaRight" fmla="*/ 87120 w 241200"/>
              <a:gd name="textAreaTop" fmla="*/ 28440 h 1100160"/>
              <a:gd name="textAreaBottom" fmla="*/ 1071720 h 11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6000">
            <a:solidFill>
              <a:srgbClr val="004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0600" y="4362480"/>
            <a:ext cx="476280" cy="231840"/>
          </a:xfrm>
          <a:prstGeom prst="rightArrow">
            <a:avLst>
              <a:gd name="adj1" fmla="val 49926"/>
              <a:gd name="adj2" fmla="val 6662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57640" y="4670280"/>
            <a:ext cx="476280" cy="231840"/>
          </a:xfrm>
          <a:prstGeom prst="rightArrow">
            <a:avLst>
              <a:gd name="adj1" fmla="val 49926"/>
              <a:gd name="adj2" fmla="val 6662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5707080" y="4594320"/>
            <a:ext cx="2637000" cy="3762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5840280" y="4952880"/>
            <a:ext cx="2490840" cy="4273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6"/>
          <a:stretch/>
        </p:blipFill>
        <p:spPr>
          <a:xfrm>
            <a:off x="2354400" y="6219720"/>
            <a:ext cx="1977840" cy="3794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4413240" y="6334200"/>
            <a:ext cx="476280" cy="231840"/>
          </a:xfrm>
          <a:prstGeom prst="rightArrow">
            <a:avLst>
              <a:gd name="adj1" fmla="val 49926"/>
              <a:gd name="adj2" fmla="val 6662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03640" y="6224760"/>
            <a:ext cx="10447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09840" y="3825720"/>
            <a:ext cx="172800" cy="15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38120" y="2730600"/>
            <a:ext cx="173160" cy="15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11280" y="2816280"/>
            <a:ext cx="725400" cy="38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236680" y="2817360"/>
            <a:ext cx="96516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674720" y="3578400"/>
            <a:ext cx="628920" cy="296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98600" y="3579840"/>
            <a:ext cx="881280" cy="189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01840" y="2727360"/>
            <a:ext cx="173160" cy="158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76640" y="3713040"/>
            <a:ext cx="173160" cy="158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43000" y="2590920"/>
            <a:ext cx="1102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, 1- 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95280" y="3657600"/>
            <a:ext cx="1102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, 1- 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66720" y="2590920"/>
            <a:ext cx="883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366720" y="3657600"/>
            <a:ext cx="883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57400" y="3200400"/>
            <a:ext cx="406440" cy="380880"/>
          </a:xfrm>
          <a:custGeom>
            <a:avLst/>
            <a:gdLst/>
            <a:ahLst/>
            <a:rect l="l" t="t" r="r" b="b"/>
            <a:pathLst>
              <a:path w="256" h="288">
                <a:moveTo>
                  <a:pt x="96" y="0"/>
                </a:moveTo>
                <a:cubicBezTo>
                  <a:pt x="176" y="16"/>
                  <a:pt x="256" y="32"/>
                  <a:pt x="240" y="48"/>
                </a:cubicBezTo>
                <a:cubicBezTo>
                  <a:pt x="224" y="64"/>
                  <a:pt x="0" y="80"/>
                  <a:pt x="0" y="96"/>
                </a:cubicBezTo>
                <a:cubicBezTo>
                  <a:pt x="0" y="112"/>
                  <a:pt x="232" y="128"/>
                  <a:pt x="240" y="144"/>
                </a:cubicBezTo>
                <a:cubicBezTo>
                  <a:pt x="248" y="160"/>
                  <a:pt x="48" y="176"/>
                  <a:pt x="48" y="192"/>
                </a:cubicBezTo>
                <a:cubicBezTo>
                  <a:pt x="48" y="208"/>
                  <a:pt x="224" y="224"/>
                  <a:pt x="240" y="240"/>
                </a:cubicBezTo>
                <a:cubicBezTo>
                  <a:pt x="256" y="256"/>
                  <a:pt x="160" y="280"/>
                  <a:pt x="144" y="288"/>
                </a:cubicBezTo>
              </a:path>
            </a:pathLst>
          </a:cu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6344280" y="310428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Fermi-Dirac Distribution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51920" y="923400"/>
            <a:ext cx="8837640" cy="58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sembles obeying exclusion princi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sta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redefined throug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33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can be found via norm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fo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3200400" y="2362320"/>
            <a:ext cx="1752480" cy="401400"/>
          </a:xfrm>
          <a:prstGeom prst="rect">
            <a:avLst/>
          </a:prstGeom>
          <a:ln w="0">
            <a:noFill/>
          </a:ln>
        </p:spPr>
      </p:pic>
      <p:grpSp>
        <p:nvGrpSpPr>
          <p:cNvPr id="280" name=""/>
          <p:cNvGrpSpPr/>
          <p:nvPr/>
        </p:nvGrpSpPr>
        <p:grpSpPr>
          <a:xfrm>
            <a:off x="2836800" y="2743200"/>
            <a:ext cx="2809800" cy="760320"/>
            <a:chOff x="2836800" y="2743200"/>
            <a:chExt cx="2809800" cy="760320"/>
          </a:xfrm>
        </p:grpSpPr>
        <p:pic>
          <p:nvPicPr>
            <p:cNvPr id="281" name="" descr=""/>
            <p:cNvPicPr/>
            <p:nvPr/>
          </p:nvPicPr>
          <p:blipFill>
            <a:blip r:embed="rId2"/>
            <a:stretch/>
          </p:blipFill>
          <p:spPr>
            <a:xfrm>
              <a:off x="2836800" y="2743200"/>
              <a:ext cx="2809800" cy="76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2883960" y="2793600"/>
              <a:ext cx="2654280" cy="65556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5181480" y="4038480"/>
            <a:ext cx="3886200" cy="23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that for T = 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reduces to a step function. It means that all the states with energies 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occupied and those above, are empty. When T &gt; 0, some states below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emptied and some are occupied due to thermal energ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3"/>
          <a:srcRect l="3943" t="-1363" r="14474" b="1969"/>
          <a:stretch/>
        </p:blipFill>
        <p:spPr>
          <a:xfrm>
            <a:off x="76320" y="3470400"/>
            <a:ext cx="5029200" cy="33876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5240" y="3436920"/>
            <a:ext cx="1498320" cy="48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63600" y="3406680"/>
            <a:ext cx="977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(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Maxwell’s Demon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1920" y="923400"/>
            <a:ext cx="8837640" cy="52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emon that can violate 2nd. law of ener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2725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  <a:tab algn="l" pos="7893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it really exi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2725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  <a:tab algn="l" pos="7893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 experiment see the following artic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  <a:tab algn="l" pos="7893000"/>
                <a:tab algn="l" pos="825192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nature.com/nature/journal/v445/n7127/pdf/nature05452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  <a:tab algn="l" pos="7893000"/>
                <a:tab algn="l" pos="8251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“A molecular information ratchet” by V. Serrel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031760" y="1695600"/>
            <a:ext cx="6427800" cy="24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77400"/>
            <a:ext cx="884088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Contents overview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923400"/>
            <a:ext cx="884088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The hydrogen at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The exclusion princi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mblies of classical partic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of particles obeying the exclusion princi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77400"/>
            <a:ext cx="884088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The Hydrogen Atom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923400"/>
            <a:ext cx="88394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 in the electric field of the nucle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in polar coordinat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6880" indent="0">
              <a:spcBef>
                <a:spcPts val="499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 solution by separation of variables assum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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= 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124080" y="1549440"/>
            <a:ext cx="2286000" cy="5904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466560" y="2666880"/>
            <a:ext cx="8413920" cy="794520"/>
            <a:chOff x="466560" y="2666880"/>
            <a:chExt cx="8413920" cy="794520"/>
          </a:xfrm>
        </p:grpSpPr>
        <p:pic>
          <p:nvPicPr>
            <p:cNvPr id="56" name="" descr=""/>
            <p:cNvPicPr/>
            <p:nvPr/>
          </p:nvPicPr>
          <p:blipFill>
            <a:blip r:embed="rId2"/>
            <a:srcRect l="11205" t="0" r="2518" b="47523"/>
            <a:stretch/>
          </p:blipFill>
          <p:spPr>
            <a:xfrm>
              <a:off x="1112760" y="2666880"/>
              <a:ext cx="510228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546120" y="3092400"/>
              <a:ext cx="1742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357120"/>
                  <a:tab algn="l" pos="716040"/>
                  <a:tab algn="l" pos="1074600"/>
                  <a:tab algn="l" pos="1433520"/>
                  <a:tab algn="l" pos="1792440"/>
                  <a:tab algn="l" pos="2151000"/>
                  <a:tab algn="l" pos="2509920"/>
                  <a:tab algn="l" pos="2868480"/>
                  <a:tab algn="l" pos="3227400"/>
                  <a:tab algn="l" pos="3586320"/>
                  <a:tab algn="l" pos="3944880"/>
                  <a:tab algn="l" pos="4303800"/>
                  <a:tab algn="l" pos="4662360"/>
                  <a:tab algn="l" pos="5021280"/>
                  <a:tab algn="l" pos="5380200"/>
                  <a:tab algn="l" pos="5738760"/>
                  <a:tab algn="l" pos="6097680"/>
                  <a:tab algn="l" pos="6456240"/>
                  <a:tab algn="l" pos="6815160"/>
                  <a:tab algn="l" pos="7174080"/>
                  <a:tab algn="l" pos="7175520"/>
                  <a:tab algn="l" pos="7534440"/>
                  <a:tab algn="l" pos="7893000"/>
                  <a:tab algn="l" pos="8251920"/>
                  <a:tab algn="l" pos="8610480"/>
                  <a:tab algn="l" pos="8969400"/>
                  <a:tab algn="l" pos="9328320"/>
                  <a:tab algn="l" pos="9686880"/>
                  <a:tab algn="l" pos="10045800"/>
                  <a:tab algn="l" pos="10404360"/>
                  <a:tab algn="l" pos="10763280"/>
                </a:tabLst>
              </a:pPr>
              <a:r>
                <a:rPr b="1" i="1" lang="nl-NL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nl-NL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66560" y="3092400"/>
              <a:ext cx="2955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02520" y="2738520"/>
              <a:ext cx="1364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7120"/>
                  <a:tab algn="l" pos="716040"/>
                  <a:tab algn="l" pos="1074600"/>
                  <a:tab algn="l" pos="1433520"/>
                  <a:tab algn="l" pos="1792440"/>
                  <a:tab algn="l" pos="2151000"/>
                  <a:tab algn="l" pos="2509920"/>
                  <a:tab algn="l" pos="2868480"/>
                  <a:tab algn="l" pos="3227400"/>
                  <a:tab algn="l" pos="3586320"/>
                  <a:tab algn="l" pos="3944880"/>
                  <a:tab algn="l" pos="4303800"/>
                  <a:tab algn="l" pos="4662360"/>
                  <a:tab algn="l" pos="5021280"/>
                  <a:tab algn="l" pos="5380200"/>
                  <a:tab algn="l" pos="5738760"/>
                  <a:tab algn="l" pos="6097680"/>
                  <a:tab algn="l" pos="6456240"/>
                  <a:tab algn="l" pos="6815160"/>
                  <a:tab algn="l" pos="7174080"/>
                  <a:tab algn="l" pos="7175520"/>
                  <a:tab algn="l" pos="7534440"/>
                  <a:tab algn="l" pos="7893000"/>
                  <a:tab algn="l" pos="8251920"/>
                  <a:tab algn="l" pos="8610480"/>
                  <a:tab algn="l" pos="8969400"/>
                  <a:tab algn="l" pos="9328320"/>
                  <a:tab algn="l" pos="9686880"/>
                  <a:tab algn="l" pos="10045800"/>
                  <a:tab algn="l" pos="10404360"/>
                  <a:tab algn="l" pos="10763280"/>
                </a:tabLst>
              </a:pPr>
              <a:r>
                <a:rPr b="1" lang="nl-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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34120" y="3092400"/>
              <a:ext cx="2354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7120"/>
                  <a:tab algn="l" pos="716040"/>
                  <a:tab algn="l" pos="1074600"/>
                  <a:tab algn="l" pos="1433520"/>
                  <a:tab algn="l" pos="1792440"/>
                  <a:tab algn="l" pos="2151000"/>
                  <a:tab algn="l" pos="2509920"/>
                  <a:tab algn="l" pos="2868480"/>
                  <a:tab algn="l" pos="3227400"/>
                  <a:tab algn="l" pos="3586320"/>
                  <a:tab algn="l" pos="3944880"/>
                  <a:tab algn="l" pos="4303800"/>
                  <a:tab algn="l" pos="4662360"/>
                  <a:tab algn="l" pos="5021280"/>
                  <a:tab algn="l" pos="5380200"/>
                  <a:tab algn="l" pos="5738760"/>
                  <a:tab algn="l" pos="6097680"/>
                  <a:tab algn="l" pos="6456240"/>
                  <a:tab algn="l" pos="6815160"/>
                  <a:tab algn="l" pos="7174080"/>
                  <a:tab algn="l" pos="7175520"/>
                  <a:tab algn="l" pos="7534440"/>
                  <a:tab algn="l" pos="7893000"/>
                  <a:tab algn="l" pos="8251920"/>
                  <a:tab algn="l" pos="8610480"/>
                  <a:tab algn="l" pos="8969400"/>
                  <a:tab algn="l" pos="9328320"/>
                  <a:tab algn="l" pos="9686880"/>
                  <a:tab algn="l" pos="10045800"/>
                  <a:tab algn="l" pos="10404360"/>
                  <a:tab algn="l" pos="10763280"/>
                </a:tabLst>
              </a:pPr>
              <a:r>
                <a:rPr b="1" lang="nl-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</a:t>
              </a:r>
              <a:r>
                <a:rPr b="1" i="1" lang="nl-NL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35200" y="3092400"/>
              <a:ext cx="2203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7480" y="2743200"/>
              <a:ext cx="12888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357120"/>
                  <a:tab algn="l" pos="716040"/>
                  <a:tab algn="l" pos="1074600"/>
                  <a:tab algn="l" pos="1433520"/>
                  <a:tab algn="l" pos="1792440"/>
                  <a:tab algn="l" pos="2151000"/>
                  <a:tab algn="l" pos="2509920"/>
                  <a:tab algn="l" pos="2868480"/>
                  <a:tab algn="l" pos="3227400"/>
                  <a:tab algn="l" pos="3586320"/>
                  <a:tab algn="l" pos="3944880"/>
                  <a:tab algn="l" pos="4303800"/>
                  <a:tab algn="l" pos="4662360"/>
                  <a:tab algn="l" pos="5021280"/>
                  <a:tab algn="l" pos="5380200"/>
                  <a:tab algn="l" pos="5738760"/>
                  <a:tab algn="l" pos="6097680"/>
                  <a:tab algn="l" pos="6456240"/>
                  <a:tab algn="l" pos="6815160"/>
                  <a:tab algn="l" pos="7174080"/>
                  <a:tab algn="l" pos="7175520"/>
                  <a:tab algn="l" pos="7534440"/>
                  <a:tab algn="l" pos="7893000"/>
                  <a:tab algn="l" pos="8251920"/>
                  <a:tab algn="l" pos="8610480"/>
                  <a:tab algn="l" pos="8969400"/>
                  <a:tab algn="l" pos="9328320"/>
                  <a:tab algn="l" pos="9686880"/>
                  <a:tab algn="l" pos="10045800"/>
                  <a:tab algn="l" pos="10404360"/>
                  <a:tab algn="l" pos="1076328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84480" y="2951280"/>
              <a:ext cx="1742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357120"/>
                  <a:tab algn="l" pos="716040"/>
                  <a:tab algn="l" pos="1074600"/>
                  <a:tab algn="l" pos="1433520"/>
                  <a:tab algn="l" pos="1792440"/>
                  <a:tab algn="l" pos="2151000"/>
                  <a:tab algn="l" pos="2509920"/>
                  <a:tab algn="l" pos="2868480"/>
                  <a:tab algn="l" pos="3227400"/>
                  <a:tab algn="l" pos="3586320"/>
                  <a:tab algn="l" pos="3944880"/>
                  <a:tab algn="l" pos="4303800"/>
                  <a:tab algn="l" pos="4662360"/>
                  <a:tab algn="l" pos="5021280"/>
                  <a:tab algn="l" pos="5380200"/>
                  <a:tab algn="l" pos="5738760"/>
                  <a:tab algn="l" pos="6097680"/>
                  <a:tab algn="l" pos="6456240"/>
                  <a:tab algn="l" pos="6815160"/>
                  <a:tab algn="l" pos="7174080"/>
                  <a:tab algn="l" pos="7175520"/>
                  <a:tab algn="l" pos="7534440"/>
                  <a:tab algn="l" pos="7893000"/>
                  <a:tab algn="l" pos="8251920"/>
                  <a:tab algn="l" pos="8610480"/>
                  <a:tab algn="l" pos="8969400"/>
                  <a:tab algn="l" pos="9328320"/>
                  <a:tab algn="l" pos="9686880"/>
                  <a:tab algn="l" pos="10045800"/>
                  <a:tab algn="l" pos="10404360"/>
                  <a:tab algn="l" pos="10763280"/>
                </a:tabLst>
              </a:pPr>
              <a:r>
                <a:rPr b="1" i="1" lang="nl-NL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nl-NL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6310080" y="2739960"/>
              <a:ext cx="2570400" cy="721440"/>
              <a:chOff x="6310080" y="2739960"/>
              <a:chExt cx="2570400" cy="721440"/>
            </a:xfrm>
          </p:grpSpPr>
          <p:pic>
            <p:nvPicPr>
              <p:cNvPr id="65" name="" descr=""/>
              <p:cNvPicPr/>
              <p:nvPr/>
            </p:nvPicPr>
            <p:blipFill>
              <a:blip r:embed="rId3"/>
              <a:srcRect l="15447" t="51210" r="51081" b="0"/>
              <a:stretch/>
            </p:blipFill>
            <p:spPr>
              <a:xfrm>
                <a:off x="6900840" y="2739960"/>
                <a:ext cx="1979640" cy="719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6" name=""/>
              <p:cNvGrpSpPr/>
              <p:nvPr/>
            </p:nvGrpSpPr>
            <p:grpSpPr>
              <a:xfrm>
                <a:off x="6310080" y="2806560"/>
                <a:ext cx="538560" cy="654840"/>
                <a:chOff x="6310080" y="2806560"/>
                <a:chExt cx="538560" cy="65484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6521760" y="2806560"/>
                  <a:ext cx="326880" cy="30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357120"/>
                      <a:tab algn="l" pos="716040"/>
                      <a:tab algn="l" pos="1074600"/>
                      <a:tab algn="l" pos="1433520"/>
                      <a:tab algn="l" pos="1792440"/>
                      <a:tab algn="l" pos="2151000"/>
                      <a:tab algn="l" pos="2509920"/>
                      <a:tab algn="l" pos="2868480"/>
                      <a:tab algn="l" pos="3227400"/>
                      <a:tab algn="l" pos="3586320"/>
                      <a:tab algn="l" pos="3944880"/>
                      <a:tab algn="l" pos="4303800"/>
                      <a:tab algn="l" pos="4662360"/>
                      <a:tab algn="l" pos="5021280"/>
                      <a:tab algn="l" pos="5380200"/>
                      <a:tab algn="l" pos="5738760"/>
                      <a:tab algn="l" pos="6097680"/>
                      <a:tab algn="l" pos="6456240"/>
                      <a:tab algn="l" pos="6815160"/>
                      <a:tab algn="l" pos="7174080"/>
                      <a:tab algn="l" pos="7175520"/>
                      <a:tab algn="l" pos="7534440"/>
                      <a:tab algn="l" pos="7893000"/>
                      <a:tab algn="l" pos="8251920"/>
                      <a:tab algn="l" pos="8610480"/>
                      <a:tab algn="l" pos="8969400"/>
                      <a:tab algn="l" pos="9328320"/>
                      <a:tab algn="l" pos="9686880"/>
                      <a:tab algn="l" pos="10045800"/>
                      <a:tab algn="l" pos="10404360"/>
                      <a:tab algn="l" pos="10763280"/>
                    </a:tabLst>
                  </a:pPr>
                  <a:r>
                    <a:rPr b="1" lang="nl-NL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1" i="1" lang="nl-NL" sz="20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6524640" y="3084480"/>
                  <a:ext cx="29520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6620040" y="3156120"/>
                  <a:ext cx="217080" cy="30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357120"/>
                      <a:tab algn="l" pos="716040"/>
                      <a:tab algn="l" pos="1074600"/>
                      <a:tab algn="l" pos="1433520"/>
                      <a:tab algn="l" pos="1792440"/>
                      <a:tab algn="l" pos="2151000"/>
                      <a:tab algn="l" pos="2509920"/>
                      <a:tab algn="l" pos="2868480"/>
                      <a:tab algn="l" pos="3227400"/>
                      <a:tab algn="l" pos="3586320"/>
                      <a:tab algn="l" pos="3944880"/>
                      <a:tab algn="l" pos="4303800"/>
                      <a:tab algn="l" pos="4662360"/>
                      <a:tab algn="l" pos="5021280"/>
                      <a:tab algn="l" pos="5380200"/>
                      <a:tab algn="l" pos="5738760"/>
                      <a:tab algn="l" pos="6097680"/>
                      <a:tab algn="l" pos="6456240"/>
                      <a:tab algn="l" pos="6815160"/>
                      <a:tab algn="l" pos="7174080"/>
                      <a:tab algn="l" pos="7175520"/>
                      <a:tab algn="l" pos="7534440"/>
                      <a:tab algn="l" pos="7893000"/>
                      <a:tab algn="l" pos="8251920"/>
                      <a:tab algn="l" pos="8610480"/>
                      <a:tab algn="l" pos="8969400"/>
                      <a:tab algn="l" pos="9328320"/>
                      <a:tab algn="l" pos="9686880"/>
                      <a:tab algn="l" pos="10045800"/>
                      <a:tab algn="l" pos="10404360"/>
                      <a:tab algn="l" pos="10763280"/>
                    </a:tabLst>
                  </a:pPr>
                  <a:r>
                    <a:rPr b="1" lang="nl-NL" sz="2000" spc="-1" strike="noStrike">
                      <a:solidFill>
                        <a:srgbClr val="000000"/>
                      </a:solidFill>
                      <a:latin typeface="Times New Roman"/>
                    </a:rPr>
                    <a:t>ħ</a:t>
                  </a:r>
                  <a:r>
                    <a:rPr b="1" lang="nl-NL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6310080" y="2949480"/>
                  <a:ext cx="145440" cy="30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357120"/>
                      <a:tab algn="l" pos="716040"/>
                      <a:tab algn="l" pos="1074600"/>
                      <a:tab algn="l" pos="1433520"/>
                      <a:tab algn="l" pos="1792440"/>
                      <a:tab algn="l" pos="2151000"/>
                      <a:tab algn="l" pos="2509920"/>
                      <a:tab algn="l" pos="2868480"/>
                      <a:tab algn="l" pos="3227400"/>
                      <a:tab algn="l" pos="3586320"/>
                      <a:tab algn="l" pos="3944880"/>
                      <a:tab algn="l" pos="4303800"/>
                      <a:tab algn="l" pos="4662360"/>
                      <a:tab algn="l" pos="5021280"/>
                      <a:tab algn="l" pos="5380200"/>
                      <a:tab algn="l" pos="5738760"/>
                      <a:tab algn="l" pos="6097680"/>
                      <a:tab algn="l" pos="6456240"/>
                      <a:tab algn="l" pos="6815160"/>
                      <a:tab algn="l" pos="7174080"/>
                      <a:tab algn="l" pos="7175520"/>
                      <a:tab algn="l" pos="7534440"/>
                      <a:tab algn="l" pos="7893000"/>
                      <a:tab algn="l" pos="8251920"/>
                      <a:tab algn="l" pos="8610480"/>
                      <a:tab algn="l" pos="8969400"/>
                      <a:tab algn="l" pos="9328320"/>
                      <a:tab algn="l" pos="9686880"/>
                      <a:tab algn="l" pos="10045800"/>
                      <a:tab algn="l" pos="10404360"/>
                      <a:tab algn="l" pos="10763280"/>
                    </a:tabLst>
                  </a:pPr>
                  <a:r>
                    <a:rPr b="1" lang="nl-NL" sz="2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6597720" y="3227400"/>
                  <a:ext cx="7452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2484360" y="4673520"/>
            <a:ext cx="4176720" cy="708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2340000" y="5433840"/>
            <a:ext cx="4435560" cy="1432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123920" y="5530680"/>
            <a:ext cx="860400" cy="384480"/>
          </a:xfrm>
          <a:custGeom>
            <a:avLst/>
            <a:gdLst>
              <a:gd name="textAreaLeft" fmla="*/ 107280 w 860400"/>
              <a:gd name="textAreaRight" fmla="*/ 753120 w 860400"/>
              <a:gd name="textAreaTop" fmla="*/ 96120 h 384480"/>
              <a:gd name="textAreaBottom" fmla="*/ 288360 h 384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03480" y="4749840"/>
            <a:ext cx="210960" cy="1932120"/>
          </a:xfrm>
          <a:custGeom>
            <a:avLst/>
            <a:gdLst>
              <a:gd name="textAreaLeft" fmla="*/ 135000 w 210960"/>
              <a:gd name="textAreaRight" fmla="*/ 211320 w 210960"/>
              <a:gd name="textAreaTop" fmla="*/ 50040 h 1932120"/>
              <a:gd name="textAreaBottom" fmla="*/ 1882080 h 193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77400"/>
            <a:ext cx="884088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The Hydrogen Atom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923400"/>
            <a:ext cx="88394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 in the electric field of the nucle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imuth pa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 pa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l pa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w.v. and energ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124080" y="1549440"/>
            <a:ext cx="2286000" cy="590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rcRect l="57336" t="25372" r="5960" b="20484"/>
          <a:stretch/>
        </p:blipFill>
        <p:spPr>
          <a:xfrm>
            <a:off x="1709640" y="2629080"/>
            <a:ext cx="1446480" cy="502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550880" y="3657600"/>
            <a:ext cx="2344680" cy="522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605480" y="3681360"/>
            <a:ext cx="4014720" cy="380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rcRect l="0" t="8113" r="0" b="12738"/>
          <a:stretch/>
        </p:blipFill>
        <p:spPr>
          <a:xfrm>
            <a:off x="1560600" y="4646520"/>
            <a:ext cx="2628720" cy="650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4572000" y="4729320"/>
            <a:ext cx="2117880" cy="428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560520" y="5805360"/>
            <a:ext cx="3516120" cy="546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4038480" y="5611680"/>
            <a:ext cx="5105520" cy="90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77400"/>
            <a:ext cx="884088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The Hydrogen Atom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280" y="923400"/>
            <a:ext cx="88394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 moving in the electric field of the nucle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ound state (level with lowest energy)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2286000" cy="590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171960" y="3051000"/>
            <a:ext cx="2678040" cy="700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701720" y="3925800"/>
            <a:ext cx="6121440" cy="2932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269600" y="6486480"/>
            <a:ext cx="4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13560" y="3716280"/>
            <a:ext cx="9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00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|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000760" y="4362480"/>
            <a:ext cx="1093680" cy="892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88040" y="3747960"/>
            <a:ext cx="209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est probability of finding the electron a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77400"/>
            <a:ext cx="884088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pin &amp; Exclusion Principle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923400"/>
            <a:ext cx="88394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exist another quantum number describing the electron in an atom: SPIN number. It represents the rotation of the electron over its own axis. It can be obtained by solving the relativistic 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an electron inan atom is completely specified by 4 quantum numb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clusion principle says that no 2 electrons can have the same quantum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994200" y="4129200"/>
            <a:ext cx="1326960" cy="48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77400"/>
            <a:ext cx="884088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ssemblies of Classical Particles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923400"/>
            <a:ext cx="88394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a gas of N neutral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2367000"/>
            <a:ext cx="4267080" cy="3813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199680" y="2147760"/>
            <a:ext cx="74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nl-NL" sz="2400" spc="-1" strike="noStrike" baseline="-25000">
                <a:solidFill>
                  <a:srgbClr val="000000"/>
                </a:solidFill>
                <a:latin typeface="Times New Roman"/>
              </a:rPr>
              <a:t>xy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331800" y="2554200"/>
            <a:ext cx="95400" cy="238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514840" y="2109960"/>
            <a:ext cx="928800" cy="5457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537080" y="1557360"/>
            <a:ext cx="451800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very partic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particles in 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y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in a shell of thickness 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ensity of particles having a spe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density of 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pac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062680" y="3143160"/>
            <a:ext cx="2984400" cy="505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432400" y="4379760"/>
            <a:ext cx="2219400" cy="398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671120" y="627552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number of particles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5378400" y="6126120"/>
            <a:ext cx="3238560" cy="7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77400"/>
            <a:ext cx="884088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ssemblies of Classical Particles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280" y="923400"/>
            <a:ext cx="88394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stribution function (distribution of speed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let’s consider collisions inside this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an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found fr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2441520"/>
            <a:ext cx="2944800" cy="2019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836440" y="2406600"/>
            <a:ext cx="41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ision and reversed coll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conserv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82600" y="2205000"/>
            <a:ext cx="2416320" cy="223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646440" y="2870280"/>
            <a:ext cx="2116080" cy="315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871800" y="3646440"/>
            <a:ext cx="1752840" cy="343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7178760" y="3095640"/>
            <a:ext cx="1965240" cy="32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910560" y="2519280"/>
            <a:ext cx="226800" cy="1495440"/>
          </a:xfrm>
          <a:custGeom>
            <a:avLst/>
            <a:gdLst>
              <a:gd name="textAreaLeft" fmla="*/ 0 w 226800"/>
              <a:gd name="textAreaRight" fmla="*/ 81720 w 226800"/>
              <a:gd name="textAreaTop" fmla="*/ 38880 h 1495440"/>
              <a:gd name="textAreaBottom" fmla="*/ 1456560 h 149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600" y="5207040"/>
            <a:ext cx="8321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otal number of partic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finition of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73760" y="5595840"/>
            <a:ext cx="424080" cy="238320"/>
          </a:xfrm>
          <a:prstGeom prst="rightArrow">
            <a:avLst>
              <a:gd name="adj1" fmla="val 50000"/>
              <a:gd name="adj2" fmla="val 44486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2071800" y="5667480"/>
            <a:ext cx="4481280" cy="709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826360" y="647532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ean kinetic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3728880" y="4616280"/>
            <a:ext cx="225360" cy="3546360"/>
          </a:xfrm>
          <a:custGeom>
            <a:avLst/>
            <a:gdLst>
              <a:gd name="textAreaLeft" fmla="*/ 144000 w 225360"/>
              <a:gd name="textAreaRight" fmla="*/ 225720 w 225360"/>
              <a:gd name="textAreaTop" fmla="*/ 92160 h 3546360"/>
              <a:gd name="textAreaBottom" fmla="*/ 3454200 h 354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3344760" y="5105520"/>
            <a:ext cx="2799000" cy="676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540880" y="5854680"/>
            <a:ext cx="22953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½(</a:t>
            </a:r>
            <a:r>
              <a:rPr b="0" i="1" lang="nl-NL" sz="2000" spc="-1" strike="noStrike">
                <a:solidFill>
                  <a:srgbClr val="000000"/>
                </a:solidFill>
                <a:latin typeface="Times New Roman"/>
              </a:rPr>
              <a:t>M v</a:t>
            </a:r>
            <a:r>
              <a:rPr b="0" lang="nl-N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) [</a:t>
            </a:r>
            <a:r>
              <a:rPr b="0" i="1" lang="nl-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exp(-</a:t>
            </a:r>
            <a:r>
              <a:rPr b="0" i="1" lang="nl-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nl-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nl-N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04720" y="6189840"/>
            <a:ext cx="770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1960" y="5715000"/>
            <a:ext cx="1242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94400" y="5202360"/>
            <a:ext cx="227160" cy="1020600"/>
          </a:xfrm>
          <a:custGeom>
            <a:avLst/>
            <a:gdLst>
              <a:gd name="textAreaLeft" fmla="*/ 0 w 227160"/>
              <a:gd name="textAreaRight" fmla="*/ 82080 w 227160"/>
              <a:gd name="textAreaTop" fmla="*/ 26280 h 1020600"/>
              <a:gd name="textAreaBottom" fmla="*/ 994320 h 102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8"/>
          <a:srcRect l="0" t="0" r="0" b="77647"/>
          <a:stretch/>
        </p:blipFill>
        <p:spPr>
          <a:xfrm>
            <a:off x="7426440" y="5184720"/>
            <a:ext cx="1482480" cy="2937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9"/>
          <a:srcRect l="0" t="50063" r="0" b="0"/>
          <a:stretch/>
        </p:blipFill>
        <p:spPr>
          <a:xfrm>
            <a:off x="7421400" y="5638680"/>
            <a:ext cx="1482840" cy="6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Maxwell-Boltzmann Distribution Function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280" y="923400"/>
            <a:ext cx="88394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 betwe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particles in a shell of thickness 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gives the fraction of molecules (per unit volume) in a given speed range (per unit range of spe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098720" y="2155680"/>
            <a:ext cx="2219040" cy="3985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177920" y="2584440"/>
            <a:ext cx="1876320" cy="495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306600" y="2158920"/>
            <a:ext cx="239760" cy="862200"/>
          </a:xfrm>
          <a:custGeom>
            <a:avLst/>
            <a:gdLst>
              <a:gd name="textAreaLeft" fmla="*/ 0 w 239760"/>
              <a:gd name="textAreaRight" fmla="*/ 86400 w 239760"/>
              <a:gd name="textAreaTop" fmla="*/ 22320 h 862200"/>
              <a:gd name="textAreaBottom" fmla="*/ 839880 h 86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11520" y="2475000"/>
            <a:ext cx="424080" cy="237960"/>
          </a:xfrm>
          <a:prstGeom prst="rightArrow">
            <a:avLst>
              <a:gd name="adj1" fmla="val 50000"/>
              <a:gd name="adj2" fmla="val 4455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141800" y="2120760"/>
            <a:ext cx="3662280" cy="801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415880" y="4875120"/>
            <a:ext cx="582840" cy="270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366920" y="5316480"/>
            <a:ext cx="633240" cy="247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rot="5400000">
            <a:off x="1577160" y="504936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56040" y="3903840"/>
            <a:ext cx="34776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422440" y="3971880"/>
            <a:ext cx="4513320" cy="2884320"/>
            <a:chOff x="2422440" y="3971880"/>
            <a:chExt cx="4513320" cy="2884320"/>
          </a:xfrm>
        </p:grpSpPr>
        <p:pic>
          <p:nvPicPr>
            <p:cNvPr id="142" name="" descr=""/>
            <p:cNvPicPr/>
            <p:nvPr/>
          </p:nvPicPr>
          <p:blipFill>
            <a:blip r:embed="rId6"/>
            <a:srcRect l="0" t="12380" r="0" b="1380"/>
            <a:stretch/>
          </p:blipFill>
          <p:spPr>
            <a:xfrm>
              <a:off x="2422440" y="3971880"/>
              <a:ext cx="4513320" cy="283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3836160" y="6275520"/>
              <a:ext cx="1418760" cy="58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63560" y="5478840"/>
              <a:ext cx="79200" cy="739080"/>
            </a:xfrm>
            <a:custGeom>
              <a:avLst/>
              <a:gdLst/>
              <a:ahLst/>
              <a:rect l="l" t="t" r="r" b="b"/>
              <a:pathLst>
                <a:path w="50" h="466">
                  <a:moveTo>
                    <a:pt x="0" y="466"/>
                  </a:moveTo>
                  <a:lnTo>
                    <a:pt x="50" y="466"/>
                  </a:lnTo>
                  <a:lnTo>
                    <a:pt x="50" y="0"/>
                  </a:lnTo>
                  <a:lnTo>
                    <a:pt x="0" y="116"/>
                  </a:lnTo>
                  <a:lnTo>
                    <a:pt x="0" y="466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79480" y="6275520"/>
              <a:ext cx="347040" cy="58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47400" y="4319280"/>
              <a:ext cx="285480" cy="1904040"/>
            </a:xfrm>
            <a:custGeom>
              <a:avLst/>
              <a:gdLst/>
              <a:ahLst/>
              <a:rect l="l" t="t" r="r" b="b"/>
              <a:pathLst>
                <a:path w="180" h="1206">
                  <a:moveTo>
                    <a:pt x="18" y="1200"/>
                  </a:moveTo>
                  <a:lnTo>
                    <a:pt x="180" y="1203"/>
                  </a:lnTo>
                  <a:lnTo>
                    <a:pt x="174" y="48"/>
                  </a:lnTo>
                  <a:lnTo>
                    <a:pt x="153" y="21"/>
                  </a:lnTo>
                  <a:lnTo>
                    <a:pt x="129" y="6"/>
                  </a:lnTo>
                  <a:lnTo>
                    <a:pt x="105" y="0"/>
                  </a:lnTo>
                  <a:lnTo>
                    <a:pt x="78" y="9"/>
                  </a:lnTo>
                  <a:lnTo>
                    <a:pt x="57" y="21"/>
                  </a:lnTo>
                  <a:lnTo>
                    <a:pt x="33" y="39"/>
                  </a:lnTo>
                  <a:lnTo>
                    <a:pt x="0" y="1206"/>
                  </a:lnTo>
                  <a:lnTo>
                    <a:pt x="18" y="1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036880" y="5014800"/>
            <a:ext cx="1468440" cy="64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tricio</dc:creator>
  <dc:description/>
  <dc:language>en-US</dc:language>
  <cp:lastModifiedBy>Depto. Ing. Electrica</cp:lastModifiedBy>
  <dcterms:modified xsi:type="dcterms:W3CDTF">2008-08-11T21:49:15Z</dcterms:modified>
  <cp:revision>107</cp:revision>
  <dc:subject/>
  <dc:title>Physics of Electronics:  1. Introduction to Quantum Mechanics</dc:title>
</cp:coreProperties>
</file>