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6002913" cy="51206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10A-396A-4B0C-B6B9-7D6C91DF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7EF-0412-4C10-A9A1-B612D867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958-60AD-44EB-A230-7F990CE6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7551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7099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003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27551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237099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AB1-C918-4D6B-8FF3-570B9DDB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57A2-268D-44EB-9CD4-3A21B788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3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FCE8-4C69-4242-91C7-468104E9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3D90-EA43-4B0D-8630-776DE0CF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FA9D-0112-4FD0-8A42-FB7216BB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6013-0A83-446E-9743-BE3DD317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9669240" y="15224400"/>
            <a:ext cx="24383880" cy="1024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3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1AAB-5DD7-4673-893D-D5EB0BDB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2A03-A611-4B8B-A87F-4652AC06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3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D69-BB89-4F70-9E65-7BD567FA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BE11-C843-49CD-91EC-DF56872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CFA-8BE6-427C-AAB9-8B891C56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3B3E-271E-448F-85D7-9CA847B0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E6B8-AA2C-4318-B422-CCD9AB31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27551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37099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8003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27551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237099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95B7-5886-49B3-960A-1A061FC0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B29-EFFE-4577-A322-6AA0389A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809-AB77-4951-A334-7B1F900B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0F8-5322-4FAB-B75E-0BB69DA1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669240" y="15224400"/>
            <a:ext cx="24383880" cy="1024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3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7FA-5BCF-447E-B29C-E62895BC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011-24A1-4309-9086-1AB10D3B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AD4-BAB3-4E4D-8E87-D566ABE4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5714-F9D0-4A50-B843-D0D9B9FF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392480" y="0"/>
            <a:ext cx="11550600" cy="51192000"/>
            <a:chOff x="-1392480" y="0"/>
            <a:chExt cx="11550600" cy="51192000"/>
          </a:xfrm>
        </p:grpSpPr>
        <p:sp>
          <p:nvSpPr>
            <p:cNvPr id="1" name=""/>
            <p:cNvSpPr/>
            <p:nvPr/>
          </p:nvSpPr>
          <p:spPr>
            <a:xfrm>
              <a:off x="-31680" y="38665080"/>
              <a:ext cx="2949480" cy="95043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1392480" y="30094560"/>
              <a:ext cx="6834960" cy="3278880"/>
              <a:chOff x="-1392480" y="30094560"/>
              <a:chExt cx="6834960" cy="327888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-480240" y="30326760"/>
                <a:ext cx="720720" cy="2449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609840" y="31416120"/>
                <a:ext cx="1233360" cy="2033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4083120" y="30363840"/>
                <a:ext cx="1289160" cy="103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561960" y="20575440"/>
              <a:ext cx="4438800" cy="910440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15200" y="20093760"/>
              <a:ext cx="10273320" cy="21872880"/>
              <a:chOff x="-115200" y="20093760"/>
              <a:chExt cx="10273320" cy="2187288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1894320" y="20429640"/>
                <a:ext cx="3840120" cy="75038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701280" y="21645360"/>
                <a:ext cx="3213000" cy="7627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1718280" y="23224680"/>
                <a:ext cx="1141200" cy="38642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3544560" y="28500480"/>
                <a:ext cx="1042920" cy="230328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3234600" y="29033280"/>
                <a:ext cx="258840" cy="136548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2820960" y="31263840"/>
                <a:ext cx="7337160" cy="10702800"/>
                <a:chOff x="2820960" y="31263840"/>
                <a:chExt cx="7337160" cy="1070280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4002120" y="31578120"/>
                  <a:ext cx="3537000" cy="47847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8565120" y="37490760"/>
                  <a:ext cx="819000" cy="19638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8908920" y="41070960"/>
                  <a:ext cx="1487520" cy="3301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13640" y="47183760"/>
              <a:ext cx="5965920" cy="2505600"/>
              <a:chOff x="413640" y="47183760"/>
              <a:chExt cx="5965920" cy="250560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4921920" y="46843200"/>
                <a:ext cx="689040" cy="2122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3575520" y="48022200"/>
                <a:ext cx="1177920" cy="1764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382680" y="47440800"/>
                <a:ext cx="1231920" cy="898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-148680" y="14400720"/>
              <a:ext cx="5895720" cy="3023640"/>
              <a:chOff x="-148680" y="14400720"/>
              <a:chExt cx="5895720" cy="302364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4184640" y="13823640"/>
                <a:ext cx="811080" cy="2230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3203280" y="15565320"/>
                <a:ext cx="1389240" cy="1852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-318600" y="16174440"/>
                <a:ext cx="1452600" cy="942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94360" y="0"/>
              <a:ext cx="2151000" cy="4343400"/>
              <a:chOff x="5094360" y="0"/>
              <a:chExt cx="2151000" cy="4343400"/>
            </a:xfrm>
          </p:grpSpPr>
          <p:sp>
            <p:nvSpPr>
              <p:cNvPr id="26" name=""/>
              <p:cNvSpPr/>
              <p:nvPr/>
            </p:nvSpPr>
            <p:spPr>
              <a:xfrm>
                <a:off x="5094360" y="0"/>
                <a:ext cx="682560" cy="1631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6078600" y="771480"/>
                <a:ext cx="1166760" cy="1355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43520" y="3652920"/>
                <a:ext cx="1220760" cy="6904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542880" y="1116000"/>
              <a:ext cx="4368960" cy="89582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1512720" y="40347720"/>
              <a:ext cx="825840" cy="19778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1663560" y="42574680"/>
              <a:ext cx="412920" cy="5079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400" y="48714120"/>
              <a:ext cx="736560" cy="24778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7031120"/>
              <a:ext cx="812880" cy="15163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6805760"/>
              <a:ext cx="293760" cy="101916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38390400"/>
              <a:ext cx="3106800" cy="877104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124920" y="4858920"/>
              <a:ext cx="2151360" cy="29019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1512360" y="8959320"/>
              <a:ext cx="1044720" cy="1362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3587760" y="3389400"/>
              <a:ext cx="917640" cy="18968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1476000" y="8543880"/>
              <a:ext cx="387360" cy="11509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3657600" y="5521320"/>
              <a:ext cx="449280" cy="4856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0501200"/>
              <a:ext cx="2251080" cy="77025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351000" y="993240"/>
              <a:ext cx="5024160" cy="8131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44200" y="210960"/>
            <a:ext cx="32457960" cy="103730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00360" y="11947320"/>
            <a:ext cx="32402160" cy="332708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rmAutofit/>
          </a:bodyPr>
          <a:p>
            <a:pPr marL="1866960" indent="-18669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1" marL="4048200" indent="-15573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2" marL="6227640" indent="-12445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3" marL="8720280" indent="-12463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4" marL="11193480" indent="-124308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5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6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1800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12301560" y="46654560"/>
            <a:ext cx="113997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25803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CFB259-C527-468A-B59E-D1FEEA29646E}" type="slidenum">
              <a:rPr b="0" lang="en-GB" sz="76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756720" y="0"/>
            <a:ext cx="37390680" cy="51203160"/>
            <a:chOff x="-756720" y="0"/>
            <a:chExt cx="37390680" cy="51203160"/>
          </a:xfrm>
        </p:grpSpPr>
        <p:grpSp>
          <p:nvGrpSpPr>
            <p:cNvPr id="85" name=""/>
            <p:cNvGrpSpPr/>
            <p:nvPr/>
          </p:nvGrpSpPr>
          <p:grpSpPr>
            <a:xfrm>
              <a:off x="19545480" y="1801800"/>
              <a:ext cx="17088480" cy="43834320"/>
              <a:chOff x="19545480" y="1801800"/>
              <a:chExt cx="17088480" cy="4383432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25545600" y="2694600"/>
                <a:ext cx="8329680" cy="175989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29039760" y="14776200"/>
                <a:ext cx="3568680" cy="62938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26776080" y="19307880"/>
                <a:ext cx="1730160" cy="2951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28050840" y="5100480"/>
                <a:ext cx="1531800" cy="4111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28075680" y="19731600"/>
                <a:ext cx="644760" cy="247788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27689760" y="9278280"/>
                <a:ext cx="749520" cy="106704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23656680" y="21614400"/>
                <a:ext cx="2062080" cy="244044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136440" y="23196240"/>
              <a:ext cx="2017800" cy="769140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9400" y="14933520"/>
              <a:ext cx="7869240" cy="1815948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0934080"/>
              <a:ext cx="5005440" cy="544032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5609880" y="33841800"/>
              <a:ext cx="2212920" cy="54997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4990680" y="35312400"/>
              <a:ext cx="544680" cy="32461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9040" y="38793600"/>
              <a:ext cx="6924600" cy="1240956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4633280" y="8967600"/>
              <a:ext cx="6689160" cy="7258680"/>
              <a:chOff x="14633280" y="8967600"/>
              <a:chExt cx="6689160" cy="725868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19113120" y="8750160"/>
                <a:ext cx="1033200" cy="3081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18881280" y="11218680"/>
                <a:ext cx="1769760" cy="256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14779080" y="14443200"/>
                <a:ext cx="1849680" cy="130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1660120" y="3029040"/>
              <a:ext cx="4746600" cy="4537080"/>
              <a:chOff x="21660120" y="3029040"/>
              <a:chExt cx="4746600" cy="453708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22246200" y="5783760"/>
                <a:ext cx="984240" cy="1928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21941280" y="4024800"/>
                <a:ext cx="1685880" cy="160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24817320" y="3590640"/>
                <a:ext cx="1761840" cy="8161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897280" y="39707280"/>
              <a:ext cx="5906520" cy="5104440"/>
              <a:chOff x="2897280" y="39707280"/>
              <a:chExt cx="5906520" cy="510444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7230960" y="42030720"/>
                <a:ext cx="990720" cy="2232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4939920" y="42631560"/>
                <a:ext cx="1695600" cy="1854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2999880" y="40152600"/>
                <a:ext cx="1771920" cy="94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-756720" y="5063760"/>
              <a:ext cx="11029680" cy="5841000"/>
              <a:chOff x="-756720" y="5063760"/>
              <a:chExt cx="11029680" cy="584100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7496280" y="6745680"/>
                <a:ext cx="1447920" cy="3840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4637880" y="5197320"/>
                <a:ext cx="2478240" cy="318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-829800" y="8591760"/>
                <a:ext cx="2590920" cy="1624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9267640" y="27973800"/>
              <a:ext cx="4777200" cy="11195280"/>
              <a:chOff x="29267640" y="27973800"/>
              <a:chExt cx="4777200" cy="1119528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29695320" y="35096400"/>
                <a:ext cx="1401840" cy="3965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31306320" y="33363000"/>
                <a:ext cx="2398680" cy="3293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29434320" y="28234080"/>
                <a:ext cx="2506680" cy="1678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7607160" y="23760"/>
              <a:ext cx="5388120" cy="1050120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13490640" y="1210320"/>
              <a:ext cx="4255920" cy="70272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12484080" y="10170000"/>
              <a:ext cx="2062080" cy="329256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13902840" y="9578160"/>
              <a:ext cx="770040" cy="27637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020240" y="0"/>
              <a:ext cx="774720" cy="143496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13582440" y="14671440"/>
              <a:ext cx="2455560" cy="2726352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1902760"/>
              <a:ext cx="225360" cy="156384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1800000" y="46654560"/>
            <a:ext cx="83991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12301560" y="46654560"/>
            <a:ext cx="113997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25803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88290-FFAA-4D13-A2C1-615A1DD9F00F}" type="slidenum">
              <a:rPr b="0" lang="en-GB" sz="76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66960" indent="-18669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1" marL="4048200" indent="-15573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2" marL="6227640" indent="-12445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3" marL="8720280" indent="-12463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4" marL="11193480" indent="-124308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5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6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12720" y="574560"/>
            <a:ext cx="27684360" cy="41198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981680"/>
                <a:tab algn="l" pos="99648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</a:tabLst>
            </a:pPr>
            <a:r>
              <a:rPr b="1" lang="en-GB" sz="7200" spc="-1" strike="noStrike">
                <a:solidFill>
                  <a:srgbClr val="006666"/>
                </a:solidFill>
                <a:latin typeface="Verdana"/>
              </a:rPr>
              <a:t>+ entretención</a:t>
            </a:r>
            <a:br>
              <a:rPr sz="7200"/>
            </a:br>
            <a:br>
              <a:rPr sz="7200"/>
            </a:br>
            <a:r>
              <a:rPr b="1" lang="en-GB" sz="7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1" lang="en-GB" sz="12000" spc="-1" strike="noStrike">
                <a:solidFill>
                  <a:srgbClr val="006666"/>
                </a:solidFill>
                <a:latin typeface="Verdana"/>
              </a:rPr>
              <a:t>+ INTEGRACIÓN </a:t>
            </a:r>
            <a:endParaRPr b="0" lang="en-US" sz="1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9001400"/>
            <a:ext cx="4132440" cy="220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03236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06292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2095280" y="49001400"/>
            <a:ext cx="413856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13376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0164320" y="49001400"/>
            <a:ext cx="4132440" cy="2205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2419668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2822904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225960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8540360" y="26104680"/>
            <a:ext cx="15082920" cy="10974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1979640" y="10980720"/>
            <a:ext cx="19620000" cy="16019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220360" y="12750840"/>
            <a:ext cx="1043928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6699"/>
                </a:solidFill>
                <a:latin typeface="Arial"/>
              </a:rPr>
              <a:t>La principal función que cumple este juego es Entretener e “Integrar” ,dandole autonomía en el juego a los niños en silla de ruedas. 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8343160"/>
            <a:ext cx="129603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0" lang="en-GB" sz="6600" spc="-1" strike="noStrike">
                <a:solidFill>
                  <a:srgbClr val="006699"/>
                </a:solidFill>
                <a:latin typeface="Arial"/>
              </a:rPr>
              <a:t>Funciona a través de un mecanismo de rodamientos utilizando la energía que proporcionan los mismos niños, ya sea con sus brazos o piernas. 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0" y="4859280"/>
            <a:ext cx="29700720" cy="66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Es un juego, como se muestra en el dibujo, cuyo diseño esta orientado y replanteado para que puedan participar en él niños con o sin discapacidades, en especial considera a los que utilizan silla de ruedas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De qué quiebre se hace cargo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Se hace cargo del quiebre “Falta de integración hacia discapacitados, en parques y plazas”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A quién o a qué comunidad le cambiará la vida y por qué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Este producto esta destinado para todo tipo de niños, que deseen frecuentar parques y plazas. La idea del proyecto, es crear una instancia de diversión en la cual puedan participar niños que se desplacen en silla de ruedas además de los que no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68400" y="33695280"/>
            <a:ext cx="33770880" cy="9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1" lang="en-GB" sz="4400" spc="-1" strike="noStrike">
                <a:solidFill>
                  <a:srgbClr val="006699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Se espera que este proyecto cumpla con el objetivo de hacer un poco más fácil y entretenida la vida de estos chicos; fomentando oportunidades de convivencia entre niños con o sin algún tipo de discapacidad. También se tiene la expectativa de que incentive a municipios o entidades gubernamentales a desarrollarlo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1" lang="en-GB" sz="4400" spc="-1" strike="noStrike">
                <a:solidFill>
                  <a:srgbClr val="006699"/>
                </a:solidFill>
                <a:latin typeface="Arial"/>
              </a:rPr>
              <a:t>Fortalezas o debilidades del producto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Una de las principales fortalezas del producto es la versatilidad de usos y usuarios que proporciona; esto se ve reflejado en que los niños pueden utilizarlo mediante las manos o los pies y como se ha recalcado anteriormente puede ser usado con o sin silla de ruedas. Otro punto a destacar es la simplicidad de su mecanismo y la poca necesidad de mantenimiento. Una tercera virtud es que permite la participación activa de padres sin que esta se vuelva imprescindible. Todos los juegos que integren a los niños con o sin discapacidad son sustitutos al producto. Limitaciones tecnológicas podrían considerarse como los sistemas de seguridad que utilizará el juego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9640" y="44280000"/>
            <a:ext cx="809928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Grupo 5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curso :EI2A1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sección: 14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Roberto Delgado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José Miguel Chap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Paula Latorr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Nicole Lar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Isidora Gallo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28440000" y="45899280"/>
            <a:ext cx="6664320" cy="25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latorr</dc:creator>
  <dc:description/>
  <dc:language>en-US</dc:language>
  <cp:lastModifiedBy>palatorr</cp:lastModifiedBy>
  <cp:revision>0</cp:revision>
  <dc:subject/>
  <dc:title>Inventar nombre </dc:title>
</cp:coreProperties>
</file>