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6002913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D2A-4922-4645-A80A-242FEBA0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5AB-C8B8-4DAE-B023-9CFEBA92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86F-086F-400D-A73C-7E06D1CA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0BC-39D4-40B4-9004-01D9BC82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E41-0C55-4141-8D6C-4C16406C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5156-7FC6-4DBF-B7A9-60B6D1A2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6D95-E1C7-43FA-B4E6-6BD7192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5CF3-0453-49D4-89F6-91150C57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5398-346D-42C0-903B-E3AE8B8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C789-2675-4011-BBDC-95EC2958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93A8-8764-4001-A503-CC58750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674-4591-4035-B076-AE218A8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94B0-4EDD-4484-A132-38FED5C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AD4-2897-4DC4-842F-5D6383C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CC5-C005-4DBD-9806-2D1CB0EF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5837-FC80-45EA-8254-D4D027D1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74A-7EA1-499B-9E3E-275E2567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DFF-0FB8-48A3-AED7-FBE559C2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FE1-5A82-497B-A6AB-6C6C54E0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B3A-A5AB-4783-85C4-2E9F8ADD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7EB-8B5E-4904-B663-373C4135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19A-01E6-4B0A-8079-53115A6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453-D85B-4088-9A41-583BF5B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C9C-6363-4951-BF35-5F996E7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92480" y="0"/>
            <a:ext cx="11550600" cy="51192000"/>
            <a:chOff x="-1392480" y="0"/>
            <a:chExt cx="11550600" cy="51192000"/>
          </a:xfrm>
        </p:grpSpPr>
        <p:sp>
          <p:nvSpPr>
            <p:cNvPr id="1" name=""/>
            <p:cNvSpPr/>
            <p:nvPr/>
          </p:nvSpPr>
          <p:spPr>
            <a:xfrm>
              <a:off x="-31680" y="38665080"/>
              <a:ext cx="2949480" cy="9504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392480" y="30094560"/>
              <a:ext cx="6834960" cy="3278880"/>
              <a:chOff x="-1392480" y="30094560"/>
              <a:chExt cx="6834960" cy="3278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480240" y="30326760"/>
                <a:ext cx="720720" cy="244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609840" y="31416120"/>
                <a:ext cx="1233360" cy="203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4083120" y="30363840"/>
                <a:ext cx="1289160" cy="103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561960" y="20575440"/>
              <a:ext cx="4438800" cy="91044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15200" y="20093760"/>
              <a:ext cx="10273320" cy="21872880"/>
              <a:chOff x="-115200" y="20093760"/>
              <a:chExt cx="10273320" cy="218728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894320" y="20429640"/>
                <a:ext cx="3840120" cy="75038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701280" y="21645360"/>
                <a:ext cx="3213000" cy="7627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718280" y="23224680"/>
                <a:ext cx="1141200" cy="38642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3544560" y="28500480"/>
                <a:ext cx="1042920" cy="230328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34600" y="29033280"/>
                <a:ext cx="258840" cy="13654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820960" y="31263840"/>
                <a:ext cx="7337160" cy="10702800"/>
                <a:chOff x="2820960" y="31263840"/>
                <a:chExt cx="7337160" cy="107028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4002120" y="31578120"/>
                  <a:ext cx="3537000" cy="4784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8565120" y="37490760"/>
                  <a:ext cx="819000" cy="19638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8908920" y="41070960"/>
                  <a:ext cx="1487520" cy="3301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13640" y="47183760"/>
              <a:ext cx="5965920" cy="2505600"/>
              <a:chOff x="413640" y="47183760"/>
              <a:chExt cx="5965920" cy="2505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4921920" y="46843200"/>
                <a:ext cx="689040" cy="212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3575520" y="48022200"/>
                <a:ext cx="1177920" cy="1764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82680" y="47440800"/>
                <a:ext cx="1231920" cy="898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-148680" y="14400720"/>
              <a:ext cx="5895720" cy="3023640"/>
              <a:chOff x="-148680" y="14400720"/>
              <a:chExt cx="5895720" cy="30236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4184640" y="13823640"/>
                <a:ext cx="811080" cy="223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3203280" y="15565320"/>
                <a:ext cx="1389240" cy="1852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318600" y="16174440"/>
                <a:ext cx="1452600" cy="94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94360" y="0"/>
              <a:ext cx="2151000" cy="4343400"/>
              <a:chOff x="5094360" y="0"/>
              <a:chExt cx="2151000" cy="4343400"/>
            </a:xfrm>
          </p:grpSpPr>
          <p:sp>
            <p:nvSpPr>
              <p:cNvPr id="26" name=""/>
              <p:cNvSpPr/>
              <p:nvPr/>
            </p:nvSpPr>
            <p:spPr>
              <a:xfrm>
                <a:off x="5094360" y="0"/>
                <a:ext cx="682560" cy="1631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078600" y="771480"/>
                <a:ext cx="1166760" cy="13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43520" y="3652920"/>
                <a:ext cx="1220760" cy="690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542880" y="1116000"/>
              <a:ext cx="4368960" cy="89582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1512720" y="40347720"/>
              <a:ext cx="825840" cy="1977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1663560" y="42574680"/>
              <a:ext cx="412920" cy="507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400" y="48714120"/>
              <a:ext cx="736560" cy="24778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7031120"/>
              <a:ext cx="812880" cy="1516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6805760"/>
              <a:ext cx="293760" cy="10191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8390400"/>
              <a:ext cx="3106800" cy="87710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124920" y="4858920"/>
              <a:ext cx="2151360" cy="290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1512360" y="8959320"/>
              <a:ext cx="1044720" cy="1362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3587760" y="3389400"/>
              <a:ext cx="917640" cy="1896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1476000" y="8543880"/>
              <a:ext cx="387360" cy="1150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3657600" y="5521320"/>
              <a:ext cx="449280" cy="485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0501200"/>
              <a:ext cx="2251080" cy="7702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351000" y="993240"/>
              <a:ext cx="5024160" cy="8131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44200" y="210960"/>
            <a:ext cx="32457960" cy="103730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360" y="11947320"/>
            <a:ext cx="32402160" cy="33270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800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3174AC-1665-4C44-AB8C-B29F34413A4F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756720" y="0"/>
            <a:ext cx="37390680" cy="51203160"/>
            <a:chOff x="-756720" y="0"/>
            <a:chExt cx="37390680" cy="51203160"/>
          </a:xfrm>
        </p:grpSpPr>
        <p:grpSp>
          <p:nvGrpSpPr>
            <p:cNvPr id="85" name=""/>
            <p:cNvGrpSpPr/>
            <p:nvPr/>
          </p:nvGrpSpPr>
          <p:grpSpPr>
            <a:xfrm>
              <a:off x="19545480" y="1801800"/>
              <a:ext cx="17088480" cy="43834320"/>
              <a:chOff x="19545480" y="1801800"/>
              <a:chExt cx="17088480" cy="4383432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25545600" y="2694600"/>
                <a:ext cx="8329680" cy="175989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29039760" y="14776200"/>
                <a:ext cx="3568680" cy="6293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26776080" y="19307880"/>
                <a:ext cx="1730160" cy="2951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28050840" y="5100480"/>
                <a:ext cx="1531800" cy="4111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28075680" y="19731600"/>
                <a:ext cx="644760" cy="24778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27689760" y="9278280"/>
                <a:ext cx="749520" cy="106704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3656680" y="21614400"/>
                <a:ext cx="2062080" cy="244044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36440" y="23196240"/>
              <a:ext cx="2017800" cy="7691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9400" y="14933520"/>
              <a:ext cx="7869240" cy="1815948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0934080"/>
              <a:ext cx="5005440" cy="54403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5609880" y="33841800"/>
              <a:ext cx="2212920" cy="54997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4990680" y="35312400"/>
              <a:ext cx="544680" cy="32461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9040" y="38793600"/>
              <a:ext cx="6924600" cy="1240956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633280" y="8967600"/>
              <a:ext cx="6689160" cy="7258680"/>
              <a:chOff x="14633280" y="8967600"/>
              <a:chExt cx="6689160" cy="7258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19113120" y="8750160"/>
                <a:ext cx="1033200" cy="3081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18881280" y="11218680"/>
                <a:ext cx="1769760" cy="256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14779080" y="14443200"/>
                <a:ext cx="1849680" cy="130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60120" y="3029040"/>
              <a:ext cx="4746600" cy="4537080"/>
              <a:chOff x="21660120" y="3029040"/>
              <a:chExt cx="4746600" cy="453708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22246200" y="5783760"/>
                <a:ext cx="984240" cy="1928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21941280" y="4024800"/>
                <a:ext cx="1685880" cy="160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24817320" y="3590640"/>
                <a:ext cx="1761840" cy="8161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97280" y="39707280"/>
              <a:ext cx="5906520" cy="5104440"/>
              <a:chOff x="2897280" y="39707280"/>
              <a:chExt cx="5906520" cy="510444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7230960" y="42030720"/>
                <a:ext cx="990720" cy="223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4939920" y="42631560"/>
                <a:ext cx="1695600" cy="1854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2999880" y="40152600"/>
                <a:ext cx="1771920" cy="94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756720" y="5063760"/>
              <a:ext cx="11029680" cy="5841000"/>
              <a:chOff x="-756720" y="5063760"/>
              <a:chExt cx="11029680" cy="5841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7496280" y="6745680"/>
                <a:ext cx="1447920" cy="3840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4637880" y="5197320"/>
                <a:ext cx="2478240" cy="318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829800" y="8591760"/>
                <a:ext cx="2590920" cy="162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267640" y="27973800"/>
              <a:ext cx="4777200" cy="11195280"/>
              <a:chOff x="29267640" y="27973800"/>
              <a:chExt cx="4777200" cy="111952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29695320" y="35096400"/>
                <a:ext cx="1401840" cy="3965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31306320" y="33363000"/>
                <a:ext cx="2398680" cy="329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29434320" y="28234080"/>
                <a:ext cx="2506680" cy="167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607160" y="23760"/>
              <a:ext cx="5388120" cy="105012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13490640" y="1210320"/>
              <a:ext cx="4255920" cy="70272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12484080" y="10170000"/>
              <a:ext cx="2062080" cy="32925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13902840" y="9578160"/>
              <a:ext cx="770040" cy="2763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20240" y="0"/>
              <a:ext cx="774720" cy="143496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13582440" y="14671440"/>
              <a:ext cx="2455560" cy="272635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1902760"/>
              <a:ext cx="225360" cy="15638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800000" y="46654560"/>
            <a:ext cx="83991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FCF5-2FDF-4836-B2A4-452082B94300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2720" y="574560"/>
            <a:ext cx="27684360" cy="4119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981680"/>
                <a:tab algn="l" pos="99648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+ entretención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GB" sz="12000" spc="-1" strike="noStrike">
                <a:solidFill>
                  <a:srgbClr val="006666"/>
                </a:solidFill>
                <a:latin typeface="Verdana"/>
              </a:rPr>
              <a:t>+ INTEGRACIÓN </a:t>
            </a:r>
            <a:endParaRPr b="0" lang="en-US" sz="1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23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6292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095280" y="49001400"/>
            <a:ext cx="41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1337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016432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419668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822904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225960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540360" y="26104680"/>
            <a:ext cx="15082920" cy="1097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979640" y="10980720"/>
            <a:ext cx="19620000" cy="160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220360" y="12750840"/>
            <a:ext cx="1043928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La principal función que cumple este juego es Entretener e “Integrar” ,dandole autonomía en el juego a los niños en silla de rued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8343160"/>
            <a:ext cx="12960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Funciona a través de un mecanismo de rodamientos utilizando la energía que proporcionan los mismos niños, ya sea con sus brazos o piern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4859280"/>
            <a:ext cx="29700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 un juego, como se muestra en el dibujo, cuyo diseño esta orientado y replanteado para que puedan participar en él niños con o sin discapacidades, en especial considera a los que utilizan silla de rueda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De qué quiebre se hace carg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hace cargo del quiebre “Falta de integración hacia discapacitados, en parques y plazas”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A quién o a qué comunidad le cambiará la vida y por qu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te producto esta destinado para todo tipo de niños, que deseen frecuentar parques y plazas. La idea del proyecto, es crear una instancia de diversión en la cual puedan participar niños que se desplacen en silla de ruedas además de los que n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8400" y="33695280"/>
            <a:ext cx="33770880" cy="9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espera que este proyecto cumpla con el objetivo de hacer un poco más fácil y entretenida la vida de estos chicos; fomentando oportunidades de convivencia entre niños con o sin algún tipo de discapacidad. También se tiene la expectativa de que incentive a municipios o entidades gubernamentales a desarrollarl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Fortalezas o debilidades del produc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Una de las principales fortalezas del producto es la versatilidad de usos y usuarios que proporciona; esto se ve reflejado en que los niños pueden utilizarlo mediante las manos o los pies y como se ha recalcado anteriormente puede ser usado con o sin silla de ruedas. Otro punto a destacar es la simplicidad de su mecanismo y la poca necesidad de mantenimiento. Una tercera virtud es que permite la participación activa de padres sin que esta se vuelva imprescindible. Todos los juegos que integren a los niños con o sin discapacidad son sustitutos al producto. Limitaciones tecnológicas podrían considerarse como los sistemas de seguridad que utilizará el jueg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4280000"/>
            <a:ext cx="80992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Grupo 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curso :EI2A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sección: 1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Roberto Delgado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José Miguel Chap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Paula Lator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Nicole Lar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Isidora Gall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28440000" y="45899280"/>
            <a:ext cx="6664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latorr</dc:creator>
  <dc:description/>
  <dc:language>en-US</dc:language>
  <cp:lastModifiedBy>palatorr</cp:lastModifiedBy>
  <cp:revision>0</cp:revision>
  <dc:subject/>
  <dc:title>Inventar nombre </dc:title>
</cp:coreProperties>
</file>