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36002913" cy="51206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9622-53EF-4E1B-90BF-4AA4B81DA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669240" y="4455720"/>
            <a:ext cx="24383880" cy="2673972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800360" y="11982600"/>
            <a:ext cx="3240072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800360" y="29634120"/>
            <a:ext cx="3240072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6540-6B41-407E-85CD-B77AC8624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669240" y="4455720"/>
            <a:ext cx="24383880" cy="2673972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800360" y="11982600"/>
            <a:ext cx="158112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8402480" y="11982600"/>
            <a:ext cx="158112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800360" y="29634120"/>
            <a:ext cx="158112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8402480" y="29634120"/>
            <a:ext cx="158112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D9D6-158A-4C64-BB4C-039B9C87D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669240" y="4455720"/>
            <a:ext cx="24383880" cy="2673972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800360" y="11982600"/>
            <a:ext cx="104328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755160" y="11982600"/>
            <a:ext cx="104328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3709960" y="11982600"/>
            <a:ext cx="104328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800360" y="29634120"/>
            <a:ext cx="104328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12755160" y="29634120"/>
            <a:ext cx="104328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23709960" y="29634120"/>
            <a:ext cx="104328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639A-6996-46AA-AD92-61A44F2D3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65130-2078-4868-B812-1FE454F39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669240" y="4455720"/>
            <a:ext cx="24383880" cy="2673972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800360" y="11982600"/>
            <a:ext cx="32400720" cy="3379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Bef>
                <a:spcPts val="43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C54DA-D925-4B5C-9EEA-FCF850713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669240" y="4455720"/>
            <a:ext cx="24383880" cy="2673972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800360" y="11982600"/>
            <a:ext cx="32400720" cy="3379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CE7EA-D7E2-47B4-A9C3-61D60C39B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669240" y="4455720"/>
            <a:ext cx="24383880" cy="2673972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800360" y="11982600"/>
            <a:ext cx="15811200" cy="3379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8402480" y="11982600"/>
            <a:ext cx="15811200" cy="3379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32350-4FE4-448A-8AE5-10B6E3D1C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669240" y="4455720"/>
            <a:ext cx="24383880" cy="2673972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071B6-789F-4737-A182-FF78D9472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9669240" y="15224400"/>
            <a:ext cx="24383880" cy="10241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Bef>
                <a:spcPts val="43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951A3-4D90-40D5-B05F-9B954163E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669240" y="4455720"/>
            <a:ext cx="24383880" cy="2673972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800360" y="11982600"/>
            <a:ext cx="158112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18402480" y="11982600"/>
            <a:ext cx="15811200" cy="3379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800360" y="29634120"/>
            <a:ext cx="158112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079E5-2253-46E2-9A4E-5FC6B0558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69240" y="4455720"/>
            <a:ext cx="24383880" cy="2673972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800360" y="11982600"/>
            <a:ext cx="32400720" cy="3379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Bef>
                <a:spcPts val="43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F7C9-256C-4E64-A2DD-695E6B9FF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669240" y="4455720"/>
            <a:ext cx="24383880" cy="2673972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800360" y="11982600"/>
            <a:ext cx="15811200" cy="3379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18402480" y="11982600"/>
            <a:ext cx="158112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8402480" y="29634120"/>
            <a:ext cx="158112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BFD5D-8506-4619-BA09-8DF3771F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669240" y="4455720"/>
            <a:ext cx="24383880" cy="2673972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800360" y="11982600"/>
            <a:ext cx="158112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8402480" y="11982600"/>
            <a:ext cx="158112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800360" y="29634120"/>
            <a:ext cx="3240072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DA725-CE66-4EA4-931F-965DBFA2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669240" y="4455720"/>
            <a:ext cx="24383880" cy="2673972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800360" y="11982600"/>
            <a:ext cx="3240072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800360" y="29634120"/>
            <a:ext cx="3240072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E9462-DBF1-4EA0-A2A3-B1780E02F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669240" y="4455720"/>
            <a:ext cx="24383880" cy="2673972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800360" y="11982600"/>
            <a:ext cx="158112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18402480" y="11982600"/>
            <a:ext cx="158112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800360" y="29634120"/>
            <a:ext cx="158112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8402480" y="29634120"/>
            <a:ext cx="158112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48ACD-D42F-4D2A-9C06-87F48A041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669240" y="4455720"/>
            <a:ext cx="24383880" cy="2673972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800360" y="11982600"/>
            <a:ext cx="104328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12755160" y="11982600"/>
            <a:ext cx="104328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23709960" y="11982600"/>
            <a:ext cx="104328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800360" y="29634120"/>
            <a:ext cx="104328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12755160" y="29634120"/>
            <a:ext cx="104328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23709960" y="29634120"/>
            <a:ext cx="104328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DDE6D-4217-45E5-8AD6-E957603DA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669240" y="4455720"/>
            <a:ext cx="24383880" cy="2673972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800360" y="11982600"/>
            <a:ext cx="32400720" cy="3379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A664-FBC9-4824-B4AC-816A45A8A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669240" y="4455720"/>
            <a:ext cx="24383880" cy="2673972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800360" y="11982600"/>
            <a:ext cx="15811200" cy="3379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18402480" y="11982600"/>
            <a:ext cx="15811200" cy="3379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6497-87AA-40BB-8020-F486A89E0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669240" y="4455720"/>
            <a:ext cx="24383880" cy="2673972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ABBA-39B3-46DF-8D6B-98537B3D0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669240" y="15224400"/>
            <a:ext cx="24383880" cy="10241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Bef>
                <a:spcPts val="43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F212-2567-4FCE-B3C3-DAA53C678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669240" y="4455720"/>
            <a:ext cx="24383880" cy="2673972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800360" y="11982600"/>
            <a:ext cx="158112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18402480" y="11982600"/>
            <a:ext cx="15811200" cy="3379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800360" y="29634120"/>
            <a:ext cx="158112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062F-0C5B-479D-AD7E-1465262A6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669240" y="4455720"/>
            <a:ext cx="24383880" cy="2673972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800360" y="11982600"/>
            <a:ext cx="15811200" cy="3379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8402480" y="11982600"/>
            <a:ext cx="158112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8402480" y="29634120"/>
            <a:ext cx="158112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59B5-19AF-4611-AF33-18CC83DD6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669240" y="4455720"/>
            <a:ext cx="24383880" cy="2673972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800360" y="11982600"/>
            <a:ext cx="158112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8402480" y="11982600"/>
            <a:ext cx="158112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800360" y="29634120"/>
            <a:ext cx="3240072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FB78-0004-476E-ACD0-2F78DF73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392480" y="0"/>
            <a:ext cx="11550600" cy="51192000"/>
            <a:chOff x="-1392480" y="0"/>
            <a:chExt cx="11550600" cy="51192000"/>
          </a:xfrm>
        </p:grpSpPr>
        <p:sp>
          <p:nvSpPr>
            <p:cNvPr id="1" name=""/>
            <p:cNvSpPr/>
            <p:nvPr/>
          </p:nvSpPr>
          <p:spPr>
            <a:xfrm>
              <a:off x="-31680" y="38665080"/>
              <a:ext cx="2949480" cy="95043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-1392480" y="30094560"/>
              <a:ext cx="6834960" cy="3278880"/>
              <a:chOff x="-1392480" y="30094560"/>
              <a:chExt cx="6834960" cy="3278880"/>
            </a:xfrm>
          </p:grpSpPr>
          <p:sp>
            <p:nvSpPr>
              <p:cNvPr id="3" name=""/>
              <p:cNvSpPr/>
              <p:nvPr/>
            </p:nvSpPr>
            <p:spPr>
              <a:xfrm flipH="1" rot="14940000">
                <a:off x="-480240" y="30326760"/>
                <a:ext cx="720720" cy="2449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40000">
                <a:off x="609840" y="31416120"/>
                <a:ext cx="1233360" cy="2033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40000">
                <a:off x="4083120" y="30363840"/>
                <a:ext cx="1289160" cy="1035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561960" y="20575440"/>
              <a:ext cx="4438800" cy="910440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15200" y="20093760"/>
              <a:ext cx="10273320" cy="21872880"/>
              <a:chOff x="-115200" y="20093760"/>
              <a:chExt cx="10273320" cy="21872880"/>
            </a:xfrm>
          </p:grpSpPr>
          <p:sp>
            <p:nvSpPr>
              <p:cNvPr id="8" name=""/>
              <p:cNvSpPr/>
              <p:nvPr/>
            </p:nvSpPr>
            <p:spPr>
              <a:xfrm flipH="1" rot="780000">
                <a:off x="1894320" y="20429640"/>
                <a:ext cx="3840120" cy="750384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0000">
                <a:off x="701280" y="21645360"/>
                <a:ext cx="3213000" cy="7627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0000">
                <a:off x="1718280" y="23224680"/>
                <a:ext cx="1141200" cy="386424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0000">
                <a:off x="3544560" y="28500480"/>
                <a:ext cx="1042920" cy="230328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0000">
                <a:off x="3234600" y="29033280"/>
                <a:ext cx="258840" cy="136548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2820960" y="31263840"/>
                <a:ext cx="7337160" cy="10702800"/>
                <a:chOff x="2820960" y="31263840"/>
                <a:chExt cx="7337160" cy="1070280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40000">
                  <a:off x="4002120" y="31578120"/>
                  <a:ext cx="3537000" cy="478476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40000">
                  <a:off x="8565120" y="37490760"/>
                  <a:ext cx="819000" cy="19638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40000">
                  <a:off x="8908920" y="41070960"/>
                  <a:ext cx="1487520" cy="3301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13640" y="47183760"/>
              <a:ext cx="5965920" cy="2505600"/>
              <a:chOff x="413640" y="47183760"/>
              <a:chExt cx="5965920" cy="2505600"/>
            </a:xfrm>
          </p:grpSpPr>
          <p:sp>
            <p:nvSpPr>
              <p:cNvPr id="18" name=""/>
              <p:cNvSpPr/>
              <p:nvPr/>
            </p:nvSpPr>
            <p:spPr>
              <a:xfrm rot="6240000">
                <a:off x="4921920" y="46843200"/>
                <a:ext cx="689040" cy="21225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0000">
                <a:off x="3575520" y="48022200"/>
                <a:ext cx="1177920" cy="1764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0000">
                <a:off x="382680" y="47440800"/>
                <a:ext cx="1231920" cy="898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-148680" y="14400720"/>
              <a:ext cx="5895720" cy="3023640"/>
              <a:chOff x="-148680" y="14400720"/>
              <a:chExt cx="5895720" cy="3023640"/>
            </a:xfrm>
          </p:grpSpPr>
          <p:sp>
            <p:nvSpPr>
              <p:cNvPr id="22" name=""/>
              <p:cNvSpPr/>
              <p:nvPr/>
            </p:nvSpPr>
            <p:spPr>
              <a:xfrm rot="4980000">
                <a:off x="4184640" y="13823640"/>
                <a:ext cx="811080" cy="22305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4980000">
                <a:off x="3203280" y="15565320"/>
                <a:ext cx="1389240" cy="18525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4980000">
                <a:off x="-318600" y="16174440"/>
                <a:ext cx="1452600" cy="9428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5094360" y="0"/>
              <a:ext cx="2151000" cy="4343400"/>
              <a:chOff x="5094360" y="0"/>
              <a:chExt cx="2151000" cy="4343400"/>
            </a:xfrm>
          </p:grpSpPr>
          <p:sp>
            <p:nvSpPr>
              <p:cNvPr id="26" name=""/>
              <p:cNvSpPr/>
              <p:nvPr/>
            </p:nvSpPr>
            <p:spPr>
              <a:xfrm>
                <a:off x="5094360" y="0"/>
                <a:ext cx="682560" cy="16318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6078600" y="771480"/>
                <a:ext cx="1166760" cy="13557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43520" y="3652920"/>
                <a:ext cx="1220760" cy="6904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542880" y="1116000"/>
              <a:ext cx="4368960" cy="895824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40000">
              <a:off x="1512720" y="40347720"/>
              <a:ext cx="825840" cy="197784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40000">
              <a:off x="1663560" y="42574680"/>
              <a:ext cx="412920" cy="5079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8400" y="48714120"/>
              <a:ext cx="736560" cy="247788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47031120"/>
              <a:ext cx="812880" cy="151632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46805760"/>
              <a:ext cx="293760" cy="101916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38390400"/>
              <a:ext cx="3106800" cy="877104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60000">
              <a:off x="124920" y="4858920"/>
              <a:ext cx="2151360" cy="290196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60000">
              <a:off x="1512360" y="8959320"/>
              <a:ext cx="1044720" cy="136224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60000">
              <a:off x="3587760" y="3389400"/>
              <a:ext cx="917640" cy="189684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60000">
              <a:off x="1476000" y="8543880"/>
              <a:ext cx="387360" cy="115092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60000">
              <a:off x="3657600" y="5521320"/>
              <a:ext cx="449280" cy="4856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0501200"/>
              <a:ext cx="2251080" cy="77025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60000">
              <a:off x="351000" y="993240"/>
              <a:ext cx="5024160" cy="81313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44200" y="210960"/>
            <a:ext cx="32457960" cy="1037304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2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800360" y="11947320"/>
            <a:ext cx="32402160" cy="3327084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t">
            <a:normAutofit/>
          </a:bodyPr>
          <a:p>
            <a:pPr marL="1866960" indent="-1866960">
              <a:lnSpc>
                <a:spcPct val="101000"/>
              </a:lnSpc>
              <a:spcBef>
                <a:spcPts val="4351"/>
              </a:spcBef>
              <a:buClr>
                <a:srgbClr val="006699"/>
              </a:buClr>
              <a:buFont typeface="Verdana"/>
              <a:buChar char="•"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74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  <a:p>
            <a:pPr lvl="1" marL="4048200" indent="-1557360">
              <a:lnSpc>
                <a:spcPct val="101000"/>
              </a:lnSpc>
              <a:spcBef>
                <a:spcPts val="4351"/>
              </a:spcBef>
              <a:buClr>
                <a:srgbClr val="006699"/>
              </a:buClr>
              <a:buFont typeface="Verdana"/>
              <a:buChar char="–"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74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  <a:p>
            <a:pPr lvl="2" marL="6227640" indent="-1244520">
              <a:lnSpc>
                <a:spcPct val="101000"/>
              </a:lnSpc>
              <a:spcBef>
                <a:spcPts val="4351"/>
              </a:spcBef>
              <a:buClr>
                <a:srgbClr val="006699"/>
              </a:buClr>
              <a:buFont typeface="Verdana"/>
              <a:buChar char="•"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7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  <a:p>
            <a:pPr lvl="3" marL="8720280" indent="-1246320">
              <a:lnSpc>
                <a:spcPct val="101000"/>
              </a:lnSpc>
              <a:spcBef>
                <a:spcPts val="4351"/>
              </a:spcBef>
              <a:buClr>
                <a:srgbClr val="006699"/>
              </a:buClr>
              <a:buFont typeface="Verdana"/>
              <a:buChar char="–"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74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  <a:p>
            <a:pPr lvl="4" marL="11193480" indent="-1243080">
              <a:lnSpc>
                <a:spcPct val="101000"/>
              </a:lnSpc>
              <a:spcBef>
                <a:spcPts val="4351"/>
              </a:spcBef>
              <a:buClr>
                <a:srgbClr val="006699"/>
              </a:buClr>
              <a:buFont typeface="Verdana"/>
              <a:buChar char="»"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74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  <a:p>
            <a:pPr lvl="5" marL="11193480" indent="-1243080">
              <a:lnSpc>
                <a:spcPct val="101000"/>
              </a:lnSpc>
              <a:spcBef>
                <a:spcPts val="4351"/>
              </a:spcBef>
              <a:buClr>
                <a:srgbClr val="000000"/>
              </a:buClr>
              <a:buFont typeface="Verdana"/>
              <a:buChar char="»"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74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  <a:p>
            <a:pPr lvl="6" marL="11193480" indent="-1243080">
              <a:lnSpc>
                <a:spcPct val="101000"/>
              </a:lnSpc>
              <a:spcBef>
                <a:spcPts val="4351"/>
              </a:spcBef>
              <a:buClr>
                <a:srgbClr val="000000"/>
              </a:buClr>
              <a:buFont typeface="Verdana"/>
              <a:buChar char="»"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74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1800000" y="46618200"/>
            <a:ext cx="8399160" cy="341316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76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76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12301560" y="46654560"/>
            <a:ext cx="11399760" cy="341172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</a:tabLst>
              <a:defRPr b="0" lang="en-GB" sz="76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</a:tabLst>
            </a:pPr>
            <a:r>
              <a:rPr b="0" lang="en-GB" sz="76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25803000" y="46618200"/>
            <a:ext cx="8399160" cy="341316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76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A3D3584-848D-4324-B0C6-26DBF7206E22}" type="slidenum">
              <a:rPr b="0" lang="en-GB" sz="76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756720" y="0"/>
            <a:ext cx="37390680" cy="51203160"/>
            <a:chOff x="-756720" y="0"/>
            <a:chExt cx="37390680" cy="51203160"/>
          </a:xfrm>
        </p:grpSpPr>
        <p:grpSp>
          <p:nvGrpSpPr>
            <p:cNvPr id="85" name=""/>
            <p:cNvGrpSpPr/>
            <p:nvPr/>
          </p:nvGrpSpPr>
          <p:grpSpPr>
            <a:xfrm>
              <a:off x="19545480" y="1801800"/>
              <a:ext cx="17088480" cy="43834320"/>
              <a:chOff x="19545480" y="1801800"/>
              <a:chExt cx="17088480" cy="43834320"/>
            </a:xfrm>
          </p:grpSpPr>
          <p:sp>
            <p:nvSpPr>
              <p:cNvPr id="86" name=""/>
              <p:cNvSpPr/>
              <p:nvPr/>
            </p:nvSpPr>
            <p:spPr>
              <a:xfrm flipV="1" rot="12000000">
                <a:off x="25545600" y="2694600"/>
                <a:ext cx="8329680" cy="1759896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2000000">
                <a:off x="29039760" y="14776200"/>
                <a:ext cx="3568680" cy="62938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2000000">
                <a:off x="26776080" y="19307880"/>
                <a:ext cx="1730160" cy="2951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2000000">
                <a:off x="28050840" y="5100480"/>
                <a:ext cx="1531800" cy="411192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2000000">
                <a:off x="28075680" y="19731600"/>
                <a:ext cx="644760" cy="247788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2000000">
                <a:off x="27689760" y="9278280"/>
                <a:ext cx="749520" cy="106704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2000000">
                <a:off x="23656680" y="21614400"/>
                <a:ext cx="2062080" cy="244044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60000">
              <a:off x="136440" y="23196240"/>
              <a:ext cx="2017800" cy="769140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049400" y="14933520"/>
              <a:ext cx="7869240" cy="1815948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30934080"/>
              <a:ext cx="5005440" cy="544032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60000">
              <a:off x="5609880" y="33841800"/>
              <a:ext cx="2212920" cy="549972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60000">
              <a:off x="4990680" y="35312400"/>
              <a:ext cx="544680" cy="324612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439040" y="38793600"/>
              <a:ext cx="6924600" cy="1240956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14633280" y="8967600"/>
              <a:ext cx="6689160" cy="7258680"/>
              <a:chOff x="14633280" y="8967600"/>
              <a:chExt cx="6689160" cy="7258680"/>
            </a:xfrm>
          </p:grpSpPr>
          <p:sp>
            <p:nvSpPr>
              <p:cNvPr id="100" name=""/>
              <p:cNvSpPr/>
              <p:nvPr/>
            </p:nvSpPr>
            <p:spPr>
              <a:xfrm rot="3240000">
                <a:off x="19113120" y="8750160"/>
                <a:ext cx="1033200" cy="3081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40000">
                <a:off x="18881280" y="11218680"/>
                <a:ext cx="1769760" cy="25606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40000">
                <a:off x="14779080" y="14443200"/>
                <a:ext cx="1849680" cy="1303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21660120" y="3029040"/>
              <a:ext cx="4746600" cy="4537080"/>
              <a:chOff x="21660120" y="3029040"/>
              <a:chExt cx="4746600" cy="4537080"/>
            </a:xfrm>
          </p:grpSpPr>
          <p:sp>
            <p:nvSpPr>
              <p:cNvPr id="104" name=""/>
              <p:cNvSpPr/>
              <p:nvPr/>
            </p:nvSpPr>
            <p:spPr>
              <a:xfrm rot="14880000">
                <a:off x="22246200" y="5783760"/>
                <a:ext cx="984240" cy="19288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880000">
                <a:off x="21941280" y="4024800"/>
                <a:ext cx="1685880" cy="1601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880000">
                <a:off x="24817320" y="3590640"/>
                <a:ext cx="1761840" cy="8161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2897280" y="39707280"/>
              <a:ext cx="5906520" cy="5104440"/>
              <a:chOff x="2897280" y="39707280"/>
              <a:chExt cx="5906520" cy="5104440"/>
            </a:xfrm>
          </p:grpSpPr>
          <p:sp>
            <p:nvSpPr>
              <p:cNvPr id="108" name=""/>
              <p:cNvSpPr/>
              <p:nvPr/>
            </p:nvSpPr>
            <p:spPr>
              <a:xfrm rot="8520000">
                <a:off x="7230960" y="42030720"/>
                <a:ext cx="990720" cy="2232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0000">
                <a:off x="4939920" y="42631560"/>
                <a:ext cx="1695600" cy="1854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0000">
                <a:off x="2999880" y="40152600"/>
                <a:ext cx="1771920" cy="94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-756720" y="5063760"/>
              <a:ext cx="11029680" cy="5841000"/>
              <a:chOff x="-756720" y="5063760"/>
              <a:chExt cx="11029680" cy="5841000"/>
            </a:xfrm>
          </p:grpSpPr>
          <p:sp>
            <p:nvSpPr>
              <p:cNvPr id="112" name=""/>
              <p:cNvSpPr/>
              <p:nvPr/>
            </p:nvSpPr>
            <p:spPr>
              <a:xfrm flipH="1" rot="4140000">
                <a:off x="7496280" y="6745680"/>
                <a:ext cx="1447920" cy="38404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40000">
                <a:off x="4637880" y="5197320"/>
                <a:ext cx="2478240" cy="318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40000">
                <a:off x="-829800" y="8591760"/>
                <a:ext cx="2590920" cy="16243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29267640" y="27973800"/>
              <a:ext cx="4777200" cy="11195280"/>
              <a:chOff x="29267640" y="27973800"/>
              <a:chExt cx="4777200" cy="11195280"/>
            </a:xfrm>
          </p:grpSpPr>
          <p:sp>
            <p:nvSpPr>
              <p:cNvPr id="116" name=""/>
              <p:cNvSpPr/>
              <p:nvPr/>
            </p:nvSpPr>
            <p:spPr>
              <a:xfrm flipH="1" rot="10020000">
                <a:off x="29695320" y="35096400"/>
                <a:ext cx="1401840" cy="39657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20000">
                <a:off x="31306320" y="33363000"/>
                <a:ext cx="2398680" cy="3293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20000">
                <a:off x="29434320" y="28234080"/>
                <a:ext cx="2506680" cy="16783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7607160" y="23760"/>
              <a:ext cx="5388120" cy="1050120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40000">
              <a:off x="13490640" y="1210320"/>
              <a:ext cx="4255920" cy="70272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40000">
              <a:off x="12484080" y="10170000"/>
              <a:ext cx="2062080" cy="329256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40000">
              <a:off x="13902840" y="9578160"/>
              <a:ext cx="770040" cy="276372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0020240" y="0"/>
              <a:ext cx="774720" cy="143496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40000">
              <a:off x="13582440" y="14671440"/>
              <a:ext cx="2455560" cy="2726352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1902760"/>
              <a:ext cx="225360" cy="156384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1800000" y="46654560"/>
            <a:ext cx="8399160" cy="341172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76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76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12301560" y="46654560"/>
            <a:ext cx="11399760" cy="341172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  <a:defRPr b="0" lang="en-GB" sz="76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GB" sz="76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25803000" y="46618200"/>
            <a:ext cx="8399160" cy="341316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76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F31A72-448A-4FBD-AFD9-6E40088AC731}" type="slidenum">
              <a:rPr b="0" lang="en-GB" sz="76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9669240" y="4455720"/>
            <a:ext cx="24383880" cy="2673972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2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1800360" y="11982600"/>
            <a:ext cx="32400720" cy="3379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66960" indent="-1866960">
              <a:lnSpc>
                <a:spcPct val="101000"/>
              </a:lnSpc>
              <a:spcBef>
                <a:spcPts val="4351"/>
              </a:spcBef>
              <a:buClr>
                <a:srgbClr val="006699"/>
              </a:buClr>
              <a:buFont typeface="Verdana"/>
              <a:buChar char="•"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74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  <a:p>
            <a:pPr lvl="1" marL="4048200" indent="-1557360">
              <a:lnSpc>
                <a:spcPct val="101000"/>
              </a:lnSpc>
              <a:spcBef>
                <a:spcPts val="4351"/>
              </a:spcBef>
              <a:buClr>
                <a:srgbClr val="006699"/>
              </a:buClr>
              <a:buFont typeface="Verdana"/>
              <a:buChar char="–"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74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  <a:p>
            <a:pPr lvl="2" marL="6227640" indent="-1244520">
              <a:lnSpc>
                <a:spcPct val="101000"/>
              </a:lnSpc>
              <a:spcBef>
                <a:spcPts val="4351"/>
              </a:spcBef>
              <a:buClr>
                <a:srgbClr val="006699"/>
              </a:buClr>
              <a:buFont typeface="Verdana"/>
              <a:buChar char="•"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7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  <a:p>
            <a:pPr lvl="3" marL="8720280" indent="-1246320">
              <a:lnSpc>
                <a:spcPct val="101000"/>
              </a:lnSpc>
              <a:spcBef>
                <a:spcPts val="4351"/>
              </a:spcBef>
              <a:buClr>
                <a:srgbClr val="006699"/>
              </a:buClr>
              <a:buFont typeface="Verdana"/>
              <a:buChar char="–"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74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  <a:p>
            <a:pPr lvl="4" marL="11193480" indent="-1243080">
              <a:lnSpc>
                <a:spcPct val="101000"/>
              </a:lnSpc>
              <a:spcBef>
                <a:spcPts val="4351"/>
              </a:spcBef>
              <a:buClr>
                <a:srgbClr val="006699"/>
              </a:buClr>
              <a:buFont typeface="Verdana"/>
              <a:buChar char="»"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74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  <a:p>
            <a:pPr lvl="5" marL="11193480" indent="-1243080">
              <a:lnSpc>
                <a:spcPct val="101000"/>
              </a:lnSpc>
              <a:spcBef>
                <a:spcPts val="4351"/>
              </a:spcBef>
              <a:buClr>
                <a:srgbClr val="000000"/>
              </a:buClr>
              <a:buFont typeface="Verdana"/>
              <a:buChar char="»"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74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  <a:p>
            <a:pPr lvl="6" marL="11193480" indent="-1243080">
              <a:lnSpc>
                <a:spcPct val="101000"/>
              </a:lnSpc>
              <a:spcBef>
                <a:spcPts val="4351"/>
              </a:spcBef>
              <a:buClr>
                <a:srgbClr val="000000"/>
              </a:buClr>
              <a:buFont typeface="Verdana"/>
              <a:buChar char="»"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74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312720" y="574560"/>
            <a:ext cx="27684360" cy="411984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981680"/>
                <a:tab algn="l" pos="99648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  <a:tab algn="l" pos="18097560"/>
                <a:tab algn="l" pos="18821520"/>
                <a:tab algn="l" pos="19545480"/>
                <a:tab algn="l" pos="20269080"/>
                <a:tab algn="l" pos="20993040"/>
                <a:tab algn="l" pos="21717000"/>
                <a:tab algn="l" pos="22440960"/>
                <a:tab algn="l" pos="23164920"/>
                <a:tab algn="l" pos="23888880"/>
                <a:tab algn="l" pos="24612480"/>
                <a:tab algn="l" pos="25336440"/>
                <a:tab algn="l" pos="26060400"/>
                <a:tab algn="l" pos="26784360"/>
                <a:tab algn="l" pos="27508320"/>
              </a:tabLst>
            </a:pPr>
            <a:r>
              <a:rPr b="1" lang="en-GB" sz="7200" spc="-1" strike="noStrike">
                <a:solidFill>
                  <a:srgbClr val="006666"/>
                </a:solidFill>
                <a:latin typeface="Verdana"/>
              </a:rPr>
              <a:t>+ entretención</a:t>
            </a:r>
            <a:br>
              <a:rPr sz="7200"/>
            </a:br>
            <a:br>
              <a:rPr sz="7200"/>
            </a:br>
            <a:r>
              <a:rPr b="1" lang="en-GB" sz="7200" spc="-1" strike="noStrike">
                <a:solidFill>
                  <a:srgbClr val="006666"/>
                </a:solidFill>
                <a:latin typeface="Verdana"/>
              </a:rPr>
              <a:t>	</a:t>
            </a:r>
            <a:r>
              <a:rPr b="1" lang="en-GB" sz="12000" spc="-1" strike="noStrike">
                <a:solidFill>
                  <a:srgbClr val="006666"/>
                </a:solidFill>
                <a:latin typeface="Verdana"/>
              </a:rPr>
              <a:t>+ INTEGRACIÓN </a:t>
            </a:r>
            <a:endParaRPr b="0" lang="en-US" sz="12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49001400"/>
            <a:ext cx="4132440" cy="22050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4032360" y="49001400"/>
            <a:ext cx="4130640" cy="2205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8062920" y="49001400"/>
            <a:ext cx="4132080" cy="22050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12095280" y="49001400"/>
            <a:ext cx="4138560" cy="22050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16133760" y="49001400"/>
            <a:ext cx="4130640" cy="22050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6"/>
          <a:stretch/>
        </p:blipFill>
        <p:spPr>
          <a:xfrm>
            <a:off x="20164320" y="49001400"/>
            <a:ext cx="4132440" cy="22050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7"/>
          <a:stretch/>
        </p:blipFill>
        <p:spPr>
          <a:xfrm>
            <a:off x="24196680" y="49001400"/>
            <a:ext cx="4132080" cy="22050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8"/>
          <a:stretch/>
        </p:blipFill>
        <p:spPr>
          <a:xfrm>
            <a:off x="28229040" y="49001400"/>
            <a:ext cx="4130640" cy="22050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9"/>
          <a:stretch/>
        </p:blipFill>
        <p:spPr>
          <a:xfrm>
            <a:off x="32259600" y="49001400"/>
            <a:ext cx="4132080" cy="22050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0"/>
          <a:stretch/>
        </p:blipFill>
        <p:spPr>
          <a:xfrm>
            <a:off x="18540360" y="26104680"/>
            <a:ext cx="15082920" cy="109746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11"/>
          <a:stretch/>
        </p:blipFill>
        <p:spPr>
          <a:xfrm>
            <a:off x="1979640" y="10980720"/>
            <a:ext cx="19620000" cy="160196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23220360" y="12750840"/>
            <a:ext cx="10439280" cy="75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endParaRPr b="0" lang="en-US" sz="6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en-GB" sz="6600" spc="-1" strike="noStrike">
                <a:solidFill>
                  <a:srgbClr val="006699"/>
                </a:solidFill>
                <a:latin typeface="Arial"/>
              </a:rPr>
              <a:t>La principal función que cumple este juego es Entretener e “Integrar” ,dandole autonomía en el juego a los niños en silla de ruedas. </a:t>
            </a:r>
            <a:endParaRPr b="0" lang="en-US" sz="6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19640" y="28343160"/>
            <a:ext cx="1296036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  <a:tab algn="l" pos="11582280"/>
                <a:tab algn="l" pos="12306240"/>
              </a:tabLst>
            </a:pPr>
            <a:r>
              <a:rPr b="0" lang="en-GB" sz="6600" spc="-1" strike="noStrike">
                <a:solidFill>
                  <a:srgbClr val="006699"/>
                </a:solidFill>
                <a:latin typeface="Arial"/>
              </a:rPr>
              <a:t>Funciona a través de un mecanismo de rodamientos utilizando la energía que proporcionan los mismos niños, ya sea con sus brazos o piernas. </a:t>
            </a:r>
            <a:endParaRPr b="0" lang="en-US" sz="6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40000" y="4859280"/>
            <a:ext cx="29700720" cy="66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  <a:tab algn="l" pos="18097560"/>
                <a:tab algn="l" pos="18821520"/>
                <a:tab algn="l" pos="19545480"/>
                <a:tab algn="l" pos="20269080"/>
                <a:tab algn="l" pos="20993040"/>
                <a:tab algn="l" pos="21717000"/>
                <a:tab algn="l" pos="22440960"/>
                <a:tab algn="l" pos="23164920"/>
                <a:tab algn="l" pos="23888880"/>
                <a:tab algn="l" pos="24612480"/>
                <a:tab algn="l" pos="25336440"/>
                <a:tab algn="l" pos="26060400"/>
                <a:tab algn="l" pos="26784360"/>
                <a:tab algn="l" pos="27508320"/>
                <a:tab algn="l" pos="28232280"/>
                <a:tab algn="l" pos="28955880"/>
                <a:tab algn="l" pos="29679840"/>
              </a:tabLst>
            </a:pPr>
            <a:r>
              <a:rPr b="1" lang="en-GB" sz="4000" spc="-1" strike="noStrike">
                <a:solidFill>
                  <a:srgbClr val="006699"/>
                </a:solidFill>
                <a:latin typeface="Arial"/>
              </a:rPr>
              <a:t>Objetivos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  <a:tab algn="l" pos="18097560"/>
                <a:tab algn="l" pos="18821520"/>
                <a:tab algn="l" pos="19545480"/>
                <a:tab algn="l" pos="20269080"/>
                <a:tab algn="l" pos="20993040"/>
                <a:tab algn="l" pos="21717000"/>
                <a:tab algn="l" pos="22440960"/>
                <a:tab algn="l" pos="23164920"/>
                <a:tab algn="l" pos="23888880"/>
                <a:tab algn="l" pos="24612480"/>
                <a:tab algn="l" pos="25336440"/>
                <a:tab algn="l" pos="26060400"/>
                <a:tab algn="l" pos="26784360"/>
                <a:tab algn="l" pos="27508320"/>
                <a:tab algn="l" pos="28232280"/>
                <a:tab algn="l" pos="28955880"/>
                <a:tab algn="l" pos="2967984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Arial"/>
              </a:rPr>
              <a:t>Es un juego, como se muestra en el dibujo, cuyo diseño esta orientado y replanteado para que puedan participar en él niños con o sin discapacidades, en especial considera a los que utilizan silla de ruedas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  <a:tab algn="l" pos="18097560"/>
                <a:tab algn="l" pos="18821520"/>
                <a:tab algn="l" pos="19545480"/>
                <a:tab algn="l" pos="20269080"/>
                <a:tab algn="l" pos="20993040"/>
                <a:tab algn="l" pos="21717000"/>
                <a:tab algn="l" pos="22440960"/>
                <a:tab algn="l" pos="23164920"/>
                <a:tab algn="l" pos="23888880"/>
                <a:tab algn="l" pos="24612480"/>
                <a:tab algn="l" pos="25336440"/>
                <a:tab algn="l" pos="26060400"/>
                <a:tab algn="l" pos="26784360"/>
                <a:tab algn="l" pos="27508320"/>
                <a:tab algn="l" pos="28232280"/>
                <a:tab algn="l" pos="28955880"/>
                <a:tab algn="l" pos="29679840"/>
              </a:tabLst>
            </a:pPr>
            <a:r>
              <a:rPr b="1" lang="en-GB" sz="4000" spc="-1" strike="noStrike">
                <a:solidFill>
                  <a:srgbClr val="006699"/>
                </a:solidFill>
                <a:latin typeface="Arial"/>
              </a:rPr>
              <a:t>De qué quiebre se hace cargo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  <a:tab algn="l" pos="18097560"/>
                <a:tab algn="l" pos="18821520"/>
                <a:tab algn="l" pos="19545480"/>
                <a:tab algn="l" pos="20269080"/>
                <a:tab algn="l" pos="20993040"/>
                <a:tab algn="l" pos="21717000"/>
                <a:tab algn="l" pos="22440960"/>
                <a:tab algn="l" pos="23164920"/>
                <a:tab algn="l" pos="23888880"/>
                <a:tab algn="l" pos="24612480"/>
                <a:tab algn="l" pos="25336440"/>
                <a:tab algn="l" pos="26060400"/>
                <a:tab algn="l" pos="26784360"/>
                <a:tab algn="l" pos="27508320"/>
                <a:tab algn="l" pos="28232280"/>
                <a:tab algn="l" pos="28955880"/>
                <a:tab algn="l" pos="2967984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Arial"/>
              </a:rPr>
              <a:t>Se hace cargo del quiebre “Falta de integración hacia discapacitados, en parques y plazas”. 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  <a:tab algn="l" pos="18097560"/>
                <a:tab algn="l" pos="18821520"/>
                <a:tab algn="l" pos="19545480"/>
                <a:tab algn="l" pos="20269080"/>
                <a:tab algn="l" pos="20993040"/>
                <a:tab algn="l" pos="21717000"/>
                <a:tab algn="l" pos="22440960"/>
                <a:tab algn="l" pos="23164920"/>
                <a:tab algn="l" pos="23888880"/>
                <a:tab algn="l" pos="24612480"/>
                <a:tab algn="l" pos="25336440"/>
                <a:tab algn="l" pos="26060400"/>
                <a:tab algn="l" pos="26784360"/>
                <a:tab algn="l" pos="27508320"/>
                <a:tab algn="l" pos="28232280"/>
                <a:tab algn="l" pos="28955880"/>
                <a:tab algn="l" pos="29679840"/>
              </a:tabLst>
            </a:pPr>
            <a:r>
              <a:rPr b="1" lang="en-GB" sz="4000" spc="-1" strike="noStrike">
                <a:solidFill>
                  <a:srgbClr val="006699"/>
                </a:solidFill>
                <a:latin typeface="Arial"/>
              </a:rPr>
              <a:t>A quién o a qué comunidad le cambiará la vida y por qué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  <a:tab algn="l" pos="18097560"/>
                <a:tab algn="l" pos="18821520"/>
                <a:tab algn="l" pos="19545480"/>
                <a:tab algn="l" pos="20269080"/>
                <a:tab algn="l" pos="20993040"/>
                <a:tab algn="l" pos="21717000"/>
                <a:tab algn="l" pos="22440960"/>
                <a:tab algn="l" pos="23164920"/>
                <a:tab algn="l" pos="23888880"/>
                <a:tab algn="l" pos="24612480"/>
                <a:tab algn="l" pos="25336440"/>
                <a:tab algn="l" pos="26060400"/>
                <a:tab algn="l" pos="26784360"/>
                <a:tab algn="l" pos="27508320"/>
                <a:tab algn="l" pos="28232280"/>
                <a:tab algn="l" pos="28955880"/>
                <a:tab algn="l" pos="2967984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Arial"/>
              </a:rPr>
              <a:t>Este producto esta destinado para todo tipo de niños, que deseen frecuentar parques y plazas. La idea del proyecto, es crear una instancia de diversión en la cual puedan participar niños que se desplacen en silla de ruedas además de los que no.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68400" y="33695280"/>
            <a:ext cx="33770880" cy="9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  <a:tab algn="l" pos="18097560"/>
                <a:tab algn="l" pos="18821520"/>
                <a:tab algn="l" pos="19545480"/>
                <a:tab algn="l" pos="20269080"/>
                <a:tab algn="l" pos="20993040"/>
                <a:tab algn="l" pos="21717000"/>
                <a:tab algn="l" pos="22440960"/>
                <a:tab algn="l" pos="23164920"/>
                <a:tab algn="l" pos="23888880"/>
                <a:tab algn="l" pos="24612480"/>
                <a:tab algn="l" pos="25336440"/>
                <a:tab algn="l" pos="26060400"/>
                <a:tab algn="l" pos="26784360"/>
                <a:tab algn="l" pos="27508320"/>
                <a:tab algn="l" pos="28232280"/>
                <a:tab algn="l" pos="28955880"/>
                <a:tab algn="l" pos="29679840"/>
                <a:tab algn="l" pos="30403800"/>
                <a:tab algn="l" pos="31127760"/>
                <a:tab algn="l" pos="31851720"/>
                <a:tab algn="l" pos="32575680"/>
                <a:tab algn="l" pos="33299280"/>
              </a:tabLst>
            </a:pPr>
            <a:endParaRPr b="0" lang="en-US" sz="33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  <a:tab algn="l" pos="18097560"/>
                <a:tab algn="l" pos="18821520"/>
                <a:tab algn="l" pos="19545480"/>
                <a:tab algn="l" pos="20269080"/>
                <a:tab algn="l" pos="20993040"/>
                <a:tab algn="l" pos="21717000"/>
                <a:tab algn="l" pos="22440960"/>
                <a:tab algn="l" pos="23164920"/>
                <a:tab algn="l" pos="23888880"/>
                <a:tab algn="l" pos="24612480"/>
                <a:tab algn="l" pos="25336440"/>
                <a:tab algn="l" pos="26060400"/>
                <a:tab algn="l" pos="26784360"/>
                <a:tab algn="l" pos="27508320"/>
                <a:tab algn="l" pos="28232280"/>
                <a:tab algn="l" pos="28955880"/>
                <a:tab algn="l" pos="29679840"/>
                <a:tab algn="l" pos="30403800"/>
                <a:tab algn="l" pos="31127760"/>
                <a:tab algn="l" pos="31851720"/>
                <a:tab algn="l" pos="32575680"/>
                <a:tab algn="l" pos="33299280"/>
              </a:tabLst>
            </a:pPr>
            <a:r>
              <a:rPr b="1" lang="en-GB" sz="4400" spc="-1" strike="noStrike">
                <a:solidFill>
                  <a:srgbClr val="006699"/>
                </a:solidFill>
                <a:latin typeface="Arial"/>
              </a:rPr>
              <a:t>Proyecciones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  <a:tab algn="l" pos="18097560"/>
                <a:tab algn="l" pos="18821520"/>
                <a:tab algn="l" pos="19545480"/>
                <a:tab algn="l" pos="20269080"/>
                <a:tab algn="l" pos="20993040"/>
                <a:tab algn="l" pos="21717000"/>
                <a:tab algn="l" pos="22440960"/>
                <a:tab algn="l" pos="23164920"/>
                <a:tab algn="l" pos="23888880"/>
                <a:tab algn="l" pos="24612480"/>
                <a:tab algn="l" pos="25336440"/>
                <a:tab algn="l" pos="26060400"/>
                <a:tab algn="l" pos="26784360"/>
                <a:tab algn="l" pos="27508320"/>
                <a:tab algn="l" pos="28232280"/>
                <a:tab algn="l" pos="28955880"/>
                <a:tab algn="l" pos="29679840"/>
                <a:tab algn="l" pos="30403800"/>
                <a:tab algn="l" pos="31127760"/>
                <a:tab algn="l" pos="31851720"/>
                <a:tab algn="l" pos="32575680"/>
                <a:tab algn="l" pos="3329928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Arial"/>
              </a:rPr>
              <a:t>Se espera que este proyecto cumpla con el objetivo de hacer un poco más fácil y entretenida la vida de estos chicos; fomentando oportunidades de convivencia entre niños con o sin algún tipo de discapacidad. También se tiene la expectativa de que incentive a municipios o entidades gubernamentales a desarrollarlo. 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  <a:tab algn="l" pos="18097560"/>
                <a:tab algn="l" pos="18821520"/>
                <a:tab algn="l" pos="19545480"/>
                <a:tab algn="l" pos="20269080"/>
                <a:tab algn="l" pos="20993040"/>
                <a:tab algn="l" pos="21717000"/>
                <a:tab algn="l" pos="22440960"/>
                <a:tab algn="l" pos="23164920"/>
                <a:tab algn="l" pos="23888880"/>
                <a:tab algn="l" pos="24612480"/>
                <a:tab algn="l" pos="25336440"/>
                <a:tab algn="l" pos="26060400"/>
                <a:tab algn="l" pos="26784360"/>
                <a:tab algn="l" pos="27508320"/>
                <a:tab algn="l" pos="28232280"/>
                <a:tab algn="l" pos="28955880"/>
                <a:tab algn="l" pos="29679840"/>
                <a:tab algn="l" pos="30403800"/>
                <a:tab algn="l" pos="31127760"/>
                <a:tab algn="l" pos="31851720"/>
                <a:tab algn="l" pos="32575680"/>
                <a:tab algn="l" pos="33299280"/>
              </a:tabLst>
            </a:pPr>
            <a:r>
              <a:rPr b="1" lang="en-GB" sz="4400" spc="-1" strike="noStrike">
                <a:solidFill>
                  <a:srgbClr val="006699"/>
                </a:solidFill>
                <a:latin typeface="Arial"/>
              </a:rPr>
              <a:t>Fortalezas o debilidades del producto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  <a:tab algn="l" pos="18097560"/>
                <a:tab algn="l" pos="18821520"/>
                <a:tab algn="l" pos="19545480"/>
                <a:tab algn="l" pos="20269080"/>
                <a:tab algn="l" pos="20993040"/>
                <a:tab algn="l" pos="21717000"/>
                <a:tab algn="l" pos="22440960"/>
                <a:tab algn="l" pos="23164920"/>
                <a:tab algn="l" pos="23888880"/>
                <a:tab algn="l" pos="24612480"/>
                <a:tab algn="l" pos="25336440"/>
                <a:tab algn="l" pos="26060400"/>
                <a:tab algn="l" pos="26784360"/>
                <a:tab algn="l" pos="27508320"/>
                <a:tab algn="l" pos="28232280"/>
                <a:tab algn="l" pos="28955880"/>
                <a:tab algn="l" pos="29679840"/>
                <a:tab algn="l" pos="30403800"/>
                <a:tab algn="l" pos="31127760"/>
                <a:tab algn="l" pos="31851720"/>
                <a:tab algn="l" pos="32575680"/>
                <a:tab algn="l" pos="3329928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Arial"/>
              </a:rPr>
              <a:t>Una de las principales fortalezas del producto es la versatilidad de usos y usuarios que proporciona; esto se ve reflejado en que los niños pueden utilizarlo mediante las manos o los pies y como se ha recalcado anteriormente puede ser usado con o sin silla de ruedas. Otro punto a destacar es la simplicidad de su mecanismo y la poca necesidad de mantenimiento. Una tercera virtud es que permite la participación activa de padres sin que esta se vuelva imprescindible. Todos los juegos que integren a los niños con o sin discapacidad son sustitutos al producto. Limitaciones tecnológicas podrían considerarse como los sistemas de seguridad que utilizará el juego. 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79640" y="44280000"/>
            <a:ext cx="809928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Arial"/>
              </a:rPr>
              <a:t>Grupo 5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Arial"/>
              </a:rPr>
              <a:t>curso :EI2A1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Arial"/>
              </a:rPr>
              <a:t>sección: 14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Arial"/>
              </a:rPr>
              <a:t>integrantes: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Arial"/>
              </a:rPr>
              <a:t>-Roberto Delgado 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Arial"/>
              </a:rPr>
              <a:t>-José Miguel Chapa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Arial"/>
              </a:rPr>
              <a:t>-Paula Latorres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Arial"/>
              </a:rPr>
              <a:t>-Nicole Lara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Arial"/>
              </a:rPr>
              <a:t>-Isidora Gallo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2"/>
          <a:stretch/>
        </p:blipFill>
        <p:spPr>
          <a:xfrm>
            <a:off x="28440000" y="45899280"/>
            <a:ext cx="6664320" cy="251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latorr</dc:creator>
  <dc:description/>
  <dc:language>en-US</dc:language>
  <cp:lastModifiedBy>palatorr</cp:lastModifiedBy>
  <cp:revision>0</cp:revision>
  <dc:subject/>
  <dc:title>Inventar nombre </dc:title>
</cp:coreProperties>
</file>