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3843913" cy="50766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376-E2BF-476B-B562-E3C62AC4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4FF-5064-4B43-AC8F-680FE495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705-6992-418D-9871-07896E58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64172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41188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7120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64172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41188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9FE-5DAA-4A08-B103-A60BC37B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9345-C43F-419A-B9CD-5A5235C7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16E0-B597-48CE-BB51-87C15DF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D02E-19E6-4B34-ACB9-9B3A96E0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BB36-9074-441E-92FB-0E863AA2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870A-A738-4535-B671-F53360C1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55760" y="16922880"/>
            <a:ext cx="27640080" cy="470599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algn="r">
              <a:spcBef>
                <a:spcPts val="4224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FE7E-C477-448C-8488-37279C6A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29FF-07E2-440E-A1A2-61679F4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80F-70DF-488A-B666-9702F63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1B15-9BF0-45EA-A348-447098F3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62D1-6DD9-4537-9167-EE4ABE57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D3BF-7259-4830-B211-2849DC6E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D97C-FCB7-4554-9587-D36347CB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64172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41188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7120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664172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341188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94BC-B6BE-4876-8E39-7DF8AB99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0BF-CE53-4810-BD5D-8E67B01E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08B-91EC-4786-B628-4E2A6F8E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B7A-6B85-486A-90D8-423E0B62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55760" y="16922880"/>
            <a:ext cx="27640080" cy="470599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algn="r">
              <a:spcBef>
                <a:spcPts val="4224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D68-CCC9-40A5-BD08-A04BCA80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794-0580-4491-A3EB-ACBA999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5D7-78C3-4275-B768-32583751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30B-56D2-4E26-8877-9627585C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20960" y="2255760"/>
            <a:ext cx="27920880" cy="846144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212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21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20960" y="11280600"/>
            <a:ext cx="27920880" cy="332805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rmAutofit fontScale="96000"/>
          </a:bodyPr>
          <a:p>
            <a:pPr marL="1740240" indent="-1740240">
              <a:spcBef>
                <a:spcPts val="4224"/>
              </a:spcBef>
              <a:buClr>
                <a:srgbClr val="ffffff"/>
              </a:buClr>
              <a:buFont typeface="Arial"/>
              <a:buChar char="•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1" marL="3771720" indent="-1450800">
              <a:spcBef>
                <a:spcPts val="4224"/>
              </a:spcBef>
              <a:buClr>
                <a:srgbClr val="ffffff"/>
              </a:buClr>
              <a:buFont typeface="Arial"/>
              <a:buChar char="–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2" marL="5801760" indent="-1159560">
              <a:spcBef>
                <a:spcPts val="4224"/>
              </a:spcBef>
              <a:buClr>
                <a:srgbClr val="ffffff"/>
              </a:buClr>
              <a:buFont typeface="Arial"/>
              <a:buChar char="•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3" marL="8122680" indent="-1161000">
              <a:spcBef>
                <a:spcPts val="4224"/>
              </a:spcBef>
              <a:buClr>
                <a:srgbClr val="ffffff"/>
              </a:buClr>
              <a:buFont typeface="Arial"/>
              <a:buChar char="–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4" marL="10443960" indent="-1161000">
              <a:spcBef>
                <a:spcPts val="4224"/>
              </a:spcBef>
              <a:buClr>
                <a:srgbClr val="ffffff"/>
              </a:buClr>
              <a:buFont typeface="Arial"/>
              <a:buChar char="»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5" marL="10443960" indent="-1161000">
              <a:spcBef>
                <a:spcPts val="4224"/>
              </a:spcBef>
              <a:buClr>
                <a:srgbClr val="ffffff"/>
              </a:buClr>
              <a:buFont typeface="Arial"/>
              <a:buChar char="»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6" marL="10443960" indent="-1161000">
              <a:spcBef>
                <a:spcPts val="4224"/>
              </a:spcBef>
              <a:buClr>
                <a:srgbClr val="ffffff"/>
              </a:buClr>
              <a:buFont typeface="Arial"/>
              <a:buChar char="»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88240" y="45126000"/>
            <a:ext cx="4795560" cy="33843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665320" y="45126000"/>
            <a:ext cx="10717200" cy="33843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ct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664760" y="45126000"/>
            <a:ext cx="4794120" cy="33843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835520"/>
                <a:tab algn="l" pos="9671040"/>
              </a:tabLst>
            </a:pPr>
            <a:fld id="{D7FBE474-FB1E-4E36-8803-41052E0DDB8E}" type="slidenum"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296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46000" y="45689760"/>
            <a:ext cx="7050240" cy="33847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8742240" y="45689760"/>
            <a:ext cx="16076880" cy="33847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ct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25947360" y="45689760"/>
            <a:ext cx="7049880" cy="33847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835520"/>
                <a:tab algn="l" pos="9671040"/>
              </a:tabLst>
            </a:pPr>
            <a:fld id="{EFC9012B-8FED-485E-8A18-4B1696C305D8}" type="slidenum"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1692000" y="11879280"/>
            <a:ext cx="30458880" cy="294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1" marL="2417760" indent="0" algn="ctr">
              <a:spcBef>
                <a:spcPts val="3699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n-US" sz="1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4800" spc="-1" strike="noStrike">
              <a:solidFill>
                <a:srgbClr val="ffffff"/>
              </a:solidFill>
              <a:latin typeface="Arial"/>
            </a:endParaRPr>
          </a:p>
          <a:p>
            <a:pPr lvl="2" marL="4835520" algn="ctr">
              <a:spcBef>
                <a:spcPts val="31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671040"/>
              </a:tabLst>
            </a:pPr>
            <a:r>
              <a:rPr b="0" lang="en-US" sz="1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2700" spc="-1" strike="noStrike">
              <a:solidFill>
                <a:srgbClr val="ffffff"/>
              </a:solidFill>
              <a:latin typeface="Arial"/>
            </a:endParaRPr>
          </a:p>
          <a:p>
            <a:pPr lvl="3" marL="7251840" algn="ctr">
              <a:spcBef>
                <a:spcPts val="2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67104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lvl="4" marL="9669600" algn="ctr">
              <a:spcBef>
                <a:spcPts val="2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67104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lvl="5" marL="9669600">
              <a:spcBef>
                <a:spcPts val="26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lvl="6" marL="9669600">
              <a:spcBef>
                <a:spcPts val="26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305000" y="14230440"/>
            <a:ext cx="10621800" cy="10083240"/>
            <a:chOff x="1305000" y="14230440"/>
            <a:chExt cx="10621800" cy="10083240"/>
          </a:xfrm>
        </p:grpSpPr>
        <p:pic>
          <p:nvPicPr>
            <p:cNvPr id="83" name="" descr=""/>
            <p:cNvPicPr/>
            <p:nvPr/>
          </p:nvPicPr>
          <p:blipFill>
            <a:blip r:embed="rId2"/>
            <a:srcRect l="16962" t="5599" r="10090" b="3228"/>
            <a:stretch/>
          </p:blipFill>
          <p:spPr>
            <a:xfrm>
              <a:off x="1305000" y="15240960"/>
              <a:ext cx="10621800" cy="907272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173760" y="14230440"/>
              <a:ext cx="69264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FRONTAL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902840" y="14489280"/>
            <a:ext cx="9718200" cy="9565560"/>
            <a:chOff x="22902840" y="14489280"/>
            <a:chExt cx="9718200" cy="9565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rcRect l="2381" t="2876" r="30369" b="11514"/>
            <a:stretch/>
          </p:blipFill>
          <p:spPr>
            <a:xfrm>
              <a:off x="22902840" y="15563880"/>
              <a:ext cx="9718200" cy="849096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246000" y="14489280"/>
              <a:ext cx="69292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LATERAL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833480" y="25700040"/>
            <a:ext cx="9758160" cy="8591040"/>
            <a:chOff x="1833480" y="25700040"/>
            <a:chExt cx="9758160" cy="8591040"/>
          </a:xfrm>
        </p:grpSpPr>
        <p:pic>
          <p:nvPicPr>
            <p:cNvPr id="89" name="" descr=""/>
            <p:cNvPicPr/>
            <p:nvPr/>
          </p:nvPicPr>
          <p:blipFill>
            <a:blip r:embed="rId4"/>
            <a:srcRect l="4631" t="5587" r="12455" b="1455"/>
            <a:stretch/>
          </p:blipFill>
          <p:spPr>
            <a:xfrm>
              <a:off x="1833480" y="26849520"/>
              <a:ext cx="9758160" cy="744156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3192120" y="25700040"/>
              <a:ext cx="69051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POSTERIOR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568040" y="25418880"/>
            <a:ext cx="10464840" cy="8648640"/>
            <a:chOff x="22568040" y="25418880"/>
            <a:chExt cx="10464840" cy="8648640"/>
          </a:xfrm>
        </p:grpSpPr>
        <p:pic>
          <p:nvPicPr>
            <p:cNvPr id="92" name="" descr=""/>
            <p:cNvPicPr/>
            <p:nvPr/>
          </p:nvPicPr>
          <p:blipFill>
            <a:blip r:embed="rId5"/>
            <a:srcRect l="15542" t="6080" r="7406" b="6350"/>
            <a:stretch/>
          </p:blipFill>
          <p:spPr>
            <a:xfrm>
              <a:off x="22568040" y="26357760"/>
              <a:ext cx="10464840" cy="770976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24690240" y="25418880"/>
              <a:ext cx="620604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TRIMÉTRICA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9236160" y="1268280"/>
            <a:ext cx="153590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00"/>
                  </a:outerShdw>
                </a:effectLst>
                <a:latin typeface="Century Gothic"/>
              </a:rPr>
              <a:t>El Pitbull Beauchefiano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5412760" y="1433520"/>
            <a:ext cx="2421000" cy="1916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6005520" y="1292400"/>
            <a:ext cx="2425680" cy="191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 rot="9690600">
            <a:off x="8272440" y="4993560"/>
            <a:ext cx="1636560" cy="217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0909440" y="5589720"/>
            <a:ext cx="10297800" cy="13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entury Gothic"/>
              </a:rPr>
              <a:t>Qué 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entury Gothic"/>
              <a:ea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 rot="1132800">
            <a:off x="22053240" y="5171400"/>
            <a:ext cx="1636560" cy="217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79560" y="6838920"/>
            <a:ext cx="2992608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s-ES" sz="4800" spc="-1" strike="noStrike">
                <a:solidFill>
                  <a:srgbClr val="f4da1a"/>
                </a:solidFill>
                <a:latin typeface="Century Gothic"/>
              </a:rPr>
              <a:t>Es un CICLETERO que  se hace cargo de la mala ubicación y falta de estacionamientos de bicicletas en parques y plazas. Le cambiará la vida a los ciclistas que los visitan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s-CL" sz="4800" spc="-1" strike="noStrike">
                <a:solidFill>
                  <a:srgbClr val="f4da1a"/>
                </a:solidFill>
                <a:latin typeface="Century Gothic"/>
              </a:rPr>
              <a:t>Su efectivo e innovador sistema de seguridad, comodidad y utilidad, lo convierte en un producto único en el mercad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13714560" y="45267480"/>
            <a:ext cx="5451480" cy="501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278720" y="35466480"/>
            <a:ext cx="5640120" cy="9646920"/>
          </a:xfrm>
          <a:prstGeom prst="wedgeRoundRectCallout">
            <a:avLst>
              <a:gd name="adj1" fmla="val -73564"/>
              <a:gd name="adj2" fmla="val 51268"/>
              <a:gd name="adj3" fmla="val 16667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CL" sz="4200" spc="-1" strike="noStrike">
                <a:solidFill>
                  <a:srgbClr val="eeb42d"/>
                </a:solidFill>
                <a:latin typeface="Century Gothic"/>
              </a:rPr>
              <a:t>¿USUARIO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entury Gothic"/>
              </a:rPr>
              <a:t>La barra horizontal que posee los ganchos cuenta con la facilidad de ajustarse dependiendo del tamaño de la bicicleta. Gracias a ello el producto está diseñado para todo tipo de usuario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176320" y="35125200"/>
            <a:ext cx="6286320" cy="14784120"/>
          </a:xfrm>
          <a:prstGeom prst="wedgeRoundRectCallout">
            <a:avLst>
              <a:gd name="adj1" fmla="val -159546"/>
              <a:gd name="adj2" fmla="val 49486"/>
              <a:gd name="adj3" fmla="val 16667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CL" sz="4200" spc="-1" strike="noStrike">
                <a:solidFill>
                  <a:srgbClr val="eeb42d"/>
                </a:solidFill>
                <a:latin typeface="Century Gothic"/>
              </a:rPr>
              <a:t>¿CÓMO FUNCIO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entury Gothic"/>
              </a:rPr>
              <a:t>Posee 4 ganchos para asegurar el marco, las dos ruedas y el sillín de la bicicleta, los cuales son cerrados automáticamente con un sistema que recibe una moneda, asegura los ganchos  y libera una llave para posteriormente abrir el sistema y retirar la bicicleta. Su forma modular permite el acoplamiento de varios cicleteros según la demanda del lug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966920" y="31822920"/>
            <a:ext cx="6321240" cy="179892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COMODID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Bombín incorp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55640" y="26206560"/>
            <a:ext cx="7715160" cy="398304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INNOVACIÓN Y SEGURID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Sistema de amarre seguro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a la bicicleta que evita qu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el usuario ocupe cadena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para asegurarla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5400" y="20764440"/>
            <a:ext cx="8167680" cy="378468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ESTÉTIC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Estructura de colore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llamativos que vayan acord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con el entorno donde s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ubiqu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14240" y="15054120"/>
            <a:ext cx="8167680" cy="408960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MATERI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Estructura realizada a bas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de tubos de aluminio de 5, 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y 1.5 centímetros de diámetro,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según su posición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2151000"/>
            <a:ext cx="5909400" cy="622080"/>
            <a:chOff x="0" y="2151000"/>
            <a:chExt cx="5909400" cy="622080"/>
          </a:xfrm>
        </p:grpSpPr>
        <p:pic>
          <p:nvPicPr>
            <p:cNvPr id="109" name="" descr=""/>
            <p:cNvPicPr/>
            <p:nvPr/>
          </p:nvPicPr>
          <p:blipFill>
            <a:blip r:embed="rId13"/>
            <a:stretch/>
          </p:blipFill>
          <p:spPr>
            <a:xfrm>
              <a:off x="3838320" y="2151000"/>
              <a:ext cx="2071080" cy="59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4"/>
            <a:stretch/>
          </p:blipFill>
          <p:spPr>
            <a:xfrm>
              <a:off x="1955520" y="2179440"/>
              <a:ext cx="207108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5"/>
            <a:stretch/>
          </p:blipFill>
          <p:spPr>
            <a:xfrm>
              <a:off x="0" y="2179440"/>
              <a:ext cx="207108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27933480" y="2021040"/>
            <a:ext cx="5910120" cy="623520"/>
            <a:chOff x="27933480" y="2021040"/>
            <a:chExt cx="5910120" cy="623520"/>
          </a:xfrm>
        </p:grpSpPr>
        <p:pic>
          <p:nvPicPr>
            <p:cNvPr id="113" name="" descr=""/>
            <p:cNvPicPr/>
            <p:nvPr/>
          </p:nvPicPr>
          <p:blipFill>
            <a:blip r:embed="rId16"/>
            <a:stretch/>
          </p:blipFill>
          <p:spPr>
            <a:xfrm>
              <a:off x="31772160" y="2021040"/>
              <a:ext cx="2071440" cy="59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7"/>
            <a:stretch/>
          </p:blipFill>
          <p:spPr>
            <a:xfrm>
              <a:off x="29889000" y="2049480"/>
              <a:ext cx="2071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8"/>
            <a:stretch/>
          </p:blipFill>
          <p:spPr>
            <a:xfrm>
              <a:off x="27933480" y="2049480"/>
              <a:ext cx="2071440" cy="59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6610040" y="38933280"/>
            <a:ext cx="2403360" cy="1609920"/>
          </a:xfrm>
          <a:prstGeom prst="leftArrow">
            <a:avLst>
              <a:gd name="adj1" fmla="val 50000"/>
              <a:gd name="adj2" fmla="val 37321"/>
            </a:avLst>
          </a:prstGeom>
          <a:solidFill>
            <a:srgbClr val="ff6702"/>
          </a:solidFill>
          <a:ln w="9360">
            <a:solidFill>
              <a:srgbClr val="ff6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16200000">
            <a:off x="4677120" y="35112240"/>
            <a:ext cx="2397240" cy="1598760"/>
          </a:xfrm>
          <a:prstGeom prst="leftArrow">
            <a:avLst>
              <a:gd name="adj1" fmla="val 50000"/>
              <a:gd name="adj2" fmla="val 37486"/>
            </a:avLst>
          </a:prstGeom>
          <a:solidFill>
            <a:srgbClr val="ff6702"/>
          </a:solidFill>
          <a:ln w="9360">
            <a:solidFill>
              <a:srgbClr val="ff6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28680" y="38250720"/>
            <a:ext cx="15046200" cy="363240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800" spc="-1" strike="noStrike">
                <a:solidFill>
                  <a:srgbClr val="ff6702"/>
                </a:solidFill>
                <a:latin typeface="Century Gothic"/>
              </a:rPr>
              <a:t>SEGURIDAD + COMODIDAD + FUNCIONALIDAD</a:t>
            </a:r>
            <a:r>
              <a:rPr b="0" lang="es-ES" sz="4800" spc="-1" strike="noStrike">
                <a:solidFill>
                  <a:srgbClr val="ff6702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800" spc="-1" strike="noStrike">
                <a:solidFill>
                  <a:srgbClr val="ff6702"/>
                </a:solidFill>
                <a:latin typeface="Century Gothic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i="1" lang="es-ES" sz="6000" spc="-1" strike="noStrike">
                <a:solidFill>
                  <a:srgbClr val="ff6702"/>
                </a:solidFill>
                <a:latin typeface="Century Gothic"/>
              </a:rPr>
              <a:t>“</a:t>
            </a:r>
            <a:r>
              <a:rPr b="1" i="1" lang="es-ES" sz="6000" spc="-1" strike="noStrike">
                <a:solidFill>
                  <a:srgbClr val="ff6702"/>
                </a:solidFill>
                <a:latin typeface="Century Gothic"/>
              </a:rPr>
              <a:t>INNOVACIÓN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5040" y="44731080"/>
            <a:ext cx="9639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Grupo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Diseñando Productos que Mejoran el Entorno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ección 1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Ismael Eguía Jaco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Karina López Pr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Guillermo Peña Po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Valentina Rodríguez Herre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ebastián Zúñiga Avell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012280" y="28651320"/>
            <a:ext cx="1409760" cy="320040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35480" y="30213360"/>
            <a:ext cx="2476440" cy="2171520"/>
          </a:xfrm>
          <a:prstGeom prst="line">
            <a:avLst/>
          </a:prstGeom>
          <a:ln w="9360">
            <a:solidFill>
              <a:srgbClr val="ff33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60280" y="26974800"/>
            <a:ext cx="1562040" cy="148608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37960" y="27990720"/>
            <a:ext cx="1562400" cy="148608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190800" y="28866960"/>
            <a:ext cx="1562040" cy="148608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79240" y="28333800"/>
            <a:ext cx="1460520" cy="3136680"/>
          </a:xfrm>
          <a:prstGeom prst="line">
            <a:avLst/>
          </a:prstGeom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89000" y="29476800"/>
            <a:ext cx="50760" cy="1993680"/>
          </a:xfrm>
          <a:prstGeom prst="line">
            <a:avLst/>
          </a:prstGeom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6339400" y="30302280"/>
            <a:ext cx="1384200" cy="1181160"/>
          </a:xfrm>
          <a:prstGeom prst="line">
            <a:avLst/>
          </a:prstGeom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339760" y="31483440"/>
            <a:ext cx="1739880" cy="3581280"/>
          </a:xfrm>
          <a:prstGeom prst="line">
            <a:avLst/>
          </a:prstGeom>
          <a:ln w="9360">
            <a:solidFill>
              <a:srgbClr val="ff33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5360" y="46507320"/>
          <a:ext cx="4586400" cy="3724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360" y="46507320"/>
                    <a:ext cx="4586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3:17:35Z</dcterms:created>
  <dc:creator>Karina Alejandra López Prado</dc:creator>
  <dc:description/>
  <cp:keywords/>
  <dc:language>en-US</dc:language>
  <cp:lastModifiedBy>Karina Alejandra López Prado</cp:lastModifiedBy>
  <dcterms:modified xsi:type="dcterms:W3CDTF">2008-05-13T03:49:54Z</dcterms:modified>
  <cp:revision>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3082</vt:lpwstr>
  </property>
</Properties>
</file>