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8.png" ContentType="image/png"/>
  <Override PartName="/ppt/media/image7.png" ContentType="image/png"/>
  <Override PartName="/ppt/media/image11.wmf" ContentType="image/x-wmf"/>
  <Override PartName="/ppt/media/image12.png" ContentType="image/png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33843913" cy="507666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A42A-53C8-40B3-A8CB-555BFEA3B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55760" y="16922880"/>
            <a:ext cx="27640080" cy="10152000"/>
          </a:xfrm>
          <a:prstGeom prst="rect">
            <a:avLst/>
          </a:prstGeom>
          <a:noFill/>
          <a:ln w="0">
            <a:noFill/>
          </a:ln>
        </p:spPr>
        <p:txBody>
          <a:bodyPr lIns="483480" rIns="483480" tIns="241560" bIns="24156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4835520"/>
                <a:tab algn="l" pos="9671040"/>
              </a:tabLst>
            </a:pPr>
            <a:endParaRPr b="0" lang="en-US" sz="296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871200" y="29895840"/>
            <a:ext cx="2002464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224"/>
              </a:spcBef>
              <a:buNone/>
              <a:tabLst>
                <a:tab algn="l" pos="0"/>
                <a:tab algn="l" pos="4835520"/>
                <a:tab algn="l" pos="9671040"/>
              </a:tabLst>
            </a:pPr>
            <a:endParaRPr b="0" lang="en-US" sz="16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871200" y="34021080"/>
            <a:ext cx="2002464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224"/>
              </a:spcBef>
              <a:buNone/>
              <a:tabLst>
                <a:tab algn="l" pos="0"/>
                <a:tab algn="l" pos="4835520"/>
                <a:tab algn="l" pos="9671040"/>
              </a:tabLst>
            </a:pPr>
            <a:endParaRPr b="0" lang="en-US" sz="16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FA0C-0148-46D8-B6A0-4EBC1AA6E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55760" y="16922880"/>
            <a:ext cx="27640080" cy="10152000"/>
          </a:xfrm>
          <a:prstGeom prst="rect">
            <a:avLst/>
          </a:prstGeom>
          <a:noFill/>
          <a:ln w="0">
            <a:noFill/>
          </a:ln>
        </p:spPr>
        <p:txBody>
          <a:bodyPr lIns="483480" rIns="483480" tIns="241560" bIns="24156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4835520"/>
                <a:tab algn="l" pos="9671040"/>
              </a:tabLst>
            </a:pPr>
            <a:endParaRPr b="0" lang="en-US" sz="296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871200" y="29895840"/>
            <a:ext cx="977184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r">
              <a:spcBef>
                <a:spcPts val="4224"/>
              </a:spcBef>
              <a:buNone/>
              <a:tabLst>
                <a:tab algn="l" pos="0"/>
                <a:tab algn="l" pos="4835520"/>
                <a:tab algn="l" pos="9671040"/>
              </a:tabLst>
            </a:pPr>
            <a:endParaRPr b="0" lang="en-US" sz="16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0131920" y="29895840"/>
            <a:ext cx="977184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r">
              <a:spcBef>
                <a:spcPts val="4224"/>
              </a:spcBef>
              <a:buNone/>
              <a:tabLst>
                <a:tab algn="l" pos="0"/>
                <a:tab algn="l" pos="4835520"/>
                <a:tab algn="l" pos="9671040"/>
              </a:tabLst>
            </a:pPr>
            <a:endParaRPr b="0" lang="en-US" sz="16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871200" y="34021080"/>
            <a:ext cx="977184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r">
              <a:spcBef>
                <a:spcPts val="4224"/>
              </a:spcBef>
              <a:buNone/>
              <a:tabLst>
                <a:tab algn="l" pos="0"/>
                <a:tab algn="l" pos="4835520"/>
                <a:tab algn="l" pos="9671040"/>
              </a:tabLst>
            </a:pPr>
            <a:endParaRPr b="0" lang="en-US" sz="16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0131920" y="34021080"/>
            <a:ext cx="977184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r">
              <a:spcBef>
                <a:spcPts val="4224"/>
              </a:spcBef>
              <a:buNone/>
              <a:tabLst>
                <a:tab algn="l" pos="0"/>
                <a:tab algn="l" pos="4835520"/>
                <a:tab algn="l" pos="9671040"/>
              </a:tabLst>
            </a:pPr>
            <a:endParaRPr b="0" lang="en-US" sz="16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39FF-913E-4419-8F54-AD14D0727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55760" y="16922880"/>
            <a:ext cx="27640080" cy="10152000"/>
          </a:xfrm>
          <a:prstGeom prst="rect">
            <a:avLst/>
          </a:prstGeom>
          <a:noFill/>
          <a:ln w="0">
            <a:noFill/>
          </a:ln>
        </p:spPr>
        <p:txBody>
          <a:bodyPr lIns="483480" rIns="483480" tIns="241560" bIns="24156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4835520"/>
                <a:tab algn="l" pos="9671040"/>
              </a:tabLst>
            </a:pPr>
            <a:endParaRPr b="0" lang="en-US" sz="296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871200" y="29895840"/>
            <a:ext cx="644760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r">
              <a:spcBef>
                <a:spcPts val="4224"/>
              </a:spcBef>
              <a:buNone/>
              <a:tabLst>
                <a:tab algn="l" pos="0"/>
                <a:tab algn="l" pos="4835520"/>
                <a:tab algn="l" pos="9671040"/>
              </a:tabLst>
            </a:pPr>
            <a:endParaRPr b="0" lang="en-US" sz="16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6641720" y="29895840"/>
            <a:ext cx="644760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r">
              <a:spcBef>
                <a:spcPts val="4224"/>
              </a:spcBef>
              <a:buNone/>
              <a:tabLst>
                <a:tab algn="l" pos="0"/>
                <a:tab algn="l" pos="4835520"/>
                <a:tab algn="l" pos="9671040"/>
              </a:tabLst>
            </a:pPr>
            <a:endParaRPr b="0" lang="en-US" sz="16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3411880" y="29895840"/>
            <a:ext cx="644760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r">
              <a:spcBef>
                <a:spcPts val="4224"/>
              </a:spcBef>
              <a:buNone/>
              <a:tabLst>
                <a:tab algn="l" pos="0"/>
                <a:tab algn="l" pos="4835520"/>
                <a:tab algn="l" pos="9671040"/>
              </a:tabLst>
            </a:pPr>
            <a:endParaRPr b="0" lang="en-US" sz="16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871200" y="34021080"/>
            <a:ext cx="644760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r">
              <a:spcBef>
                <a:spcPts val="4224"/>
              </a:spcBef>
              <a:buNone/>
              <a:tabLst>
                <a:tab algn="l" pos="0"/>
                <a:tab algn="l" pos="4835520"/>
                <a:tab algn="l" pos="9671040"/>
              </a:tabLst>
            </a:pPr>
            <a:endParaRPr b="0" lang="en-US" sz="16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6641720" y="34021080"/>
            <a:ext cx="644760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r">
              <a:spcBef>
                <a:spcPts val="4224"/>
              </a:spcBef>
              <a:buNone/>
              <a:tabLst>
                <a:tab algn="l" pos="0"/>
                <a:tab algn="l" pos="4835520"/>
                <a:tab algn="l" pos="9671040"/>
              </a:tabLst>
            </a:pPr>
            <a:endParaRPr b="0" lang="en-US" sz="16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3411880" y="34021080"/>
            <a:ext cx="644760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r">
              <a:spcBef>
                <a:spcPts val="4224"/>
              </a:spcBef>
              <a:buNone/>
              <a:tabLst>
                <a:tab algn="l" pos="0"/>
                <a:tab algn="l" pos="4835520"/>
                <a:tab algn="l" pos="9671040"/>
              </a:tabLst>
            </a:pPr>
            <a:endParaRPr b="0" lang="en-US" sz="16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A762-CB75-4706-811D-4125EA745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7D2DD-E5D8-480D-B36B-477C87FD6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55760" y="16922880"/>
            <a:ext cx="27640080" cy="10152000"/>
          </a:xfrm>
          <a:prstGeom prst="rect">
            <a:avLst/>
          </a:prstGeom>
          <a:noFill/>
          <a:ln w="0">
            <a:noFill/>
          </a:ln>
        </p:spPr>
        <p:txBody>
          <a:bodyPr lIns="483480" rIns="483480" tIns="241560" bIns="24156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4835520"/>
                <a:tab algn="l" pos="9671040"/>
              </a:tabLst>
            </a:pPr>
            <a:endParaRPr b="0" lang="en-US" sz="296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871200" y="29895840"/>
            <a:ext cx="20024640" cy="7897680"/>
          </a:xfrm>
          <a:prstGeom prst="rect">
            <a:avLst/>
          </a:prstGeom>
          <a:noFill/>
          <a:ln w="0">
            <a:noFill/>
          </a:ln>
        </p:spPr>
        <p:txBody>
          <a:bodyPr lIns="483480" rIns="483480" tIns="241560" bIns="241560" anchor="t">
            <a:noAutofit/>
          </a:bodyPr>
          <a:p>
            <a:pPr indent="0" algn="r">
              <a:spcBef>
                <a:spcPts val="4224"/>
              </a:spcBef>
              <a:buNone/>
              <a:tabLst>
                <a:tab algn="l" pos="0"/>
                <a:tab algn="l" pos="4835520"/>
                <a:tab algn="l" pos="9671040"/>
              </a:tabLst>
            </a:pPr>
            <a:endParaRPr b="0" lang="en-US" sz="16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64BF1-D5E7-46AD-86F3-7D47B28AE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55760" y="16922880"/>
            <a:ext cx="27640080" cy="10152000"/>
          </a:xfrm>
          <a:prstGeom prst="rect">
            <a:avLst/>
          </a:prstGeom>
          <a:noFill/>
          <a:ln w="0">
            <a:noFill/>
          </a:ln>
        </p:spPr>
        <p:txBody>
          <a:bodyPr lIns="483480" rIns="483480" tIns="241560" bIns="24156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4835520"/>
                <a:tab algn="l" pos="9671040"/>
              </a:tabLst>
            </a:pPr>
            <a:endParaRPr b="0" lang="en-US" sz="296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871200" y="29895840"/>
            <a:ext cx="20024640" cy="789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224"/>
              </a:spcBef>
              <a:buNone/>
              <a:tabLst>
                <a:tab algn="l" pos="0"/>
                <a:tab algn="l" pos="4835520"/>
                <a:tab algn="l" pos="9671040"/>
              </a:tabLst>
            </a:pPr>
            <a:endParaRPr b="0" lang="en-US" sz="16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0F73A-7E6A-4520-A342-9A5963073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55760" y="16922880"/>
            <a:ext cx="27640080" cy="10152000"/>
          </a:xfrm>
          <a:prstGeom prst="rect">
            <a:avLst/>
          </a:prstGeom>
          <a:noFill/>
          <a:ln w="0">
            <a:noFill/>
          </a:ln>
        </p:spPr>
        <p:txBody>
          <a:bodyPr lIns="483480" rIns="483480" tIns="241560" bIns="24156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4835520"/>
                <a:tab algn="l" pos="9671040"/>
              </a:tabLst>
            </a:pPr>
            <a:endParaRPr b="0" lang="en-US" sz="296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871200" y="29895840"/>
            <a:ext cx="9771840" cy="789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224"/>
              </a:spcBef>
              <a:buNone/>
              <a:tabLst>
                <a:tab algn="l" pos="0"/>
                <a:tab algn="l" pos="4835520"/>
                <a:tab algn="l" pos="9671040"/>
              </a:tabLst>
            </a:pPr>
            <a:endParaRPr b="0" lang="en-US" sz="16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0131920" y="29895840"/>
            <a:ext cx="9771840" cy="789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224"/>
              </a:spcBef>
              <a:buNone/>
              <a:tabLst>
                <a:tab algn="l" pos="0"/>
                <a:tab algn="l" pos="4835520"/>
                <a:tab algn="l" pos="9671040"/>
              </a:tabLst>
            </a:pPr>
            <a:endParaRPr b="0" lang="en-US" sz="16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1F22A-3594-439B-A448-ADDF46B19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55760" y="16922880"/>
            <a:ext cx="27640080" cy="10152000"/>
          </a:xfrm>
          <a:prstGeom prst="rect">
            <a:avLst/>
          </a:prstGeom>
          <a:noFill/>
          <a:ln w="0">
            <a:noFill/>
          </a:ln>
        </p:spPr>
        <p:txBody>
          <a:bodyPr lIns="483480" rIns="483480" tIns="241560" bIns="24156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4835520"/>
                <a:tab algn="l" pos="9671040"/>
              </a:tabLst>
            </a:pPr>
            <a:endParaRPr b="0" lang="en-US" sz="296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43DF6-B0A2-4104-B1E1-E1B015528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55760" y="16922880"/>
            <a:ext cx="27640080" cy="47059920"/>
          </a:xfrm>
          <a:prstGeom prst="rect">
            <a:avLst/>
          </a:prstGeom>
          <a:noFill/>
          <a:ln w="0">
            <a:noFill/>
          </a:ln>
        </p:spPr>
        <p:txBody>
          <a:bodyPr lIns="483480" rIns="483480" tIns="241560" bIns="241560" anchor="t">
            <a:noAutofit/>
          </a:bodyPr>
          <a:p>
            <a:pPr algn="r">
              <a:spcBef>
                <a:spcPts val="4224"/>
              </a:spcBef>
              <a:tabLst>
                <a:tab algn="l" pos="0"/>
                <a:tab algn="l" pos="4835520"/>
                <a:tab algn="l" pos="9671040"/>
              </a:tabLst>
            </a:pPr>
            <a:endParaRPr b="0" lang="en-US" sz="16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4DBA9-1488-401F-BD55-4F6638D0D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55760" y="16922880"/>
            <a:ext cx="27640080" cy="10152000"/>
          </a:xfrm>
          <a:prstGeom prst="rect">
            <a:avLst/>
          </a:prstGeom>
          <a:noFill/>
          <a:ln w="0">
            <a:noFill/>
          </a:ln>
        </p:spPr>
        <p:txBody>
          <a:bodyPr lIns="483480" rIns="483480" tIns="241560" bIns="24156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4835520"/>
                <a:tab algn="l" pos="9671040"/>
              </a:tabLst>
            </a:pPr>
            <a:endParaRPr b="0" lang="en-US" sz="296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871200" y="29895840"/>
            <a:ext cx="977184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r">
              <a:spcBef>
                <a:spcPts val="4224"/>
              </a:spcBef>
              <a:buNone/>
              <a:tabLst>
                <a:tab algn="l" pos="0"/>
                <a:tab algn="l" pos="4835520"/>
                <a:tab algn="l" pos="9671040"/>
              </a:tabLst>
            </a:pPr>
            <a:endParaRPr b="0" lang="en-US" sz="16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0131920" y="29895840"/>
            <a:ext cx="9771840" cy="789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224"/>
              </a:spcBef>
              <a:buNone/>
              <a:tabLst>
                <a:tab algn="l" pos="0"/>
                <a:tab algn="l" pos="4835520"/>
                <a:tab algn="l" pos="9671040"/>
              </a:tabLst>
            </a:pPr>
            <a:endParaRPr b="0" lang="en-US" sz="16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871200" y="34021080"/>
            <a:ext cx="977184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r">
              <a:spcBef>
                <a:spcPts val="4224"/>
              </a:spcBef>
              <a:buNone/>
              <a:tabLst>
                <a:tab algn="l" pos="0"/>
                <a:tab algn="l" pos="4835520"/>
                <a:tab algn="l" pos="9671040"/>
              </a:tabLst>
            </a:pPr>
            <a:endParaRPr b="0" lang="en-US" sz="16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79462-0F2C-4ACF-B58B-1EA01DD4D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55760" y="16922880"/>
            <a:ext cx="27640080" cy="10152000"/>
          </a:xfrm>
          <a:prstGeom prst="rect">
            <a:avLst/>
          </a:prstGeom>
          <a:noFill/>
          <a:ln w="0">
            <a:noFill/>
          </a:ln>
        </p:spPr>
        <p:txBody>
          <a:bodyPr lIns="483480" rIns="483480" tIns="241560" bIns="24156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4835520"/>
                <a:tab algn="l" pos="9671040"/>
              </a:tabLst>
            </a:pPr>
            <a:endParaRPr b="0" lang="en-US" sz="296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871200" y="29895840"/>
            <a:ext cx="20024640" cy="7897680"/>
          </a:xfrm>
          <a:prstGeom prst="rect">
            <a:avLst/>
          </a:prstGeom>
          <a:noFill/>
          <a:ln w="0">
            <a:noFill/>
          </a:ln>
        </p:spPr>
        <p:txBody>
          <a:bodyPr lIns="483480" rIns="483480" tIns="241560" bIns="241560" anchor="t">
            <a:noAutofit/>
          </a:bodyPr>
          <a:p>
            <a:pPr indent="0" algn="r">
              <a:spcBef>
                <a:spcPts val="4224"/>
              </a:spcBef>
              <a:buNone/>
              <a:tabLst>
                <a:tab algn="l" pos="0"/>
                <a:tab algn="l" pos="4835520"/>
                <a:tab algn="l" pos="9671040"/>
              </a:tabLst>
            </a:pPr>
            <a:endParaRPr b="0" lang="en-US" sz="16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FE5B-9E89-48D5-A9E2-9D57A7A8E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55760" y="16922880"/>
            <a:ext cx="27640080" cy="10152000"/>
          </a:xfrm>
          <a:prstGeom prst="rect">
            <a:avLst/>
          </a:prstGeom>
          <a:noFill/>
          <a:ln w="0">
            <a:noFill/>
          </a:ln>
        </p:spPr>
        <p:txBody>
          <a:bodyPr lIns="483480" rIns="483480" tIns="241560" bIns="24156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4835520"/>
                <a:tab algn="l" pos="9671040"/>
              </a:tabLst>
            </a:pPr>
            <a:endParaRPr b="0" lang="en-US" sz="296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871200" y="29895840"/>
            <a:ext cx="9771840" cy="789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224"/>
              </a:spcBef>
              <a:buNone/>
              <a:tabLst>
                <a:tab algn="l" pos="0"/>
                <a:tab algn="l" pos="4835520"/>
                <a:tab algn="l" pos="9671040"/>
              </a:tabLst>
            </a:pPr>
            <a:endParaRPr b="0" lang="en-US" sz="16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0131920" y="29895840"/>
            <a:ext cx="977184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r">
              <a:spcBef>
                <a:spcPts val="4224"/>
              </a:spcBef>
              <a:buNone/>
              <a:tabLst>
                <a:tab algn="l" pos="0"/>
                <a:tab algn="l" pos="4835520"/>
                <a:tab algn="l" pos="9671040"/>
              </a:tabLst>
            </a:pPr>
            <a:endParaRPr b="0" lang="en-US" sz="16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0131920" y="34021080"/>
            <a:ext cx="977184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r">
              <a:spcBef>
                <a:spcPts val="4224"/>
              </a:spcBef>
              <a:buNone/>
              <a:tabLst>
                <a:tab algn="l" pos="0"/>
                <a:tab algn="l" pos="4835520"/>
                <a:tab algn="l" pos="9671040"/>
              </a:tabLst>
            </a:pPr>
            <a:endParaRPr b="0" lang="en-US" sz="16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005A8-B601-44B3-9A81-C8499876E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55760" y="16922880"/>
            <a:ext cx="27640080" cy="10152000"/>
          </a:xfrm>
          <a:prstGeom prst="rect">
            <a:avLst/>
          </a:prstGeom>
          <a:noFill/>
          <a:ln w="0">
            <a:noFill/>
          </a:ln>
        </p:spPr>
        <p:txBody>
          <a:bodyPr lIns="483480" rIns="483480" tIns="241560" bIns="24156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4835520"/>
                <a:tab algn="l" pos="9671040"/>
              </a:tabLst>
            </a:pPr>
            <a:endParaRPr b="0" lang="en-US" sz="296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871200" y="29895840"/>
            <a:ext cx="977184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r">
              <a:spcBef>
                <a:spcPts val="4224"/>
              </a:spcBef>
              <a:buNone/>
              <a:tabLst>
                <a:tab algn="l" pos="0"/>
                <a:tab algn="l" pos="4835520"/>
                <a:tab algn="l" pos="9671040"/>
              </a:tabLst>
            </a:pPr>
            <a:endParaRPr b="0" lang="en-US" sz="16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0131920" y="29895840"/>
            <a:ext cx="977184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r">
              <a:spcBef>
                <a:spcPts val="4224"/>
              </a:spcBef>
              <a:buNone/>
              <a:tabLst>
                <a:tab algn="l" pos="0"/>
                <a:tab algn="l" pos="4835520"/>
                <a:tab algn="l" pos="9671040"/>
              </a:tabLst>
            </a:pPr>
            <a:endParaRPr b="0" lang="en-US" sz="16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871200" y="34021080"/>
            <a:ext cx="2002464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224"/>
              </a:spcBef>
              <a:buNone/>
              <a:tabLst>
                <a:tab algn="l" pos="0"/>
                <a:tab algn="l" pos="4835520"/>
                <a:tab algn="l" pos="9671040"/>
              </a:tabLst>
            </a:pPr>
            <a:endParaRPr b="0" lang="en-US" sz="16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8DF0A-07A9-4B62-A7EC-FB88FA7CF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55760" y="16922880"/>
            <a:ext cx="27640080" cy="10152000"/>
          </a:xfrm>
          <a:prstGeom prst="rect">
            <a:avLst/>
          </a:prstGeom>
          <a:noFill/>
          <a:ln w="0">
            <a:noFill/>
          </a:ln>
        </p:spPr>
        <p:txBody>
          <a:bodyPr lIns="483480" rIns="483480" tIns="241560" bIns="24156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4835520"/>
                <a:tab algn="l" pos="9671040"/>
              </a:tabLst>
            </a:pPr>
            <a:endParaRPr b="0" lang="en-US" sz="296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871200" y="29895840"/>
            <a:ext cx="2002464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224"/>
              </a:spcBef>
              <a:buNone/>
              <a:tabLst>
                <a:tab algn="l" pos="0"/>
                <a:tab algn="l" pos="4835520"/>
                <a:tab algn="l" pos="9671040"/>
              </a:tabLst>
            </a:pPr>
            <a:endParaRPr b="0" lang="en-US" sz="16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871200" y="34021080"/>
            <a:ext cx="2002464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224"/>
              </a:spcBef>
              <a:buNone/>
              <a:tabLst>
                <a:tab algn="l" pos="0"/>
                <a:tab algn="l" pos="4835520"/>
                <a:tab algn="l" pos="9671040"/>
              </a:tabLst>
            </a:pPr>
            <a:endParaRPr b="0" lang="en-US" sz="16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9C012-B69B-491A-B414-7342C865E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55760" y="16922880"/>
            <a:ext cx="27640080" cy="10152000"/>
          </a:xfrm>
          <a:prstGeom prst="rect">
            <a:avLst/>
          </a:prstGeom>
          <a:noFill/>
          <a:ln w="0">
            <a:noFill/>
          </a:ln>
        </p:spPr>
        <p:txBody>
          <a:bodyPr lIns="483480" rIns="483480" tIns="241560" bIns="24156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4835520"/>
                <a:tab algn="l" pos="9671040"/>
              </a:tabLst>
            </a:pPr>
            <a:endParaRPr b="0" lang="en-US" sz="296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871200" y="29895840"/>
            <a:ext cx="977184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r">
              <a:spcBef>
                <a:spcPts val="4224"/>
              </a:spcBef>
              <a:buNone/>
              <a:tabLst>
                <a:tab algn="l" pos="0"/>
                <a:tab algn="l" pos="4835520"/>
                <a:tab algn="l" pos="9671040"/>
              </a:tabLst>
            </a:pPr>
            <a:endParaRPr b="0" lang="en-US" sz="16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0131920" y="29895840"/>
            <a:ext cx="977184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r">
              <a:spcBef>
                <a:spcPts val="4224"/>
              </a:spcBef>
              <a:buNone/>
              <a:tabLst>
                <a:tab algn="l" pos="0"/>
                <a:tab algn="l" pos="4835520"/>
                <a:tab algn="l" pos="9671040"/>
              </a:tabLst>
            </a:pPr>
            <a:endParaRPr b="0" lang="en-US" sz="16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871200" y="34021080"/>
            <a:ext cx="977184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r">
              <a:spcBef>
                <a:spcPts val="4224"/>
              </a:spcBef>
              <a:buNone/>
              <a:tabLst>
                <a:tab algn="l" pos="0"/>
                <a:tab algn="l" pos="4835520"/>
                <a:tab algn="l" pos="9671040"/>
              </a:tabLst>
            </a:pPr>
            <a:endParaRPr b="0" lang="en-US" sz="16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0131920" y="34021080"/>
            <a:ext cx="977184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r">
              <a:spcBef>
                <a:spcPts val="4224"/>
              </a:spcBef>
              <a:buNone/>
              <a:tabLst>
                <a:tab algn="l" pos="0"/>
                <a:tab algn="l" pos="4835520"/>
                <a:tab algn="l" pos="9671040"/>
              </a:tabLst>
            </a:pPr>
            <a:endParaRPr b="0" lang="en-US" sz="16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F971E-863D-4BD1-BF83-49150B002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55760" y="16922880"/>
            <a:ext cx="27640080" cy="10152000"/>
          </a:xfrm>
          <a:prstGeom prst="rect">
            <a:avLst/>
          </a:prstGeom>
          <a:noFill/>
          <a:ln w="0">
            <a:noFill/>
          </a:ln>
        </p:spPr>
        <p:txBody>
          <a:bodyPr lIns="483480" rIns="483480" tIns="241560" bIns="24156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4835520"/>
                <a:tab algn="l" pos="9671040"/>
              </a:tabLst>
            </a:pPr>
            <a:endParaRPr b="0" lang="en-US" sz="296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871200" y="29895840"/>
            <a:ext cx="644760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r">
              <a:spcBef>
                <a:spcPts val="4224"/>
              </a:spcBef>
              <a:buNone/>
              <a:tabLst>
                <a:tab algn="l" pos="0"/>
                <a:tab algn="l" pos="4835520"/>
                <a:tab algn="l" pos="9671040"/>
              </a:tabLst>
            </a:pPr>
            <a:endParaRPr b="0" lang="en-US" sz="16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6641720" y="29895840"/>
            <a:ext cx="644760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r">
              <a:spcBef>
                <a:spcPts val="4224"/>
              </a:spcBef>
              <a:buNone/>
              <a:tabLst>
                <a:tab algn="l" pos="0"/>
                <a:tab algn="l" pos="4835520"/>
                <a:tab algn="l" pos="9671040"/>
              </a:tabLst>
            </a:pPr>
            <a:endParaRPr b="0" lang="en-US" sz="16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3411880" y="29895840"/>
            <a:ext cx="644760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r">
              <a:spcBef>
                <a:spcPts val="4224"/>
              </a:spcBef>
              <a:buNone/>
              <a:tabLst>
                <a:tab algn="l" pos="0"/>
                <a:tab algn="l" pos="4835520"/>
                <a:tab algn="l" pos="9671040"/>
              </a:tabLst>
            </a:pPr>
            <a:endParaRPr b="0" lang="en-US" sz="16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871200" y="34021080"/>
            <a:ext cx="644760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r">
              <a:spcBef>
                <a:spcPts val="4224"/>
              </a:spcBef>
              <a:buNone/>
              <a:tabLst>
                <a:tab algn="l" pos="0"/>
                <a:tab algn="l" pos="4835520"/>
                <a:tab algn="l" pos="9671040"/>
              </a:tabLst>
            </a:pPr>
            <a:endParaRPr b="0" lang="en-US" sz="16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16641720" y="34021080"/>
            <a:ext cx="644760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r">
              <a:spcBef>
                <a:spcPts val="4224"/>
              </a:spcBef>
              <a:buNone/>
              <a:tabLst>
                <a:tab algn="l" pos="0"/>
                <a:tab algn="l" pos="4835520"/>
                <a:tab algn="l" pos="9671040"/>
              </a:tabLst>
            </a:pPr>
            <a:endParaRPr b="0" lang="en-US" sz="16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23411880" y="34021080"/>
            <a:ext cx="644760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r">
              <a:spcBef>
                <a:spcPts val="4224"/>
              </a:spcBef>
              <a:buNone/>
              <a:tabLst>
                <a:tab algn="l" pos="0"/>
                <a:tab algn="l" pos="4835520"/>
                <a:tab algn="l" pos="9671040"/>
              </a:tabLst>
            </a:pPr>
            <a:endParaRPr b="0" lang="en-US" sz="16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95E92-48B0-4BAC-A999-C82B29ECB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55760" y="16922880"/>
            <a:ext cx="27640080" cy="10152000"/>
          </a:xfrm>
          <a:prstGeom prst="rect">
            <a:avLst/>
          </a:prstGeom>
          <a:noFill/>
          <a:ln w="0">
            <a:noFill/>
          </a:ln>
        </p:spPr>
        <p:txBody>
          <a:bodyPr lIns="483480" rIns="483480" tIns="241560" bIns="24156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4835520"/>
                <a:tab algn="l" pos="9671040"/>
              </a:tabLst>
            </a:pPr>
            <a:endParaRPr b="0" lang="en-US" sz="296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871200" y="29895840"/>
            <a:ext cx="20024640" cy="789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224"/>
              </a:spcBef>
              <a:buNone/>
              <a:tabLst>
                <a:tab algn="l" pos="0"/>
                <a:tab algn="l" pos="4835520"/>
                <a:tab algn="l" pos="9671040"/>
              </a:tabLst>
            </a:pPr>
            <a:endParaRPr b="0" lang="en-US" sz="16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02B5-E0E7-4662-93CA-1F0113018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55760" y="16922880"/>
            <a:ext cx="27640080" cy="10152000"/>
          </a:xfrm>
          <a:prstGeom prst="rect">
            <a:avLst/>
          </a:prstGeom>
          <a:noFill/>
          <a:ln w="0">
            <a:noFill/>
          </a:ln>
        </p:spPr>
        <p:txBody>
          <a:bodyPr lIns="483480" rIns="483480" tIns="241560" bIns="24156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4835520"/>
                <a:tab algn="l" pos="9671040"/>
              </a:tabLst>
            </a:pPr>
            <a:endParaRPr b="0" lang="en-US" sz="296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871200" y="29895840"/>
            <a:ext cx="9771840" cy="789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224"/>
              </a:spcBef>
              <a:buNone/>
              <a:tabLst>
                <a:tab algn="l" pos="0"/>
                <a:tab algn="l" pos="4835520"/>
                <a:tab algn="l" pos="9671040"/>
              </a:tabLst>
            </a:pPr>
            <a:endParaRPr b="0" lang="en-US" sz="16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0131920" y="29895840"/>
            <a:ext cx="9771840" cy="789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224"/>
              </a:spcBef>
              <a:buNone/>
              <a:tabLst>
                <a:tab algn="l" pos="0"/>
                <a:tab algn="l" pos="4835520"/>
                <a:tab algn="l" pos="9671040"/>
              </a:tabLst>
            </a:pPr>
            <a:endParaRPr b="0" lang="en-US" sz="16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ADC5-0856-409E-A6A2-2D8B9CFE2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55760" y="16922880"/>
            <a:ext cx="27640080" cy="10152000"/>
          </a:xfrm>
          <a:prstGeom prst="rect">
            <a:avLst/>
          </a:prstGeom>
          <a:noFill/>
          <a:ln w="0">
            <a:noFill/>
          </a:ln>
        </p:spPr>
        <p:txBody>
          <a:bodyPr lIns="483480" rIns="483480" tIns="241560" bIns="24156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4835520"/>
                <a:tab algn="l" pos="9671040"/>
              </a:tabLst>
            </a:pPr>
            <a:endParaRPr b="0" lang="en-US" sz="296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171A-7101-42C7-A8B3-78A6464D4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55760" y="16922880"/>
            <a:ext cx="27640080" cy="47059920"/>
          </a:xfrm>
          <a:prstGeom prst="rect">
            <a:avLst/>
          </a:prstGeom>
          <a:noFill/>
          <a:ln w="0">
            <a:noFill/>
          </a:ln>
        </p:spPr>
        <p:txBody>
          <a:bodyPr lIns="483480" rIns="483480" tIns="241560" bIns="241560" anchor="t">
            <a:noAutofit/>
          </a:bodyPr>
          <a:p>
            <a:pPr algn="r">
              <a:spcBef>
                <a:spcPts val="4224"/>
              </a:spcBef>
              <a:tabLst>
                <a:tab algn="l" pos="0"/>
                <a:tab algn="l" pos="4835520"/>
                <a:tab algn="l" pos="9671040"/>
              </a:tabLst>
            </a:pPr>
            <a:endParaRPr b="0" lang="en-US" sz="16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392E-4448-479F-B2BC-FEAE4501F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55760" y="16922880"/>
            <a:ext cx="27640080" cy="10152000"/>
          </a:xfrm>
          <a:prstGeom prst="rect">
            <a:avLst/>
          </a:prstGeom>
          <a:noFill/>
          <a:ln w="0">
            <a:noFill/>
          </a:ln>
        </p:spPr>
        <p:txBody>
          <a:bodyPr lIns="483480" rIns="483480" tIns="241560" bIns="24156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4835520"/>
                <a:tab algn="l" pos="9671040"/>
              </a:tabLst>
            </a:pPr>
            <a:endParaRPr b="0" lang="en-US" sz="296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871200" y="29895840"/>
            <a:ext cx="977184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r">
              <a:spcBef>
                <a:spcPts val="4224"/>
              </a:spcBef>
              <a:buNone/>
              <a:tabLst>
                <a:tab algn="l" pos="0"/>
                <a:tab algn="l" pos="4835520"/>
                <a:tab algn="l" pos="9671040"/>
              </a:tabLst>
            </a:pPr>
            <a:endParaRPr b="0" lang="en-US" sz="16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0131920" y="29895840"/>
            <a:ext cx="9771840" cy="789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224"/>
              </a:spcBef>
              <a:buNone/>
              <a:tabLst>
                <a:tab algn="l" pos="0"/>
                <a:tab algn="l" pos="4835520"/>
                <a:tab algn="l" pos="9671040"/>
              </a:tabLst>
            </a:pPr>
            <a:endParaRPr b="0" lang="en-US" sz="16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871200" y="34021080"/>
            <a:ext cx="977184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r">
              <a:spcBef>
                <a:spcPts val="4224"/>
              </a:spcBef>
              <a:buNone/>
              <a:tabLst>
                <a:tab algn="l" pos="0"/>
                <a:tab algn="l" pos="4835520"/>
                <a:tab algn="l" pos="9671040"/>
              </a:tabLst>
            </a:pPr>
            <a:endParaRPr b="0" lang="en-US" sz="16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6D6F-B8A7-489B-B9C9-49FDB125E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55760" y="16922880"/>
            <a:ext cx="27640080" cy="10152000"/>
          </a:xfrm>
          <a:prstGeom prst="rect">
            <a:avLst/>
          </a:prstGeom>
          <a:noFill/>
          <a:ln w="0">
            <a:noFill/>
          </a:ln>
        </p:spPr>
        <p:txBody>
          <a:bodyPr lIns="483480" rIns="483480" tIns="241560" bIns="24156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4835520"/>
                <a:tab algn="l" pos="9671040"/>
              </a:tabLst>
            </a:pPr>
            <a:endParaRPr b="0" lang="en-US" sz="296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871200" y="29895840"/>
            <a:ext cx="9771840" cy="789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224"/>
              </a:spcBef>
              <a:buNone/>
              <a:tabLst>
                <a:tab algn="l" pos="0"/>
                <a:tab algn="l" pos="4835520"/>
                <a:tab algn="l" pos="9671040"/>
              </a:tabLst>
            </a:pPr>
            <a:endParaRPr b="0" lang="en-US" sz="16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0131920" y="29895840"/>
            <a:ext cx="977184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r">
              <a:spcBef>
                <a:spcPts val="4224"/>
              </a:spcBef>
              <a:buNone/>
              <a:tabLst>
                <a:tab algn="l" pos="0"/>
                <a:tab algn="l" pos="4835520"/>
                <a:tab algn="l" pos="9671040"/>
              </a:tabLst>
            </a:pPr>
            <a:endParaRPr b="0" lang="en-US" sz="16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0131920" y="34021080"/>
            <a:ext cx="977184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r">
              <a:spcBef>
                <a:spcPts val="4224"/>
              </a:spcBef>
              <a:buNone/>
              <a:tabLst>
                <a:tab algn="l" pos="0"/>
                <a:tab algn="l" pos="4835520"/>
                <a:tab algn="l" pos="9671040"/>
              </a:tabLst>
            </a:pPr>
            <a:endParaRPr b="0" lang="en-US" sz="16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B0DE-9BAD-4996-B90B-98C9F8A2B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55760" y="16922880"/>
            <a:ext cx="27640080" cy="10152000"/>
          </a:xfrm>
          <a:prstGeom prst="rect">
            <a:avLst/>
          </a:prstGeom>
          <a:noFill/>
          <a:ln w="0">
            <a:noFill/>
          </a:ln>
        </p:spPr>
        <p:txBody>
          <a:bodyPr lIns="483480" rIns="483480" tIns="241560" bIns="24156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4835520"/>
                <a:tab algn="l" pos="9671040"/>
              </a:tabLst>
            </a:pPr>
            <a:endParaRPr b="0" lang="en-US" sz="296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871200" y="29895840"/>
            <a:ext cx="977184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r">
              <a:spcBef>
                <a:spcPts val="4224"/>
              </a:spcBef>
              <a:buNone/>
              <a:tabLst>
                <a:tab algn="l" pos="0"/>
                <a:tab algn="l" pos="4835520"/>
                <a:tab algn="l" pos="9671040"/>
              </a:tabLst>
            </a:pPr>
            <a:endParaRPr b="0" lang="en-US" sz="16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0131920" y="29895840"/>
            <a:ext cx="977184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r">
              <a:spcBef>
                <a:spcPts val="4224"/>
              </a:spcBef>
              <a:buNone/>
              <a:tabLst>
                <a:tab algn="l" pos="0"/>
                <a:tab algn="l" pos="4835520"/>
                <a:tab algn="l" pos="9671040"/>
              </a:tabLst>
            </a:pPr>
            <a:endParaRPr b="0" lang="en-US" sz="16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871200" y="34021080"/>
            <a:ext cx="2002464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224"/>
              </a:spcBef>
              <a:buNone/>
              <a:tabLst>
                <a:tab algn="l" pos="0"/>
                <a:tab algn="l" pos="4835520"/>
                <a:tab algn="l" pos="9671040"/>
              </a:tabLst>
            </a:pPr>
            <a:endParaRPr b="0" lang="en-US" sz="16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A2D5-0B52-4553-9EAF-2570CDE30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820960" y="2255760"/>
            <a:ext cx="27920880" cy="8461440"/>
          </a:xfrm>
          <a:prstGeom prst="rect">
            <a:avLst/>
          </a:prstGeom>
          <a:noFill/>
          <a:ln w="0">
            <a:noFill/>
          </a:ln>
        </p:spPr>
        <p:txBody>
          <a:bodyPr lIns="483480" rIns="483480" tIns="241560" bIns="241560" anchor="ctr">
            <a:noAutofit/>
          </a:bodyPr>
          <a:p>
            <a:pPr indent="0">
              <a:buNone/>
              <a:tabLst>
                <a:tab algn="l" pos="0"/>
                <a:tab algn="l" pos="4835520"/>
                <a:tab algn="l" pos="9671040"/>
              </a:tabLst>
            </a:pPr>
            <a:r>
              <a:rPr b="0" lang="en-US" sz="21200" spc="-1" strike="noStrike">
                <a:solidFill>
                  <a:srgbClr val="ffff99"/>
                </a:solidFill>
                <a:latin typeface="Arial Black"/>
              </a:rPr>
              <a:t>Click to edit the title text format</a:t>
            </a:r>
            <a:endParaRPr b="0" lang="en-US" sz="212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820960" y="11280600"/>
            <a:ext cx="27920880" cy="33280560"/>
          </a:xfrm>
          <a:prstGeom prst="rect">
            <a:avLst/>
          </a:prstGeom>
          <a:noFill/>
          <a:ln w="0">
            <a:noFill/>
          </a:ln>
        </p:spPr>
        <p:txBody>
          <a:bodyPr lIns="483480" rIns="483480" tIns="241560" bIns="241560" anchor="t">
            <a:normAutofit fontScale="96000"/>
          </a:bodyPr>
          <a:p>
            <a:pPr marL="1740240" indent="-1740240">
              <a:spcBef>
                <a:spcPts val="4224"/>
              </a:spcBef>
              <a:buClr>
                <a:srgbClr val="ffffff"/>
              </a:buClr>
              <a:buFont typeface="Arial"/>
              <a:buChar char="•"/>
              <a:tabLst>
                <a:tab algn="l" pos="4835520"/>
                <a:tab algn="l" pos="9671040"/>
              </a:tabLst>
            </a:pPr>
            <a:r>
              <a:rPr b="0" lang="en-US" sz="169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6900" spc="-1" strike="noStrike">
              <a:solidFill>
                <a:srgbClr val="ffffff"/>
              </a:solidFill>
              <a:latin typeface="Arial"/>
            </a:endParaRPr>
          </a:p>
          <a:p>
            <a:pPr lvl="1" marL="3771720" indent="-1450800">
              <a:spcBef>
                <a:spcPts val="4224"/>
              </a:spcBef>
              <a:buClr>
                <a:srgbClr val="ffffff"/>
              </a:buClr>
              <a:buFont typeface="Arial"/>
              <a:buChar char="–"/>
              <a:tabLst>
                <a:tab algn="l" pos="4835520"/>
                <a:tab algn="l" pos="9671040"/>
              </a:tabLst>
            </a:pPr>
            <a:r>
              <a:rPr b="0" lang="en-US" sz="169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6900" spc="-1" strike="noStrike">
              <a:solidFill>
                <a:srgbClr val="ffffff"/>
              </a:solidFill>
              <a:latin typeface="Arial"/>
            </a:endParaRPr>
          </a:p>
          <a:p>
            <a:pPr lvl="2" marL="5801760" indent="-1159560">
              <a:spcBef>
                <a:spcPts val="4224"/>
              </a:spcBef>
              <a:buClr>
                <a:srgbClr val="ffffff"/>
              </a:buClr>
              <a:buFont typeface="Arial"/>
              <a:buChar char="•"/>
              <a:tabLst>
                <a:tab algn="l" pos="4835520"/>
                <a:tab algn="l" pos="9671040"/>
              </a:tabLst>
            </a:pPr>
            <a:r>
              <a:rPr b="0" lang="en-US" sz="169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6900" spc="-1" strike="noStrike">
              <a:solidFill>
                <a:srgbClr val="ffffff"/>
              </a:solidFill>
              <a:latin typeface="Arial"/>
            </a:endParaRPr>
          </a:p>
          <a:p>
            <a:pPr lvl="3" marL="8122680" indent="-1161000">
              <a:spcBef>
                <a:spcPts val="4224"/>
              </a:spcBef>
              <a:buClr>
                <a:srgbClr val="ffffff"/>
              </a:buClr>
              <a:buFont typeface="Arial"/>
              <a:buChar char="–"/>
              <a:tabLst>
                <a:tab algn="l" pos="4835520"/>
                <a:tab algn="l" pos="9671040"/>
              </a:tabLst>
            </a:pPr>
            <a:r>
              <a:rPr b="0" lang="en-US" sz="169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6900" spc="-1" strike="noStrike">
              <a:solidFill>
                <a:srgbClr val="ffffff"/>
              </a:solidFill>
              <a:latin typeface="Arial"/>
            </a:endParaRPr>
          </a:p>
          <a:p>
            <a:pPr lvl="4" marL="10443960" indent="-1161000">
              <a:spcBef>
                <a:spcPts val="4224"/>
              </a:spcBef>
              <a:buClr>
                <a:srgbClr val="ffffff"/>
              </a:buClr>
              <a:buFont typeface="Arial"/>
              <a:buChar char="»"/>
              <a:tabLst>
                <a:tab algn="l" pos="4835520"/>
                <a:tab algn="l" pos="9671040"/>
              </a:tabLst>
            </a:pPr>
            <a:r>
              <a:rPr b="0" lang="en-US" sz="169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6900" spc="-1" strike="noStrike">
              <a:solidFill>
                <a:srgbClr val="ffffff"/>
              </a:solidFill>
              <a:latin typeface="Arial"/>
            </a:endParaRPr>
          </a:p>
          <a:p>
            <a:pPr lvl="5" marL="10443960" indent="-1161000">
              <a:spcBef>
                <a:spcPts val="4224"/>
              </a:spcBef>
              <a:buClr>
                <a:srgbClr val="ffffff"/>
              </a:buClr>
              <a:buFont typeface="Arial"/>
              <a:buChar char="»"/>
              <a:tabLst>
                <a:tab algn="l" pos="4835520"/>
                <a:tab algn="l" pos="9671040"/>
              </a:tabLst>
            </a:pPr>
            <a:r>
              <a:rPr b="0" lang="en-US" sz="169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6900" spc="-1" strike="noStrike">
              <a:solidFill>
                <a:srgbClr val="ffffff"/>
              </a:solidFill>
              <a:latin typeface="Arial"/>
            </a:endParaRPr>
          </a:p>
          <a:p>
            <a:pPr lvl="6" marL="10443960" indent="-1161000">
              <a:spcBef>
                <a:spcPts val="4224"/>
              </a:spcBef>
              <a:buClr>
                <a:srgbClr val="ffffff"/>
              </a:buClr>
              <a:buFont typeface="Arial"/>
              <a:buChar char="»"/>
              <a:tabLst>
                <a:tab algn="l" pos="4835520"/>
                <a:tab algn="l" pos="9671040"/>
              </a:tabLst>
            </a:pPr>
            <a:r>
              <a:rPr b="0" lang="en-US" sz="169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6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588240" y="45126000"/>
            <a:ext cx="4795560" cy="3384360"/>
          </a:xfrm>
          <a:prstGeom prst="rect">
            <a:avLst/>
          </a:prstGeom>
          <a:noFill/>
          <a:ln w="0">
            <a:noFill/>
          </a:ln>
        </p:spPr>
        <p:txBody>
          <a:bodyPr lIns="483480" rIns="483480" tIns="241560" bIns="241560" anchor="t">
            <a:noAutofit/>
          </a:bodyPr>
          <a:lstStyle>
            <a:lvl1pPr marL="216000" indent="0">
              <a:buNone/>
              <a:tabLst>
                <a:tab algn="l" pos="0"/>
                <a:tab algn="l" pos="4835520"/>
                <a:tab algn="l" pos="9671040"/>
              </a:tabLst>
              <a:defRPr b="0" lang="en-US" sz="5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835520"/>
                <a:tab algn="l" pos="9671040"/>
              </a:tabLst>
            </a:pPr>
            <a:r>
              <a:rPr b="0" lang="en-US" sz="5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5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665320" y="45126000"/>
            <a:ext cx="10717200" cy="3384360"/>
          </a:xfrm>
          <a:prstGeom prst="rect">
            <a:avLst/>
          </a:prstGeom>
          <a:noFill/>
          <a:ln w="0">
            <a:noFill/>
          </a:ln>
        </p:spPr>
        <p:txBody>
          <a:bodyPr lIns="483480" rIns="483480" tIns="241560" bIns="241560" anchor="t">
            <a:noAutofit/>
          </a:bodyPr>
          <a:lstStyle>
            <a:lvl1pPr marL="216000" indent="0" algn="ctr">
              <a:buNone/>
              <a:tabLst>
                <a:tab algn="l" pos="0"/>
                <a:tab algn="l" pos="4835520"/>
                <a:tab algn="l" pos="9671040"/>
              </a:tabLst>
              <a:defRPr b="0" lang="en-US" sz="5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835520"/>
                <a:tab algn="l" pos="9671040"/>
              </a:tabLst>
            </a:pPr>
            <a:r>
              <a:rPr b="0" lang="en-US" sz="5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5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5664760" y="45126000"/>
            <a:ext cx="4794120" cy="3384360"/>
          </a:xfrm>
          <a:prstGeom prst="rect">
            <a:avLst/>
          </a:prstGeom>
          <a:noFill/>
          <a:ln w="0">
            <a:noFill/>
          </a:ln>
        </p:spPr>
        <p:txBody>
          <a:bodyPr lIns="483480" rIns="483480" tIns="241560" bIns="241560" anchor="t">
            <a:noAutofit/>
          </a:bodyPr>
          <a:lstStyle>
            <a:lvl1pPr marL="216000" indent="0" algn="r">
              <a:buNone/>
              <a:tabLst>
                <a:tab algn="l" pos="0"/>
                <a:tab algn="l" pos="4835520"/>
                <a:tab algn="l" pos="9671040"/>
              </a:tabLst>
              <a:defRPr b="0" lang="en-US" sz="5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835520"/>
                <a:tab algn="l" pos="9671040"/>
              </a:tabLst>
            </a:pPr>
            <a:fld id="{137AA455-4F7D-49AB-B560-ACCE7058606F}" type="slidenum">
              <a:rPr b="0" lang="en-US" sz="5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5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55760" y="16922880"/>
            <a:ext cx="27640080" cy="10152000"/>
          </a:xfrm>
          <a:prstGeom prst="rect">
            <a:avLst/>
          </a:prstGeom>
          <a:noFill/>
          <a:ln w="0">
            <a:noFill/>
          </a:ln>
        </p:spPr>
        <p:txBody>
          <a:bodyPr lIns="483480" rIns="483480" tIns="241560" bIns="24156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4835520"/>
                <a:tab algn="l" pos="9671040"/>
              </a:tabLst>
            </a:pPr>
            <a:r>
              <a:rPr b="0" lang="en-US" sz="29600" spc="-1" strike="noStrike">
                <a:solidFill>
                  <a:srgbClr val="ffff99"/>
                </a:solidFill>
                <a:latin typeface="Arial Black"/>
              </a:rPr>
              <a:t>Click to edit the title text format</a:t>
            </a:r>
            <a:endParaRPr b="0" lang="en-US" sz="296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846000" y="45689760"/>
            <a:ext cx="7050240" cy="3384720"/>
          </a:xfrm>
          <a:prstGeom prst="rect">
            <a:avLst/>
          </a:prstGeom>
          <a:noFill/>
          <a:ln w="0">
            <a:noFill/>
          </a:ln>
        </p:spPr>
        <p:txBody>
          <a:bodyPr lIns="483480" rIns="483480" tIns="241560" bIns="241560" anchor="t">
            <a:noAutofit/>
          </a:bodyPr>
          <a:lstStyle>
            <a:lvl1pPr marL="216000" indent="0">
              <a:buNone/>
              <a:tabLst>
                <a:tab algn="l" pos="0"/>
                <a:tab algn="l" pos="4835520"/>
                <a:tab algn="l" pos="9671040"/>
              </a:tabLst>
              <a:defRPr b="0" lang="en-US" sz="5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835520"/>
                <a:tab algn="l" pos="9671040"/>
              </a:tabLst>
            </a:pPr>
            <a:r>
              <a:rPr b="0" lang="en-US" sz="5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8742240" y="45689760"/>
            <a:ext cx="16076880" cy="3384720"/>
          </a:xfrm>
          <a:prstGeom prst="rect">
            <a:avLst/>
          </a:prstGeom>
          <a:noFill/>
          <a:ln w="0">
            <a:noFill/>
          </a:ln>
        </p:spPr>
        <p:txBody>
          <a:bodyPr lIns="483480" rIns="483480" tIns="241560" bIns="241560" anchor="t">
            <a:noAutofit/>
          </a:bodyPr>
          <a:lstStyle>
            <a:lvl1pPr marL="216000" indent="0" algn="ctr">
              <a:buNone/>
              <a:tabLst>
                <a:tab algn="l" pos="0"/>
                <a:tab algn="l" pos="4835520"/>
                <a:tab algn="l" pos="9671040"/>
              </a:tabLst>
              <a:defRPr b="0" lang="en-US" sz="5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835520"/>
                <a:tab algn="l" pos="9671040"/>
              </a:tabLst>
            </a:pPr>
            <a:r>
              <a:rPr b="0" lang="en-US" sz="5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25947360" y="45689760"/>
            <a:ext cx="7049880" cy="3384720"/>
          </a:xfrm>
          <a:prstGeom prst="rect">
            <a:avLst/>
          </a:prstGeom>
          <a:noFill/>
          <a:ln w="0">
            <a:noFill/>
          </a:ln>
        </p:spPr>
        <p:txBody>
          <a:bodyPr lIns="483480" rIns="483480" tIns="241560" bIns="241560" anchor="t">
            <a:noAutofit/>
          </a:bodyPr>
          <a:lstStyle>
            <a:lvl1pPr marL="216000" indent="0" algn="r">
              <a:buNone/>
              <a:tabLst>
                <a:tab algn="l" pos="0"/>
                <a:tab algn="l" pos="4835520"/>
                <a:tab algn="l" pos="9671040"/>
              </a:tabLst>
              <a:defRPr b="0" lang="en-US" sz="5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835520"/>
                <a:tab algn="l" pos="9671040"/>
              </a:tabLst>
            </a:pPr>
            <a:fld id="{A6DDF7BF-21EF-4A67-A3ED-1869BA4D082A}" type="slidenum">
              <a:rPr b="0" lang="en-US" sz="5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1692000" y="11879280"/>
            <a:ext cx="30458880" cy="294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224"/>
              </a:spcBef>
              <a:tabLst>
                <a:tab algn="l" pos="0"/>
                <a:tab algn="l" pos="4835520"/>
                <a:tab algn="l" pos="9671040"/>
              </a:tabLst>
            </a:pPr>
            <a:r>
              <a:rPr b="0" lang="en-US" sz="169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6900" spc="-1" strike="noStrike">
              <a:solidFill>
                <a:srgbClr val="ffffff"/>
              </a:solidFill>
              <a:latin typeface="Arial"/>
            </a:endParaRPr>
          </a:p>
          <a:p>
            <a:pPr lvl="1" marL="2417760" indent="0" algn="ctr">
              <a:spcBef>
                <a:spcPts val="3699"/>
              </a:spcBef>
              <a:tabLst>
                <a:tab algn="l" pos="0"/>
                <a:tab algn="l" pos="4835520"/>
                <a:tab algn="l" pos="9671040"/>
              </a:tabLst>
            </a:pPr>
            <a:r>
              <a:rPr b="0" lang="en-US" sz="1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4800" spc="-1" strike="noStrike">
              <a:solidFill>
                <a:srgbClr val="ffffff"/>
              </a:solidFill>
              <a:latin typeface="Arial"/>
            </a:endParaRPr>
          </a:p>
          <a:p>
            <a:pPr lvl="2" marL="4835520" algn="ctr">
              <a:spcBef>
                <a:spcPts val="3175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671040"/>
              </a:tabLst>
            </a:pPr>
            <a:r>
              <a:rPr b="0" lang="en-US" sz="127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2700" spc="-1" strike="noStrike">
              <a:solidFill>
                <a:srgbClr val="ffffff"/>
              </a:solidFill>
              <a:latin typeface="Arial"/>
            </a:endParaRPr>
          </a:p>
          <a:p>
            <a:pPr lvl="3" marL="7251840" algn="ctr">
              <a:spcBef>
                <a:spcPts val="265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671040"/>
              </a:tabLst>
            </a:pPr>
            <a:r>
              <a:rPr b="0" lang="en-US" sz="10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0600" spc="-1" strike="noStrike">
              <a:solidFill>
                <a:srgbClr val="ffffff"/>
              </a:solidFill>
              <a:latin typeface="Arial"/>
            </a:endParaRPr>
          </a:p>
          <a:p>
            <a:pPr lvl="4" marL="9669600" algn="ctr">
              <a:spcBef>
                <a:spcPts val="265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671040"/>
              </a:tabLst>
            </a:pPr>
            <a:r>
              <a:rPr b="0" lang="en-US" sz="10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0600" spc="-1" strike="noStrike">
              <a:solidFill>
                <a:srgbClr val="ffffff"/>
              </a:solidFill>
              <a:latin typeface="Arial"/>
            </a:endParaRPr>
          </a:p>
          <a:p>
            <a:pPr lvl="5" marL="9669600">
              <a:spcBef>
                <a:spcPts val="265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0600" spc="-1" strike="noStrike">
              <a:solidFill>
                <a:srgbClr val="ffffff"/>
              </a:solidFill>
              <a:latin typeface="Arial"/>
            </a:endParaRPr>
          </a:p>
          <a:p>
            <a:pPr lvl="6" marL="9669600">
              <a:spcBef>
                <a:spcPts val="265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0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9.wmf"/><Relationship Id="rId11" Type="http://schemas.openxmlformats.org/officeDocument/2006/relationships/image" Target="../media/image9.wmf"/><Relationship Id="rId12" Type="http://schemas.openxmlformats.org/officeDocument/2006/relationships/image" Target="../media/image10.wmf"/><Relationship Id="rId13" Type="http://schemas.openxmlformats.org/officeDocument/2006/relationships/image" Target="../media/image11.wmf"/><Relationship Id="rId14" Type="http://schemas.openxmlformats.org/officeDocument/2006/relationships/image" Target="../media/image11.wmf"/><Relationship Id="rId15" Type="http://schemas.openxmlformats.org/officeDocument/2006/relationships/image" Target="../media/image11.wmf"/><Relationship Id="rId16" Type="http://schemas.openxmlformats.org/officeDocument/2006/relationships/image" Target="../media/image11.wmf"/><Relationship Id="rId17" Type="http://schemas.openxmlformats.org/officeDocument/2006/relationships/image" Target="../media/image11.wmf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1.bin"/><Relationship Id="rId20" Type="http://schemas.openxmlformats.org/officeDocument/2006/relationships/image" Target="../media/image12.png"/><Relationship Id="rId2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1305000" y="14230440"/>
            <a:ext cx="10621800" cy="10083240"/>
            <a:chOff x="1305000" y="14230440"/>
            <a:chExt cx="10621800" cy="10083240"/>
          </a:xfrm>
        </p:grpSpPr>
        <p:pic>
          <p:nvPicPr>
            <p:cNvPr id="83" name="" descr=""/>
            <p:cNvPicPr/>
            <p:nvPr/>
          </p:nvPicPr>
          <p:blipFill>
            <a:blip r:embed="rId2"/>
            <a:srcRect l="16962" t="5599" r="10090" b="3228"/>
            <a:stretch/>
          </p:blipFill>
          <p:spPr>
            <a:xfrm>
              <a:off x="1305000" y="15240960"/>
              <a:ext cx="10621800" cy="9072720"/>
            </a:xfrm>
            <a:prstGeom prst="rect">
              <a:avLst/>
            </a:prstGeom>
            <a:ln w="76320">
              <a:solidFill>
                <a:srgbClr val="eeb42d"/>
              </a:solidFill>
              <a:miter/>
            </a:ln>
          </p:spPr>
        </p:pic>
        <p:sp>
          <p:nvSpPr>
            <p:cNvPr id="84" name=""/>
            <p:cNvSpPr/>
            <p:nvPr/>
          </p:nvSpPr>
          <p:spPr>
            <a:xfrm>
              <a:off x="3173760" y="14230440"/>
              <a:ext cx="6926400" cy="82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1434960"/>
                  <a:tab algn="l" pos="2870280"/>
                  <a:tab algn="l" pos="4305240"/>
                  <a:tab algn="l" pos="5740560"/>
                  <a:tab algn="l" pos="7175520"/>
                  <a:tab algn="l" pos="8610480"/>
                  <a:tab algn="l" pos="10045800"/>
                </a:tabLst>
              </a:pPr>
              <a:r>
                <a:rPr b="1" lang="es-ES" sz="4800" spc="-1" strike="noStrike">
                  <a:solidFill>
                    <a:srgbClr val="00ff00"/>
                  </a:solidFill>
                  <a:latin typeface="Century Gothic"/>
                </a:rPr>
                <a:t>VISTA FRONTAL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22902840" y="14489280"/>
            <a:ext cx="9718200" cy="9565560"/>
            <a:chOff x="22902840" y="14489280"/>
            <a:chExt cx="9718200" cy="9565560"/>
          </a:xfrm>
        </p:grpSpPr>
        <p:pic>
          <p:nvPicPr>
            <p:cNvPr id="86" name="" descr=""/>
            <p:cNvPicPr/>
            <p:nvPr/>
          </p:nvPicPr>
          <p:blipFill>
            <a:blip r:embed="rId3"/>
            <a:srcRect l="2381" t="2876" r="30369" b="11514"/>
            <a:stretch/>
          </p:blipFill>
          <p:spPr>
            <a:xfrm>
              <a:off x="22902840" y="15563880"/>
              <a:ext cx="9718200" cy="8490960"/>
            </a:xfrm>
            <a:prstGeom prst="rect">
              <a:avLst/>
            </a:prstGeom>
            <a:ln w="76320">
              <a:solidFill>
                <a:srgbClr val="eeb42d"/>
              </a:solidFill>
              <a:miter/>
            </a:ln>
          </p:spPr>
        </p:pic>
        <p:sp>
          <p:nvSpPr>
            <p:cNvPr id="87" name=""/>
            <p:cNvSpPr/>
            <p:nvPr/>
          </p:nvSpPr>
          <p:spPr>
            <a:xfrm>
              <a:off x="24246000" y="14489280"/>
              <a:ext cx="6929280" cy="82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1434960"/>
                  <a:tab algn="l" pos="2870280"/>
                  <a:tab algn="l" pos="4305240"/>
                  <a:tab algn="l" pos="5740560"/>
                  <a:tab algn="l" pos="7175520"/>
                  <a:tab algn="l" pos="8610480"/>
                  <a:tab algn="l" pos="10045800"/>
                </a:tabLst>
              </a:pPr>
              <a:r>
                <a:rPr b="1" lang="es-ES" sz="4800" spc="-1" strike="noStrike">
                  <a:solidFill>
                    <a:srgbClr val="00ff00"/>
                  </a:solidFill>
                  <a:latin typeface="Century Gothic"/>
                </a:rPr>
                <a:t>VISTA LATERAL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1833480" y="25700040"/>
            <a:ext cx="9758160" cy="8591040"/>
            <a:chOff x="1833480" y="25700040"/>
            <a:chExt cx="9758160" cy="8591040"/>
          </a:xfrm>
        </p:grpSpPr>
        <p:pic>
          <p:nvPicPr>
            <p:cNvPr id="89" name="" descr=""/>
            <p:cNvPicPr/>
            <p:nvPr/>
          </p:nvPicPr>
          <p:blipFill>
            <a:blip r:embed="rId4"/>
            <a:srcRect l="4631" t="5587" r="12455" b="1455"/>
            <a:stretch/>
          </p:blipFill>
          <p:spPr>
            <a:xfrm>
              <a:off x="1833480" y="26849520"/>
              <a:ext cx="9758160" cy="7441560"/>
            </a:xfrm>
            <a:prstGeom prst="rect">
              <a:avLst/>
            </a:prstGeom>
            <a:ln w="76320">
              <a:solidFill>
                <a:srgbClr val="eeb42d"/>
              </a:solidFill>
              <a:miter/>
            </a:ln>
          </p:spPr>
        </p:pic>
        <p:sp>
          <p:nvSpPr>
            <p:cNvPr id="90" name=""/>
            <p:cNvSpPr/>
            <p:nvPr/>
          </p:nvSpPr>
          <p:spPr>
            <a:xfrm>
              <a:off x="3192120" y="25700040"/>
              <a:ext cx="6905160" cy="82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1434960"/>
                  <a:tab algn="l" pos="2870280"/>
                  <a:tab algn="l" pos="4305240"/>
                  <a:tab algn="l" pos="5740560"/>
                  <a:tab algn="l" pos="7175520"/>
                  <a:tab algn="l" pos="8610480"/>
                  <a:tab algn="l" pos="10045800"/>
                </a:tabLst>
              </a:pPr>
              <a:r>
                <a:rPr b="1" lang="es-ES" sz="4800" spc="-1" strike="noStrike">
                  <a:solidFill>
                    <a:srgbClr val="00ff00"/>
                  </a:solidFill>
                  <a:latin typeface="Century Gothic"/>
                </a:rPr>
                <a:t>VISTA POSTERIOR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2568040" y="25418880"/>
            <a:ext cx="10464840" cy="8648640"/>
            <a:chOff x="22568040" y="25418880"/>
            <a:chExt cx="10464840" cy="8648640"/>
          </a:xfrm>
        </p:grpSpPr>
        <p:pic>
          <p:nvPicPr>
            <p:cNvPr id="92" name="" descr=""/>
            <p:cNvPicPr/>
            <p:nvPr/>
          </p:nvPicPr>
          <p:blipFill>
            <a:blip r:embed="rId5"/>
            <a:srcRect l="15542" t="6080" r="7406" b="6350"/>
            <a:stretch/>
          </p:blipFill>
          <p:spPr>
            <a:xfrm>
              <a:off x="22568040" y="26357760"/>
              <a:ext cx="10464840" cy="7709760"/>
            </a:xfrm>
            <a:prstGeom prst="rect">
              <a:avLst/>
            </a:prstGeom>
            <a:ln w="76320">
              <a:solidFill>
                <a:srgbClr val="eeb42d"/>
              </a:solidFill>
              <a:miter/>
            </a:ln>
          </p:spPr>
        </p:pic>
        <p:sp>
          <p:nvSpPr>
            <p:cNvPr id="93" name=""/>
            <p:cNvSpPr/>
            <p:nvPr/>
          </p:nvSpPr>
          <p:spPr>
            <a:xfrm>
              <a:off x="24690240" y="25418880"/>
              <a:ext cx="6206040" cy="82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1434960"/>
                  <a:tab algn="l" pos="2870280"/>
                  <a:tab algn="l" pos="4305240"/>
                  <a:tab algn="l" pos="5740560"/>
                  <a:tab algn="l" pos="7175520"/>
                  <a:tab algn="l" pos="8610480"/>
                  <a:tab algn="l" pos="10045800"/>
                </a:tabLst>
              </a:pPr>
              <a:r>
                <a:rPr b="1" lang="es-ES" sz="4800" spc="-1" strike="noStrike">
                  <a:solidFill>
                    <a:srgbClr val="00ff00"/>
                  </a:solidFill>
                  <a:latin typeface="Century Gothic"/>
                </a:rPr>
                <a:t>VISTA TRIMÉTRICA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4" name=""/>
          <p:cNvSpPr txBox="1"/>
          <p:nvPr/>
        </p:nvSpPr>
        <p:spPr>
          <a:xfrm>
            <a:off x="9236160" y="1268280"/>
            <a:ext cx="15359040" cy="191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125751" dir="18900000" blurRad="0" rotWithShape="0">
                    <a:srgbClr val="000000"/>
                  </a:outerShdw>
                </a:effectLst>
                <a:latin typeface="Century Gothic"/>
              </a:rPr>
              <a:t>El Pitbull Beauchefiano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effectLst>
                <a:outerShdw dist="125751" dir="18900000" blurRad="0" rotWithShape="0">
                  <a:srgbClr val="000000"/>
                </a:outerShdw>
              </a:effectLst>
              <a:latin typeface="Century Gothic"/>
              <a:ea typeface="Century Gothic"/>
            </a:endParaRPr>
          </a:p>
        </p:txBody>
      </p:sp>
      <p:pic>
        <p:nvPicPr>
          <p:cNvPr id="95" name="" descr=""/>
          <p:cNvPicPr/>
          <p:nvPr/>
        </p:nvPicPr>
        <p:blipFill>
          <a:blip r:embed="rId8"/>
          <a:stretch/>
        </p:blipFill>
        <p:spPr>
          <a:xfrm>
            <a:off x="25412760" y="1433520"/>
            <a:ext cx="2421000" cy="19162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9"/>
          <a:stretch/>
        </p:blipFill>
        <p:spPr>
          <a:xfrm>
            <a:off x="6005520" y="1292400"/>
            <a:ext cx="2425680" cy="1915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10"/>
          <a:stretch/>
        </p:blipFill>
        <p:spPr>
          <a:xfrm rot="9690600">
            <a:off x="8272440" y="4993560"/>
            <a:ext cx="1636560" cy="21733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10909440" y="5589720"/>
            <a:ext cx="10297800" cy="135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6666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Century Gothic"/>
              </a:rPr>
              <a:t>Qué e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Century Gothic"/>
              <a:ea typeface="Century Gothic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1"/>
          <a:stretch/>
        </p:blipFill>
        <p:spPr>
          <a:xfrm rot="1132800">
            <a:off x="22053240" y="5171400"/>
            <a:ext cx="1636560" cy="21733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879560" y="6838920"/>
            <a:ext cx="29926080" cy="562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1434960"/>
                <a:tab algn="l" pos="2870280"/>
                <a:tab algn="l" pos="4305240"/>
                <a:tab algn="l" pos="5740560"/>
                <a:tab algn="l" pos="7175520"/>
                <a:tab algn="l" pos="8610480"/>
                <a:tab algn="l" pos="100458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1434960"/>
                <a:tab algn="l" pos="2870280"/>
                <a:tab algn="l" pos="4305240"/>
                <a:tab algn="l" pos="5740560"/>
                <a:tab algn="l" pos="7175520"/>
                <a:tab algn="l" pos="8610480"/>
                <a:tab algn="l" pos="10045800"/>
              </a:tabLst>
            </a:pPr>
            <a:r>
              <a:rPr b="1" lang="es-ES" sz="4800" spc="-1" strike="noStrike">
                <a:solidFill>
                  <a:srgbClr val="f4da1a"/>
                </a:solidFill>
                <a:latin typeface="Century Gothic"/>
              </a:rPr>
              <a:t>Es un CICLETERO que  se hace cargo de la mala ubicación y falta de estacionamientos de bicicletas en parques y plazas. Le cambiará la vida a los ciclistas que los visitan.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1434960"/>
                <a:tab algn="l" pos="2870280"/>
                <a:tab algn="l" pos="4305240"/>
                <a:tab algn="l" pos="5740560"/>
                <a:tab algn="l" pos="7175520"/>
                <a:tab algn="l" pos="8610480"/>
                <a:tab algn="l" pos="100458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1434960"/>
                <a:tab algn="l" pos="2870280"/>
                <a:tab algn="l" pos="4305240"/>
                <a:tab algn="l" pos="5740560"/>
                <a:tab algn="l" pos="7175520"/>
                <a:tab algn="l" pos="8610480"/>
                <a:tab algn="l" pos="10045800"/>
              </a:tabLst>
            </a:pPr>
            <a:r>
              <a:rPr b="1" lang="es-CL" sz="4800" spc="-1" strike="noStrike">
                <a:solidFill>
                  <a:srgbClr val="f4da1a"/>
                </a:solidFill>
                <a:latin typeface="Century Gothic"/>
              </a:rPr>
              <a:t>Su efectivo e innovador sistema de seguridad, comodidad y utilidad, lo convierte en un producto único en el mercado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2"/>
          <a:stretch/>
        </p:blipFill>
        <p:spPr>
          <a:xfrm>
            <a:off x="13714560" y="45267480"/>
            <a:ext cx="5451480" cy="50166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9278720" y="35466480"/>
            <a:ext cx="5640120" cy="9646920"/>
          </a:xfrm>
          <a:prstGeom prst="wedgeRoundRectCallout">
            <a:avLst>
              <a:gd name="adj1" fmla="val -73564"/>
              <a:gd name="adj2" fmla="val 51268"/>
              <a:gd name="adj3" fmla="val 16667"/>
            </a:avLst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835520"/>
                <a:tab algn="l" pos="9671040"/>
              </a:tabLst>
            </a:pPr>
            <a:r>
              <a:rPr b="1" lang="es-CL" sz="4200" spc="-1" strike="noStrike">
                <a:solidFill>
                  <a:srgbClr val="eeb42d"/>
                </a:solidFill>
                <a:latin typeface="Century Gothic"/>
              </a:rPr>
              <a:t>¿USUARIOS?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835520"/>
                <a:tab algn="l" pos="96710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835520"/>
                <a:tab algn="l" pos="9671040"/>
              </a:tabLst>
            </a:pPr>
            <a:r>
              <a:rPr b="0" lang="es-CL" sz="4200" spc="-1" strike="noStrike">
                <a:solidFill>
                  <a:srgbClr val="ffffff"/>
                </a:solidFill>
                <a:latin typeface="Century Gothic"/>
              </a:rPr>
              <a:t>La barra horizontal que posee los ganchos cuenta con la facilidad de ajustarse dependiendo del tamaño de la bicicleta. Gracias a ello el producto está diseñado para todo tipo de usuario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835520"/>
                <a:tab algn="l" pos="96710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6176320" y="35125200"/>
            <a:ext cx="6286320" cy="14784120"/>
          </a:xfrm>
          <a:prstGeom prst="wedgeRoundRectCallout">
            <a:avLst>
              <a:gd name="adj1" fmla="val -159546"/>
              <a:gd name="adj2" fmla="val 49486"/>
              <a:gd name="adj3" fmla="val 16667"/>
            </a:avLst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835520"/>
                <a:tab algn="l" pos="9671040"/>
              </a:tabLst>
            </a:pPr>
            <a:r>
              <a:rPr b="1" lang="es-CL" sz="4200" spc="-1" strike="noStrike">
                <a:solidFill>
                  <a:srgbClr val="eeb42d"/>
                </a:solidFill>
                <a:latin typeface="Century Gothic"/>
              </a:rPr>
              <a:t>¿CÓMO FUNCIONA?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835520"/>
                <a:tab algn="l" pos="96710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835520"/>
                <a:tab algn="l" pos="9671040"/>
              </a:tabLst>
            </a:pPr>
            <a:r>
              <a:rPr b="0" lang="es-CL" sz="4200" spc="-1" strike="noStrike">
                <a:solidFill>
                  <a:srgbClr val="ffffff"/>
                </a:solidFill>
                <a:latin typeface="Century Gothic"/>
              </a:rPr>
              <a:t>Posee 4 ganchos para asegurar el marco, las dos ruedas y el sillín de la bicicleta, los cuales son cerrados automáticamente con un sistema que recibe una moneda, asegura los ganchos  y libera una llave para posteriormente abrir el sistema y retirar la bicicleta. Su forma modular permite el acoplamiento de varios cicleteros según la demanda del lugar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835520"/>
                <a:tab algn="l" pos="96710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835520"/>
                <a:tab algn="l" pos="96710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3966920" y="31822920"/>
            <a:ext cx="6321240" cy="1798920"/>
          </a:xfrm>
          <a:prstGeom prst="flowChartAlternateProcess">
            <a:avLst/>
          </a:prstGeom>
          <a:solidFill>
            <a:srgbClr val="006462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835520"/>
                <a:tab algn="l" pos="96710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835520"/>
                <a:tab algn="l" pos="96710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835520"/>
                <a:tab algn="l" pos="9671040"/>
              </a:tabLst>
            </a:pPr>
            <a:r>
              <a:rPr b="1" lang="es-ES" sz="4200" spc="-1" strike="noStrike">
                <a:solidFill>
                  <a:srgbClr val="eeb42d"/>
                </a:solidFill>
                <a:latin typeface="Century Gothic"/>
              </a:rPr>
              <a:t>COMODIDAD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835520"/>
                <a:tab algn="l" pos="9671040"/>
              </a:tabLst>
            </a:pPr>
            <a:r>
              <a:rPr b="0" lang="es-ES" sz="4200" spc="-1" strike="noStrike">
                <a:solidFill>
                  <a:srgbClr val="ffffff"/>
                </a:solidFill>
                <a:latin typeface="Century Gothic"/>
              </a:rPr>
              <a:t>Bombín incorporado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835520"/>
                <a:tab algn="l" pos="96710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3355640" y="26206560"/>
            <a:ext cx="7715160" cy="3983040"/>
          </a:xfrm>
          <a:prstGeom prst="flowChartAlternateProcess">
            <a:avLst/>
          </a:prstGeom>
          <a:solidFill>
            <a:srgbClr val="006462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835520"/>
                <a:tab algn="l" pos="96710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835520"/>
                <a:tab algn="l" pos="9671040"/>
              </a:tabLst>
            </a:pPr>
            <a:r>
              <a:rPr b="1" lang="es-ES" sz="4200" spc="-1" strike="noStrike">
                <a:solidFill>
                  <a:srgbClr val="eeb42d"/>
                </a:solidFill>
                <a:latin typeface="Century Gothic"/>
              </a:rPr>
              <a:t>INNOVACIÓN Y SEGURIDAD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835520"/>
                <a:tab algn="l" pos="9671040"/>
              </a:tabLst>
            </a:pPr>
            <a:r>
              <a:rPr b="0" lang="es-ES" sz="4200" spc="-1" strike="noStrike">
                <a:solidFill>
                  <a:srgbClr val="ffffff"/>
                </a:solidFill>
                <a:latin typeface="Century Gothic"/>
              </a:rPr>
              <a:t>Sistema de amarre seguro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835520"/>
                <a:tab algn="l" pos="9671040"/>
              </a:tabLst>
            </a:pPr>
            <a:r>
              <a:rPr b="0" lang="es-ES" sz="4200" spc="-1" strike="noStrike">
                <a:solidFill>
                  <a:srgbClr val="ffffff"/>
                </a:solidFill>
                <a:latin typeface="Century Gothic"/>
              </a:rPr>
              <a:t>a la bicicleta que evita que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835520"/>
                <a:tab algn="l" pos="9671040"/>
              </a:tabLst>
            </a:pPr>
            <a:r>
              <a:rPr b="0" lang="es-ES" sz="4200" spc="-1" strike="noStrike">
                <a:solidFill>
                  <a:srgbClr val="ffffff"/>
                </a:solidFill>
                <a:latin typeface="Century Gothic"/>
              </a:rPr>
              <a:t>el usuario ocupe cadena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835520"/>
                <a:tab algn="l" pos="9671040"/>
              </a:tabLst>
            </a:pPr>
            <a:r>
              <a:rPr b="0" lang="es-ES" sz="4200" spc="-1" strike="noStrike">
                <a:solidFill>
                  <a:srgbClr val="ffffff"/>
                </a:solidFill>
                <a:latin typeface="Century Gothic"/>
              </a:rPr>
              <a:t>para asegurarla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835520"/>
                <a:tab algn="l" pos="96710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325400" y="20764440"/>
            <a:ext cx="8167680" cy="3784680"/>
          </a:xfrm>
          <a:prstGeom prst="flowChartAlternateProcess">
            <a:avLst/>
          </a:prstGeom>
          <a:solidFill>
            <a:srgbClr val="006462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835520"/>
                <a:tab algn="l" pos="9671040"/>
              </a:tabLst>
            </a:pPr>
            <a:r>
              <a:rPr b="1" lang="es-ES" sz="4200" spc="-1" strike="noStrike">
                <a:solidFill>
                  <a:srgbClr val="eeb42d"/>
                </a:solidFill>
                <a:latin typeface="Century Gothic"/>
              </a:rPr>
              <a:t>ESTÉTIC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835520"/>
                <a:tab algn="l" pos="9671040"/>
              </a:tabLst>
            </a:pPr>
            <a:r>
              <a:rPr b="0" lang="es-ES" sz="4200" spc="-1" strike="noStrike">
                <a:solidFill>
                  <a:srgbClr val="ffffff"/>
                </a:solidFill>
                <a:latin typeface="Century Gothic"/>
              </a:rPr>
              <a:t>Estructura de colores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835520"/>
                <a:tab algn="l" pos="9671040"/>
              </a:tabLst>
            </a:pPr>
            <a:r>
              <a:rPr b="0" lang="es-ES" sz="4200" spc="-1" strike="noStrike">
                <a:solidFill>
                  <a:srgbClr val="ffffff"/>
                </a:solidFill>
                <a:latin typeface="Century Gothic"/>
              </a:rPr>
              <a:t>llamativos que vayan acorde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835520"/>
                <a:tab algn="l" pos="9671040"/>
              </a:tabLst>
            </a:pPr>
            <a:r>
              <a:rPr b="0" lang="es-ES" sz="4200" spc="-1" strike="noStrike">
                <a:solidFill>
                  <a:srgbClr val="ffffff"/>
                </a:solidFill>
                <a:latin typeface="Century Gothic"/>
              </a:rPr>
              <a:t>con el entorno donde se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835520"/>
                <a:tab algn="l" pos="9671040"/>
              </a:tabLst>
            </a:pPr>
            <a:r>
              <a:rPr b="0" lang="es-ES" sz="4200" spc="-1" strike="noStrike">
                <a:solidFill>
                  <a:srgbClr val="ffffff"/>
                </a:solidFill>
                <a:latin typeface="Century Gothic"/>
              </a:rPr>
              <a:t>ubique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3314240" y="15054120"/>
            <a:ext cx="8167680" cy="4089600"/>
          </a:xfrm>
          <a:prstGeom prst="flowChartAlternateProcess">
            <a:avLst/>
          </a:prstGeom>
          <a:solidFill>
            <a:srgbClr val="006462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835520"/>
                <a:tab algn="l" pos="96710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835520"/>
                <a:tab algn="l" pos="9671040"/>
              </a:tabLst>
            </a:pPr>
            <a:r>
              <a:rPr b="1" lang="es-ES" sz="4200" spc="-1" strike="noStrike">
                <a:solidFill>
                  <a:srgbClr val="eeb42d"/>
                </a:solidFill>
                <a:latin typeface="Century Gothic"/>
              </a:rPr>
              <a:t>MATERIAL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835520"/>
                <a:tab algn="l" pos="9671040"/>
              </a:tabLst>
            </a:pPr>
            <a:r>
              <a:rPr b="0" lang="es-ES" sz="4200" spc="-1" strike="noStrike">
                <a:solidFill>
                  <a:srgbClr val="ffffff"/>
                </a:solidFill>
                <a:latin typeface="Century Gothic"/>
              </a:rPr>
              <a:t>Estructura realizada a base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835520"/>
                <a:tab algn="l" pos="9671040"/>
              </a:tabLst>
            </a:pPr>
            <a:r>
              <a:rPr b="0" lang="es-ES" sz="4200" spc="-1" strike="noStrike">
                <a:solidFill>
                  <a:srgbClr val="ffffff"/>
                </a:solidFill>
                <a:latin typeface="Century Gothic"/>
              </a:rPr>
              <a:t>de tubos de aluminio de 5, 3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835520"/>
                <a:tab algn="l" pos="9671040"/>
              </a:tabLst>
            </a:pPr>
            <a:r>
              <a:rPr b="0" lang="es-ES" sz="4200" spc="-1" strike="noStrike">
                <a:solidFill>
                  <a:srgbClr val="ffffff"/>
                </a:solidFill>
                <a:latin typeface="Century Gothic"/>
              </a:rPr>
              <a:t>y 1.5 centímetros de diámetro,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835520"/>
                <a:tab algn="l" pos="9671040"/>
              </a:tabLst>
            </a:pPr>
            <a:r>
              <a:rPr b="0" lang="es-ES" sz="42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s-ES" sz="4200" spc="-1" strike="noStrike">
                <a:solidFill>
                  <a:srgbClr val="ffffff"/>
                </a:solidFill>
                <a:latin typeface="Century Gothic"/>
              </a:rPr>
              <a:t>según su posición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4835520"/>
                <a:tab algn="l" pos="96710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0" y="2151000"/>
            <a:ext cx="5909400" cy="622080"/>
            <a:chOff x="0" y="2151000"/>
            <a:chExt cx="5909400" cy="622080"/>
          </a:xfrm>
        </p:grpSpPr>
        <p:pic>
          <p:nvPicPr>
            <p:cNvPr id="109" name="" descr=""/>
            <p:cNvPicPr/>
            <p:nvPr/>
          </p:nvPicPr>
          <p:blipFill>
            <a:blip r:embed="rId13"/>
            <a:stretch/>
          </p:blipFill>
          <p:spPr>
            <a:xfrm>
              <a:off x="3838320" y="2151000"/>
              <a:ext cx="2071080" cy="59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" descr=""/>
            <p:cNvPicPr/>
            <p:nvPr/>
          </p:nvPicPr>
          <p:blipFill>
            <a:blip r:embed="rId14"/>
            <a:stretch/>
          </p:blipFill>
          <p:spPr>
            <a:xfrm>
              <a:off x="1955520" y="2179440"/>
              <a:ext cx="2071080" cy="59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" descr=""/>
            <p:cNvPicPr/>
            <p:nvPr/>
          </p:nvPicPr>
          <p:blipFill>
            <a:blip r:embed="rId15"/>
            <a:stretch/>
          </p:blipFill>
          <p:spPr>
            <a:xfrm>
              <a:off x="0" y="2179440"/>
              <a:ext cx="2071080" cy="593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2" name=""/>
          <p:cNvGrpSpPr/>
          <p:nvPr/>
        </p:nvGrpSpPr>
        <p:grpSpPr>
          <a:xfrm>
            <a:off x="27933480" y="2021040"/>
            <a:ext cx="5910120" cy="623520"/>
            <a:chOff x="27933480" y="2021040"/>
            <a:chExt cx="5910120" cy="623520"/>
          </a:xfrm>
        </p:grpSpPr>
        <p:pic>
          <p:nvPicPr>
            <p:cNvPr id="113" name="" descr=""/>
            <p:cNvPicPr/>
            <p:nvPr/>
          </p:nvPicPr>
          <p:blipFill>
            <a:blip r:embed="rId16"/>
            <a:stretch/>
          </p:blipFill>
          <p:spPr>
            <a:xfrm>
              <a:off x="31772160" y="2021040"/>
              <a:ext cx="2071440" cy="59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" descr=""/>
            <p:cNvPicPr/>
            <p:nvPr/>
          </p:nvPicPr>
          <p:blipFill>
            <a:blip r:embed="rId17"/>
            <a:stretch/>
          </p:blipFill>
          <p:spPr>
            <a:xfrm>
              <a:off x="29889000" y="2049480"/>
              <a:ext cx="2071440" cy="59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" descr=""/>
            <p:cNvPicPr/>
            <p:nvPr/>
          </p:nvPicPr>
          <p:blipFill>
            <a:blip r:embed="rId18"/>
            <a:stretch/>
          </p:blipFill>
          <p:spPr>
            <a:xfrm>
              <a:off x="27933480" y="2049480"/>
              <a:ext cx="2071440" cy="595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" name=""/>
          <p:cNvSpPr/>
          <p:nvPr/>
        </p:nvSpPr>
        <p:spPr>
          <a:xfrm>
            <a:off x="16610040" y="38933280"/>
            <a:ext cx="2403360" cy="1609920"/>
          </a:xfrm>
          <a:prstGeom prst="leftArrow">
            <a:avLst>
              <a:gd name="adj1" fmla="val 50000"/>
              <a:gd name="adj2" fmla="val 37321"/>
            </a:avLst>
          </a:prstGeom>
          <a:solidFill>
            <a:srgbClr val="ff6702"/>
          </a:solidFill>
          <a:ln w="9360">
            <a:solidFill>
              <a:srgbClr val="ff67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 rot="16200000">
            <a:off x="4677120" y="35112240"/>
            <a:ext cx="2397240" cy="1598760"/>
          </a:xfrm>
          <a:prstGeom prst="leftArrow">
            <a:avLst>
              <a:gd name="adj1" fmla="val 50000"/>
              <a:gd name="adj2" fmla="val 37486"/>
            </a:avLst>
          </a:prstGeom>
          <a:solidFill>
            <a:srgbClr val="ff6702"/>
          </a:solidFill>
          <a:ln w="9360">
            <a:solidFill>
              <a:srgbClr val="ff67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28680" y="38250720"/>
            <a:ext cx="15046200" cy="3632400"/>
          </a:xfrm>
          <a:prstGeom prst="flowChartAlternateProcess">
            <a:avLst/>
          </a:prstGeom>
          <a:solidFill>
            <a:srgbClr val="006462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835520"/>
                <a:tab algn="l" pos="9671040"/>
              </a:tabLst>
            </a:pPr>
            <a:r>
              <a:rPr b="1" lang="es-ES" sz="4800" spc="-1" strike="noStrike">
                <a:solidFill>
                  <a:srgbClr val="ff6702"/>
                </a:solidFill>
                <a:latin typeface="Century Gothic"/>
              </a:rPr>
              <a:t>SEGURIDAD + COMODIDAD + FUNCIONALIDAD</a:t>
            </a:r>
            <a:r>
              <a:rPr b="0" lang="es-ES" sz="4800" spc="-1" strike="noStrike">
                <a:solidFill>
                  <a:srgbClr val="ff6702"/>
                </a:solidFill>
                <a:latin typeface="Century Gothic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835520"/>
                <a:tab algn="l" pos="9671040"/>
              </a:tabLst>
            </a:pPr>
            <a:r>
              <a:rPr b="0" lang="es-ES" sz="4800" spc="-1" strike="noStrike">
                <a:solidFill>
                  <a:srgbClr val="ff6702"/>
                </a:solidFill>
                <a:latin typeface="Century Gothic"/>
              </a:rPr>
              <a:t>=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835520"/>
                <a:tab algn="l" pos="9671040"/>
              </a:tabLst>
            </a:pPr>
            <a:r>
              <a:rPr b="1" i="1" lang="es-ES" sz="6000" spc="-1" strike="noStrike">
                <a:solidFill>
                  <a:srgbClr val="ff6702"/>
                </a:solidFill>
                <a:latin typeface="Century Gothic"/>
              </a:rPr>
              <a:t>“</a:t>
            </a:r>
            <a:r>
              <a:rPr b="1" i="1" lang="es-ES" sz="6000" spc="-1" strike="noStrike">
                <a:solidFill>
                  <a:srgbClr val="ff6702"/>
                </a:solidFill>
                <a:latin typeface="Century Gothic"/>
              </a:rPr>
              <a:t>INNOVACIÓN”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835520"/>
                <a:tab algn="l" pos="967104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905040" y="44731080"/>
            <a:ext cx="9639000" cy="61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835520"/>
                <a:tab algn="l" pos="967104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entury Gothic"/>
              </a:rPr>
              <a:t>Grupo 3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835520"/>
                <a:tab algn="l" pos="967104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1" lang="es-ES" sz="3000" spc="-1" strike="noStrike">
                <a:solidFill>
                  <a:srgbClr val="ffffff"/>
                </a:solidFill>
                <a:latin typeface="Century Gothic"/>
              </a:rPr>
              <a:t>Diseñando Productos que Mejoran el Entorno”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835520"/>
                <a:tab algn="l" pos="967104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entury Gothic"/>
              </a:rPr>
              <a:t>Sección 14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835520"/>
                <a:tab algn="l" pos="967104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entury Gothic"/>
              </a:rPr>
              <a:t>Ismael Eguía Jacob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835520"/>
                <a:tab algn="l" pos="967104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entury Gothic"/>
              </a:rPr>
              <a:t>Karina López Prad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835520"/>
                <a:tab algn="l" pos="967104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entury Gothic"/>
              </a:rPr>
              <a:t>Guillermo Peña Poo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835520"/>
                <a:tab algn="l" pos="967104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entury Gothic"/>
              </a:rPr>
              <a:t>Valentina Rodríguez Herrer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835520"/>
                <a:tab algn="l" pos="967104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entury Gothic"/>
              </a:rPr>
              <a:t>Sebastián Zúñiga Avell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835520"/>
                <a:tab algn="l" pos="96710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3012280" y="28651320"/>
            <a:ext cx="1409760" cy="3200400"/>
          </a:xfrm>
          <a:prstGeom prst="ellipse">
            <a:avLst/>
          </a:prstGeom>
          <a:noFill/>
          <a:ln w="9360">
            <a:solidFill>
              <a:srgbClr val="ff33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20535480" y="30213360"/>
            <a:ext cx="2476440" cy="2171520"/>
          </a:xfrm>
          <a:prstGeom prst="line">
            <a:avLst/>
          </a:prstGeom>
          <a:ln w="9360">
            <a:solidFill>
              <a:srgbClr val="ff330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3660280" y="26974800"/>
            <a:ext cx="1562040" cy="1486080"/>
          </a:xfrm>
          <a:prstGeom prst="ellipse">
            <a:avLst/>
          </a:prstGeom>
          <a:noFill/>
          <a:ln w="9360">
            <a:solidFill>
              <a:srgbClr val="ff33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5437960" y="27990720"/>
            <a:ext cx="1562400" cy="1486080"/>
          </a:xfrm>
          <a:prstGeom prst="ellipse">
            <a:avLst/>
          </a:prstGeom>
          <a:noFill/>
          <a:ln w="9360">
            <a:solidFill>
              <a:srgbClr val="ff33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7190800" y="28866960"/>
            <a:ext cx="1562040" cy="1486080"/>
          </a:xfrm>
          <a:prstGeom prst="ellipse">
            <a:avLst/>
          </a:prstGeom>
          <a:noFill/>
          <a:ln w="9360">
            <a:solidFill>
              <a:srgbClr val="ff33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4879240" y="28333800"/>
            <a:ext cx="1460520" cy="3136680"/>
          </a:xfrm>
          <a:prstGeom prst="line">
            <a:avLst/>
          </a:prstGeom>
          <a:ln w="9360">
            <a:solidFill>
              <a:srgbClr val="ff33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6289000" y="29476800"/>
            <a:ext cx="50760" cy="1993680"/>
          </a:xfrm>
          <a:prstGeom prst="line">
            <a:avLst/>
          </a:prstGeom>
          <a:ln w="9360">
            <a:solidFill>
              <a:srgbClr val="ff33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26339400" y="30302280"/>
            <a:ext cx="1384200" cy="1181160"/>
          </a:xfrm>
          <a:prstGeom prst="line">
            <a:avLst/>
          </a:prstGeom>
          <a:ln w="9360">
            <a:solidFill>
              <a:srgbClr val="ff33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6339760" y="31483440"/>
            <a:ext cx="1739880" cy="3581280"/>
          </a:xfrm>
          <a:prstGeom prst="line">
            <a:avLst/>
          </a:prstGeom>
          <a:ln w="9360">
            <a:solidFill>
              <a:srgbClr val="ff330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495360" y="46507320"/>
          <a:ext cx="4586400" cy="37242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95360" y="46507320"/>
                    <a:ext cx="4586400" cy="37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2T03:17:35Z</dcterms:created>
  <dc:creator>Karina Alejandra López Prado</dc:creator>
  <dc:description/>
  <cp:keywords/>
  <dc:language>en-US</dc:language>
  <cp:lastModifiedBy>Karina Alejandra López Prado</cp:lastModifiedBy>
  <dcterms:modified xsi:type="dcterms:W3CDTF">2008-05-13T03:49:54Z</dcterms:modified>
  <cp:revision>9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213082</vt:lpwstr>
  </property>
</Properties>
</file>