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6.png" ContentType="image/png"/>
  <Override PartName="/ppt/media/image3.gif" ContentType="image/gif"/>
  <Override PartName="/ppt/media/image1.jpeg" ContentType="image/jpeg"/>
  <Override PartName="/ppt/media/image7.png" ContentType="image/png"/>
  <Override PartName="/ppt/media/image12.png" ContentType="image/png"/>
  <Override PartName="/ppt/media/image4.png" ContentType="image/png"/>
  <Override PartName="/ppt/media/image13.wmf" ContentType="image/x-wmf"/>
  <Override PartName="/ppt/media/image5.png" ContentType="image/png"/>
  <Override PartName="/ppt/media/image2.gif" ContentType="image/gif"/>
  <Override PartName="/ppt/media/image8.jpeg" ContentType="image/jpeg"/>
  <Override PartName="/ppt/media/image9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9C1C-2C90-4142-8D99-01DE2B74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F826-4EBC-44A9-9E56-C7E75B2B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3959-C473-45B3-8E44-D63D1D3E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1A43-AEB9-4704-A59F-1247174A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BC0A-440A-4230-A4F4-20E1004D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F702-A3E1-4CA8-B7C8-D4548834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537C-B96D-4A34-ACE1-1561648C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25F3-6730-4C52-B826-DB4A7195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9131-B193-493E-A1B2-D9E07AFF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6C59-C6AA-4DCD-9303-FB2DB948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9E0E-A15C-444E-9589-08F2EFCC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2816-ABA9-4254-B347-0590D1C0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8CEE-B94D-4FC4-B22C-E1631E80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8EA4-440B-489D-88E1-97A88375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65A1-EE8F-4D0C-A9AD-EA8E89DF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8139-377D-4C42-82E0-C76C07DAA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9489-4C56-48E8-8388-905FA6AF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1BE3-CA24-41DC-962D-929159F3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44C7-C215-4B0D-8D04-B0B5A0AF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5AF0-F16D-437C-B24F-B569D0AA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36D2-ECA7-44A0-AA60-D2E0E739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CDFF-06EF-45C9-B97A-FA8F5ED8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5C53-74DD-47AD-836F-632706E5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4080-0FB2-4927-A05B-D7D9330A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EB61-7E22-4250-A501-49B948FDAAD0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0C86-A369-46A9-B8D7-BC63BFFBC234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Modificaciones </a:t>
            </a:r>
            <a:br>
              <a:rPr sz="5400"/>
            </a:b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68000" y="2420640"/>
            <a:ext cx="81421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ultivo continuo de células inmoviliza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Fed-ba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Recirculación de Células (Cultivos Perfusió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Reactores en Ser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cee6c"/>
                </a:solidFill>
                <a:latin typeface="Arial"/>
              </a:rPr>
              <a:t>Procedimiento: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06560" y="1906560"/>
            <a:ext cx="576576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63800" y="2374920"/>
            <a:ext cx="70149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Utilida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ibición del crecimiento por sustra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a concentr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resión cataból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os no-asociados al crecimi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013120"/>
            <a:ext cx="77724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circulación de Células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s de Perfus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so : Cultivo de células anim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 de perfusión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1268280"/>
            <a:ext cx="4897440" cy="42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odo continuo con recirculación cel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Adición continua de nutrien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Remoción continua de metaboli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Retención de células en biore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upera las desventajas de un cultivo de células anim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Lento crecimiento de células anim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Sensibles a metabolitos producidos por ell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Obteniendo grandes densidades y alta productiv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435640" y="1413000"/>
          <a:ext cx="3457440" cy="33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1413000"/>
                    <a:ext cx="345744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Cultivo de Perfusión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370160" y="1687680"/>
          <a:ext cx="6556320" cy="35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0160" y="1687680"/>
                    <a:ext cx="6556320" cy="35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Ventaj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7560" y="1774800"/>
            <a:ext cx="7769520" cy="43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Reactor de menor volumen es necesario para la misma producción que batch o fed batch. (reducción en costos de capital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Condiciones ambientales estab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Productos tóxicos son removidos y el producto secretado es continuamente recuperado, disminuyendo el riesgo de la degradación del producto.(Buena calidad de product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Se pueden lograr mayores concentraciones celulares.( 10 </a:t>
            </a:r>
            <a:r>
              <a:rPr b="0" lang="es-CL" sz="2000" spc="-1" strike="noStrike" baseline="30000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 células/mL, células animal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Alta productividad  ( sobre 10 veces mas que en batch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Se puede realizar el primer paso de purificación como un proceso continu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Desventaja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ltas demandas técnicas ( operación compleja de opera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safío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en la obtención de un adecuado sistema de retención celular.(Sistemas que se bloquean o forman acumulaciones celulare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1042920" y="1989000"/>
          <a:ext cx="6897600" cy="420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989000"/>
                    <a:ext cx="6897600" cy="42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0" y="476280"/>
            <a:ext cx="88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Times New Roman"/>
              </a:rPr>
              <a:t>Comparación de los modos de operación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 en Serie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482920" y="2205000"/>
            <a:ext cx="3295440" cy="4392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 flipH="1">
            <a:off x="4066560" y="3429000"/>
            <a:ext cx="718920" cy="504720"/>
          </a:xfrm>
          <a:custGeom>
            <a:avLst/>
            <a:gdLst>
              <a:gd name="textAreaLeft" fmla="*/ 125640 w 718920"/>
              <a:gd name="textAreaRight" fmla="*/ 521280 w 71892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348000" y="3429000"/>
            <a:ext cx="719280" cy="504720"/>
          </a:xfrm>
          <a:custGeom>
            <a:avLst/>
            <a:gdLst>
              <a:gd name="textAreaLeft" fmla="*/ 125640 w 719280"/>
              <a:gd name="textAreaRight" fmla="*/ 521640 w 71928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élulas Inmovilizada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3520" y="781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idea en colocar dos o más fermentadores en seri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934320" cy="29512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 en Seri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95280" y="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esta manera se pue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ir productos formados después del crec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84400" y="400536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ólo hay crec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03640" y="4005360"/>
            <a:ext cx="41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ormación de producto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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50920" y="907920"/>
          <a:ext cx="7272360" cy="31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07920"/>
                    <a:ext cx="7272360" cy="31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2050920" y="4437000"/>
            <a:ext cx="51134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533520" y="78120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esta manera se pue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udiar problemas fisiológicos interesa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6934320" cy="2950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 en Seri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12000" y="3284640"/>
            <a:ext cx="0" cy="576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27640" y="2205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agrega algún tipo de ag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380880"/>
            <a:ext cx="9144000" cy="27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 producirse 2 cas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 alimentación al segundo  rea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ste caso F =  F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187280" y="2924280"/>
          <a:ext cx="6875640" cy="29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924280"/>
                    <a:ext cx="6875640" cy="29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 producirse 2 cas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90792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2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alimentación al segundo reactor, F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`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mismo sustra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ductor, permite estudiar casos de indu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hibidor, permite estudiar casos de repres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971640" y="2924280"/>
            <a:ext cx="6912000" cy="29415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885080" y="3068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F + F`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Ventaj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 puede trabajar a mayores flujos en el segundo fermentador, sin que se produzca lavado de és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mite estudiar algunos efectos sobre el metabolismo de los microorganismo en forma continua, evaluando diferentes camb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esventaj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 un poco más complejo de implementar que un solo fermentad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alendario de Actividad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Times New Roman"/>
              </a:rPr>
              <a:t>05-Ago Formas de llevar a cabo una fermentació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Times New Roman"/>
              </a:rPr>
              <a:t>12-Ago Laboratorio    Experiencia "Normas de Bioseguridad parte 1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Times New Roman"/>
              </a:rPr>
              <a:t>19-Ago Laboratorio    Experiencia "Normas de Bioseguridad parte 2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Times New Roman"/>
              </a:rPr>
              <a:t>26-Ago Laboratorio    Experiencia "Cultivos Batch en Matraz de 500 ml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Times New Roman"/>
              </a:rPr>
              <a:t>02-Sep Presentaciones sobre producción de Bioetan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09-Sep Formas de llevar a cabo una fermentació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16-Sep Vac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23-Sep Trabajo Grupal desarrollo de Propuesta de Optimización de una fermen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8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0-Sep Semana Olímp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07-Oct Trabajo Grupal desarrollo de Propuesta de Optimización de una fermen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4-Oct Presentación Informal y Entrega Informe II    Propuesta de Optimización de una fermen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1-Oct Prueba Prototipo Se presenta la idea del prototipo. Debe ser aprobada la idea para prosegu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8-Oct Prueba Prototip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04-Nov Prueba Prototip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1-Nov Prueba Prototip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8-Nov Presentación y Entrega Informe III    Informe Final de resultados del prototipo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759280" y="278136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76a03"/>
                </a:solidFill>
                <a:latin typeface="Times New Roman"/>
              </a:rPr>
              <a:t>Meta: x&gt;25 g/L a las 40 ho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68360" y="0"/>
          <a:ext cx="8064360" cy="65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0"/>
                    <a:ext cx="806436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 flipV="1">
            <a:off x="7164360" y="1844640"/>
            <a:ext cx="0" cy="388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42920" y="1844640"/>
            <a:ext cx="619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71640" y="189000"/>
            <a:ext cx="396108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ltivo de S. cerevisi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1403280" y="620640"/>
            <a:ext cx="1720800" cy="2239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efini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élulas físicamente confinadas en un espacio físi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ención de sus actividades catalític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veces su viabilidad es mantenida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adas en forma continua y repetid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817236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132000" y="1628640"/>
            <a:ext cx="1584360" cy="93672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79417"/>
                <a:lnTo>
                  <a:pt x="21166" y="14388"/>
                </a:lnTo>
                <a:lnTo>
                  <a:pt x="17280" y="21600"/>
                </a:lnTo>
                <a:lnTo>
                  <a:pt x="12526" y="14388"/>
                </a:lnTo>
                <a:lnTo>
                  <a:pt x="14686" y="14388"/>
                </a:lnTo>
                <a:arcTo wR="7560" hR="21600" stAng="-2720583" swAng="-2321982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716360" y="1557360"/>
            <a:ext cx="1584360" cy="93672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79417"/>
                <a:lnTo>
                  <a:pt x="21166" y="14388"/>
                </a:lnTo>
                <a:lnTo>
                  <a:pt x="17280" y="21600"/>
                </a:lnTo>
                <a:lnTo>
                  <a:pt x="12526" y="14388"/>
                </a:lnTo>
                <a:lnTo>
                  <a:pt x="14686" y="14388"/>
                </a:lnTo>
                <a:arcTo wR="7560" hR="21600" stAng="-2720583" swAng="-2321982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12000" y="1557360"/>
            <a:ext cx="1584360" cy="93672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79417"/>
                <a:lnTo>
                  <a:pt x="21166" y="14388"/>
                </a:lnTo>
                <a:lnTo>
                  <a:pt x="17280" y="21600"/>
                </a:lnTo>
                <a:lnTo>
                  <a:pt x="12526" y="14388"/>
                </a:lnTo>
                <a:lnTo>
                  <a:pt x="14686" y="14388"/>
                </a:lnTo>
                <a:arcTo wR="7560" hR="21600" stAng="-2720583" swAng="-2321982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40000" y="476280"/>
            <a:ext cx="5472000" cy="1008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reguntas?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Ventaj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 se utiliza un soporte poroso, la densidad celular será tal que permitirá un buen rendimien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 elimina una etapa de separ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ipos de inmoviliza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dsorción superficial (células animal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utoagregación (Lodos Activado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nfinamiento en barre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trapamiento en matriz poro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Un posibilida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970920" y="549000"/>
            <a:ext cx="1511280" cy="180036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rot="10800000">
            <a:off x="1835280" y="4941360"/>
            <a:ext cx="1728720" cy="1413000"/>
          </a:xfrm>
          <a:custGeom>
            <a:avLst/>
            <a:gdLst>
              <a:gd name="textAreaLeft" fmla="*/ 360 w 1728720"/>
              <a:gd name="textAreaRight" fmla="*/ 1729440 w 1728720"/>
              <a:gd name="textAreaTop" fmla="*/ 0 h 1413000"/>
              <a:gd name="textAreaBottom" fmla="*/ 1413360 h 141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114560" y="2205000"/>
            <a:ext cx="2127960" cy="2735280"/>
            <a:chOff x="1114560" y="2205000"/>
            <a:chExt cx="2127960" cy="2735280"/>
          </a:xfrm>
        </p:grpSpPr>
        <p:sp>
          <p:nvSpPr>
            <p:cNvPr id="134" name=""/>
            <p:cNvSpPr/>
            <p:nvPr/>
          </p:nvSpPr>
          <p:spPr>
            <a:xfrm>
              <a:off x="1114560" y="2205000"/>
              <a:ext cx="2089080" cy="432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03640" y="2421000"/>
              <a:ext cx="0" cy="2376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14560" y="2421000"/>
              <a:ext cx="0" cy="23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14560" y="4508640"/>
              <a:ext cx="2089080" cy="4316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74920" y="4724280"/>
              <a:ext cx="215640" cy="730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50920" y="4653000"/>
              <a:ext cx="216000" cy="71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54200" y="4724280"/>
              <a:ext cx="217440" cy="730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50920" y="4797360"/>
              <a:ext cx="216000" cy="716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2424000">
              <a:off x="1258560" y="328464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424000">
              <a:off x="1834920" y="3860640"/>
              <a:ext cx="431640" cy="505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424000">
              <a:off x="1329840" y="4005000"/>
              <a:ext cx="43200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424000">
              <a:off x="1761840" y="3500280"/>
              <a:ext cx="431640" cy="505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424000">
              <a:off x="2195280" y="407664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2424000">
              <a:off x="2410920" y="3573000"/>
              <a:ext cx="432000" cy="505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2424000">
              <a:off x="2698560" y="407664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2424000">
              <a:off x="1618920" y="314172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424000">
              <a:off x="2266560" y="3141360"/>
              <a:ext cx="43200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424000">
              <a:off x="1329840" y="2923920"/>
              <a:ext cx="43200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424000">
              <a:off x="2195280" y="278136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424000">
              <a:off x="2698560" y="299736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800600" y="1687680"/>
            <a:ext cx="3708360" cy="28875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V="1">
            <a:off x="2916360" y="2133720"/>
            <a:ext cx="2592360" cy="79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16360" y="3573360"/>
            <a:ext cx="201600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eec94"/>
                </a:solidFill>
                <a:latin typeface="Times New Roman"/>
              </a:rPr>
              <a:t>Fed-Batch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efini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Es un modo de operación donde uno a más (en algunos casos todos)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utrientes son adicionados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 al reactor durante el cultivo,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alimentación puede ser función del tiempo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, pero el medio que contiene los metabolitos es retirado una vez finalizada cada corrid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(no hay salida continua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cee6c"/>
                </a:solidFill>
                <a:latin typeface="Arial"/>
              </a:rPr>
              <a:t>Procedimiento: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124000" y="1916280"/>
            <a:ext cx="57657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09:44:33Z</dcterms:created>
  <dc:creator>Maria Elena Lienqueo C.</dc:creator>
  <dc:description/>
  <dc:language>en-US</dc:language>
  <cp:lastModifiedBy>Maria Elena Lienqueo</cp:lastModifiedBy>
  <dcterms:modified xsi:type="dcterms:W3CDTF">2008-09-09T02:24:55Z</dcterms:modified>
  <cp:revision>77</cp:revision>
  <dc:subject/>
  <dc:title>Cultivo Continuo</dc:title>
</cp:coreProperties>
</file>