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6.png" ContentType="image/png"/>
  <Override PartName="/ppt/media/image3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2.gif" ContentType="image/gi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78C-CAEB-49A7-985E-BE1A3AFA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EB6-1338-4331-9F41-B26E54E3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B26-3AD4-4770-A1DA-00A38B30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AAE-AFFB-47CC-8FD3-56ED9913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CC8A-C871-4020-BE27-3070F87D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818F-F93D-4675-AFE4-85EC804E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EE87-A5F3-48FA-AB66-40F1E91F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179D-881B-4178-8758-B57A75AB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CDCB-D577-4E77-9E19-8EBD1C41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5E80-9C9B-4BCD-9F1E-71EB7AB9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DCFC-FA42-4AC8-8290-9D870795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9259-E4F8-40A0-8AC6-3F3199AB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E922-1658-4D62-ACD4-F9F60A98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1BC5-BB22-4FF8-8434-7D9A3E90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3133-AF28-4436-8E39-F1A645F9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9251-4412-41FA-A2AF-E141ECA8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D39D-63BB-462A-9187-1109A13D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C18B-F0A1-43F9-BF7F-3175B894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04F8-CF0E-47DC-BC4A-740491E7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A5A-4D86-489A-90CD-24B3C2A9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C49-19B3-4830-91E1-6CF7FB12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F05B-878A-4C47-9A71-DD17C026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188-BD88-4F59-B2C9-5B8A6191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234-AFA2-4BD8-97F2-FCCB527A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AF05-2E80-4F30-B564-79E048D500B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48F6-56C5-4CE0-8FA5-0E2656C26B7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Modificaciones </a:t>
            </a: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000" y="2420640"/>
            <a:ext cx="814212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ultivo continuo de células inmoviliz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ecirculación de Células (Cultivos Perfusió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Reactores en Ser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cee6c"/>
                </a:solidFill>
                <a:latin typeface="Arial"/>
              </a:rPr>
              <a:t>Procedimiento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6560" y="1906560"/>
            <a:ext cx="576576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3800" y="2374920"/>
            <a:ext cx="70149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ti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ibición del crecimiento por sustra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a concentr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resión catabó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tos no-asociados al cre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01312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irculación de Células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s de Perfus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Uso : Cultivo de células anim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de perfusió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268280"/>
            <a:ext cx="4897440" cy="42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odo continuo con recirculación cel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Adición continua de nutri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moción continua de metaboli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tención de células en biore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Supera las desventajas de un cultivo de células anim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Lento crecimiento de células anim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nsibles a metabolitos producidos por ell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Obteniendo grandes densidades y alta productiv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435640" y="1413000"/>
          <a:ext cx="345744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1413000"/>
                    <a:ext cx="345744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Cultivo de Perfusión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370160" y="1687680"/>
          <a:ext cx="6556320" cy="35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1687680"/>
                    <a:ext cx="6556320" cy="35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7560" y="1774800"/>
            <a:ext cx="776952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Reactor de menor volumen es necesario para la misma producción que batch o fed batch. (reducción en costos de capital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Condiciones ambientales esta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Productos tóxicos son removidos y el producto secretado es continuamente recuperado, disminuyendo el riesgo de la degradación del producto.(Buena calidad de produc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 pueden lograr mayores concentraciones celulares.( 10 </a:t>
            </a:r>
            <a:r>
              <a:rPr b="0" lang="es-CL" sz="2000" spc="-1" strike="noStrike" baseline="30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 células/mL, células anima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Alta productividad  ( sobre 10 veces mas que en batch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Se puede realizar el primer paso de purificación como un proceso continu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Times New Roman"/>
              </a:rPr>
              <a:t>Desventaja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Altas demandas técnicas ( operación compleja de opera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afío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en la obtención de un adecuado sistema de retención celular.(Sistemas que se bloquean o forman acumulaciones celular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042920" y="1989000"/>
          <a:ext cx="6897600" cy="420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89000"/>
                    <a:ext cx="6897600" cy="42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0" y="476280"/>
            <a:ext cx="88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Comparación de los modos de operación</a:t>
            </a:r>
            <a:r>
              <a:rPr b="0" lang="es-CL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482920" y="2205000"/>
            <a:ext cx="3295440" cy="4392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H="1">
            <a:off x="4066560" y="3429000"/>
            <a:ext cx="718920" cy="504720"/>
          </a:xfrm>
          <a:custGeom>
            <a:avLst/>
            <a:gdLst>
              <a:gd name="textAreaLeft" fmla="*/ 125640 w 718920"/>
              <a:gd name="textAreaRight" fmla="*/ 521280 w 71892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348000" y="3429000"/>
            <a:ext cx="719280" cy="504720"/>
          </a:xfrm>
          <a:custGeom>
            <a:avLst/>
            <a:gdLst>
              <a:gd name="textAreaLeft" fmla="*/ 125640 w 719280"/>
              <a:gd name="textAreaRight" fmla="*/ 521640 w 71928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élulas Inmovilizada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781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idea en colocar dos o más fermentadores en seri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34320" cy="2951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95280" y="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esta manera se pue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ir productos formados después del cre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84400" y="400536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ólo hay crec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03640" y="400536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ormación de producto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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50920" y="907920"/>
          <a:ext cx="7272360" cy="31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7272360" cy="31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050920" y="4437000"/>
            <a:ext cx="51134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533520" y="78120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esta manera se pue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udiar problemas fisiológicos interes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6934320" cy="2950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ltivo en Seri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3284640"/>
            <a:ext cx="0" cy="576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220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agrega algún tipo de ag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380880"/>
            <a:ext cx="914400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 alimentación al segundo  rea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 este caso F =  F</a:t>
            </a:r>
            <a:r>
              <a:rPr b="0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187280" y="2924280"/>
          <a:ext cx="6875640" cy="298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24280"/>
                    <a:ext cx="687564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den producirse 2 ca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90792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o 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 alimentación al segundo reactor, F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`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mismo sustra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ductor, permite estudiar casos de in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hibidor, permite estudiar casos de repre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71640" y="2924280"/>
            <a:ext cx="6912000" cy="2941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885080" y="3068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F + F`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puede trabajar a mayores flujos en el segundo fermentador, sin que se produzca lavado de és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ite estudiar algunos efectos sobre el metabolismo de los microorganismo en forma continua, evaluando diferentes camb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es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 un poco más complejo de implementar que un solo fermentad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lendario de Actividad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05-Ago Formas de llevar a cabo una ferment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12-Ago Laboratorio    Experiencia "Normas de Bioseguridad parte 1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19-Ago Laboratorio    Experiencia "Normas de Bioseguridad parte 2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26-Ago Laboratorio    Experiencia "Cultivos Batch en Matraz de 500 ml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02-Sep Presentaciones sobre producción de Bioetan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09-Sep Formas de llevar a cabo una ferment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16-Sep Vac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23-Sep Trabajo Grupal desarrollo de Propuesta de Optimización de una ferm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0-Sep Semana Olímp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7-Oct Trabajo Grupal desarrollo de Propuesta de Optimización de una ferm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4-Oct Presentación Informal y Entrega Informe II    Propuesta de Optimización de una ferment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1-Oct Prueba Prototipo Se presenta la idea del prototipo. Debe ser aprobada la idea para prosegu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8-Oct Prueba Prototip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04-Nov Prueba Prototip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1-Nov Prueba Prototip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8-Nov Presentación y Entrega Informe III    Informe Final de resultados del prototipo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759280" y="278136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76a03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71640" y="189000"/>
            <a:ext cx="396108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ltivo de S. cerevisi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403280" y="620640"/>
            <a:ext cx="1720800" cy="223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fini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élulas físicamente confinadas en un espacio fís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ención de sus actividades catalít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eces su viabilidad es mantenida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adas en forma continua y repetid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36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132000" y="162864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716360" y="155736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0" y="1557360"/>
            <a:ext cx="1584360" cy="93672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79417"/>
                <a:lnTo>
                  <a:pt x="21166" y="14388"/>
                </a:lnTo>
                <a:lnTo>
                  <a:pt x="17280" y="21600"/>
                </a:lnTo>
                <a:lnTo>
                  <a:pt x="12526" y="14388"/>
                </a:lnTo>
                <a:lnTo>
                  <a:pt x="14686" y="14388"/>
                </a:lnTo>
                <a:arcTo wR="7560" hR="21600" stAng="-2720583" swAng="-232198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40000" y="476280"/>
            <a:ext cx="5472000" cy="1008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eguntas?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Ventaja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 se utiliza un soporte poroso, la densidad celular será tal que permitirá un buen rendimien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elimina una etapa de sepa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ipos de inmoviliza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dsorción superficial (células animal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utoagregación (Lodos Activad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finamiento en barre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trapamiento en matriz poro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n posibilida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970920" y="549000"/>
            <a:ext cx="1511280" cy="180036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rot="10800000">
            <a:off x="1835280" y="4941360"/>
            <a:ext cx="1728720" cy="1413000"/>
          </a:xfrm>
          <a:custGeom>
            <a:avLst/>
            <a:gdLst>
              <a:gd name="textAreaLeft" fmla="*/ 360 w 1728720"/>
              <a:gd name="textAreaRight" fmla="*/ 1729440 w 1728720"/>
              <a:gd name="textAreaTop" fmla="*/ 0 h 1413000"/>
              <a:gd name="textAreaBottom" fmla="*/ 1413360 h 141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14560" y="2205000"/>
            <a:ext cx="2127960" cy="2735280"/>
            <a:chOff x="1114560" y="2205000"/>
            <a:chExt cx="2127960" cy="2735280"/>
          </a:xfrm>
        </p:grpSpPr>
        <p:sp>
          <p:nvSpPr>
            <p:cNvPr id="134" name=""/>
            <p:cNvSpPr/>
            <p:nvPr/>
          </p:nvSpPr>
          <p:spPr>
            <a:xfrm>
              <a:off x="1114560" y="2205000"/>
              <a:ext cx="2089080" cy="432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3640" y="2421000"/>
              <a:ext cx="0" cy="23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14560" y="2421000"/>
              <a:ext cx="0" cy="23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14560" y="4508640"/>
              <a:ext cx="2089080" cy="431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74920" y="4724280"/>
              <a:ext cx="215640" cy="73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0920" y="4653000"/>
              <a:ext cx="216000" cy="71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54200" y="4724280"/>
              <a:ext cx="217440" cy="730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0920" y="4797360"/>
              <a:ext cx="216000" cy="71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424000">
              <a:off x="1258560" y="3284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424000">
              <a:off x="1834920" y="3860640"/>
              <a:ext cx="43164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424000">
              <a:off x="1329840" y="400500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424000">
              <a:off x="1761840" y="3500280"/>
              <a:ext cx="43164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424000">
              <a:off x="2195280" y="4076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424000">
              <a:off x="2410920" y="3573000"/>
              <a:ext cx="432000" cy="505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424000">
              <a:off x="2698560" y="407664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424000">
              <a:off x="1618920" y="314172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424000">
              <a:off x="2266560" y="314136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2424000">
              <a:off x="1329840" y="2923920"/>
              <a:ext cx="43200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424000">
              <a:off x="2195280" y="278136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424000">
              <a:off x="2698560" y="2997360"/>
              <a:ext cx="431640" cy="504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00600" y="1687680"/>
            <a:ext cx="3708360" cy="2887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V="1">
            <a:off x="2916360" y="2133720"/>
            <a:ext cx="259236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16360" y="3573360"/>
            <a:ext cx="20160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eec94"/>
                </a:solidFill>
                <a:latin typeface="Times New Roman"/>
              </a:rPr>
              <a:t>Fed-Batch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fini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s un modo de operación donde uno a más (en algunos casos todos)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trientes son adicionados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 al reactor durante el cultivo,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alimentación puede ser función del tiempo</a:t>
            </a: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, pero el medio que contiene los metabolitos es retirado una vez finalizada cada corrida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(no hay salida continu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cee6c"/>
                </a:solidFill>
                <a:latin typeface="Arial"/>
              </a:rPr>
              <a:t>Procedimiento: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7657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9:44:33Z</dcterms:created>
  <dc:creator>Maria Elena Lienqueo C.</dc:creator>
  <dc:description/>
  <dc:language>en-US</dc:language>
  <cp:lastModifiedBy>Maria Elena Lienqueo</cp:lastModifiedBy>
  <dcterms:modified xsi:type="dcterms:W3CDTF">2008-09-09T02:24:55Z</dcterms:modified>
  <cp:revision>77</cp:revision>
  <dc:subject/>
  <dc:title>Cultivo Continuo</dc:title>
</cp:coreProperties>
</file>