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2.gif" ContentType="image/gi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3A5-8C1D-4877-A53A-E997A2E2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606-4816-47CF-AD66-8AFA6B46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5D2-AED9-4981-8BF0-F5C9DD89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488-2D70-42E5-B091-A5D54859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4443-A369-419D-A402-F99BCAC6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FA4D-1DE2-4C56-8B17-C995EFBA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4DA9-8A22-4E5B-8F98-3F59B8D5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E033-9BE2-452B-B13C-B37D838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7C6A-C423-4561-AE28-1B93A491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4DD5-33F9-402C-A22D-9FCE044A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F08D-B23B-4F18-91B0-85A87C4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812-4197-4915-A8A6-8206DCE4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C453-D7BC-43BD-8649-8DF0B132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BA77-1479-45CF-BF23-9E8C9578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4FCB-2224-4EE4-B091-7241302C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AB10-E3D7-47CC-B49B-C113A4DD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3775-ACC6-43CE-8DD1-560822DA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7CA-F90D-4856-A485-C9AB7157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E17-6BF4-498C-9897-45DFF3C7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AD0-A11B-4368-A9F3-EF0658FD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9A9-5993-4B42-8943-95985EB8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2B6-D170-4DEE-BC62-18CE918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BB4-5DB0-48DE-839C-60F6CD5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7BA-D0D7-4FF8-AE6A-7FF6001A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2B5D-8CA5-46FC-A2F4-2CF1BD3D494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E14-11E6-4EEF-9BF1-1B155104E95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435640" y="1413000"/>
          <a:ext cx="345744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345744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70160" y="16876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6876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 de capita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78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n colocar dos o más fermentadores en ser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34320" cy="2951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5280" y="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ir productos formados después del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84400" y="40053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ólo hay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005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mación de producto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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907920"/>
          <a:ext cx="727236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727236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50920" y="4437000"/>
            <a:ext cx="511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781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udiar problemas fisiológicos interes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28464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20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agrega algún tipo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lendario de Actividad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5-Ago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2-Ago Laboratorio    Experiencia "Normas de Bioseguridad parte 1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9-Ago Laboratorio    Experiencia "Normas de Bioseguridad parte 2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26-Ago Laboratorio    Experiencia "Cultivos Batch en Matraz de 500 ml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2-Sep Presentaciones sobre producción de Bioetan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9-Sep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16-Sep Va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23-Sep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-Sep Semana Olím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7-Oct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-Oct Presentación Informal y Entrega Informe II   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1-Oct Prueba Prototipo Se presenta la idea del prototipo. Debe ser aprobada la idea para proseg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8-Oct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4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-Nov Presentación y Entrega Informe III    Informe Final de resultados del prototip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759280" y="2781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6a03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89000"/>
            <a:ext cx="39610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ltivo de S. cerevisi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403280" y="620640"/>
            <a:ext cx="1720800" cy="223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élulas físicamente confinadas en un espacio fís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ención de sus actividades catalí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ces su viabilidad es mantenida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das en forma continua y repeti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sorción superficial (células anima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utoagregación (Lodos Activ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finamiento en barr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trapamiento en matriz por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970920" y="549000"/>
            <a:ext cx="1511280" cy="1800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0800000">
            <a:off x="1835280" y="4941360"/>
            <a:ext cx="1728720" cy="1413000"/>
          </a:xfrm>
          <a:custGeom>
            <a:avLst/>
            <a:gdLst>
              <a:gd name="textAreaLeft" fmla="*/ 360 w 1728720"/>
              <a:gd name="textAreaRight" fmla="*/ 1729440 w 172872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34" name="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Maria Elena Lienqueo</cp:lastModifiedBy>
  <dcterms:modified xsi:type="dcterms:W3CDTF">2008-09-09T02:24:55Z</dcterms:modified>
  <cp:revision>77</cp:revision>
  <dc:subject/>
  <dc:title>Cultivo Continuo</dc:title>
</cp:coreProperties>
</file>