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F63-2C22-461C-9338-4FC3E5D1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E69-71C0-40E7-9E7A-191ED4ED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727-8BA9-4297-BB2C-4E0DF318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7F8-2B35-4D54-A81A-F590AD53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F79E-88EE-42A4-8533-7CF5DB03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7324-3535-423B-9BD6-C0004BB2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0849-FF15-4CFB-A885-1F4ECDDA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3B13-7EBE-4CB5-A40D-12CA6EAF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9E77-D52D-458B-91C9-FAC1EF30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44A2-8262-46F2-92C1-DE4F4C9C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9CAE-C7A5-4A16-B84B-847D2C0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8E4-D297-41C4-AF08-BD0DD9CD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D481-02A5-44DE-841B-2CBD15E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990C-4B80-43B6-BFBE-F99437C9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88B5-707E-4F7A-AB88-9F49B02B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0FE-2ACB-4BA7-AAAB-78706F56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D6BF-7152-486A-9F47-C773D1A6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FF0-627B-460F-AD84-AD93E12D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774-8228-436E-AEAC-9F54BB2F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5FC-8CA2-44C1-82F9-E208B4AC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8E8-325A-45BC-BE1D-CD624F6B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925-234D-4F88-B0E0-560538A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0C9-E40B-4820-A8E1-6FDFA70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FD4-9382-43F5-8D42-57E3CF58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2BC5-DC48-4358-AB1E-AD6253CC3EF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D307-730F-4C5A-B6C2-AB066F12D3D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435640" y="1413000"/>
          <a:ext cx="345744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34574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0160" y="16876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6876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 de capita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78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n colocar dos o más fermentadores en ser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34320" cy="2951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5280" y="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ir productos formados después del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84400" y="40053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ólo hay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00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mación de producto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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907920"/>
          <a:ext cx="727236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727236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50920" y="4437000"/>
            <a:ext cx="511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781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udiar problemas fisiológicos interes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28464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20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agrega algún tipo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lendario de Actividad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5-Ago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2-Ago Laboratorio    Experiencia "Normas de Bioseguridad parte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9-Ago Laboratorio    Experiencia "Normas de Bioseguridad parte 2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26-Ago Laboratorio    Experiencia "Cultivos Batch en Matraz de 500 ml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2-Sep Presentaciones sobre producción de Bioetan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9-Sep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6-Sep Va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23-Sep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-Sep Semana Olím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7-Oct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-Oct Presentación Informal y Entrega Informe II   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1-Oct Prueba Prototipo Se presenta la idea del prototipo. Debe ser aprobada la idea para proseg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8-Oct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4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-Nov Presentación y Entrega Informe III    Informe Final de resultados del prototip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759280" y="2781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6a03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89000"/>
            <a:ext cx="39610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ivo de S. cerevisi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1720800" cy="223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élulas físicamente confinadas en un espacio fís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ención de sus actividades catalí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ces su viabilidad es mantenida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das en forma continua y repeti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sorción superficial (células anima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utoagregación (Lodos Activ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miento en barr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trapamiento en matriz por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970920" y="549000"/>
            <a:ext cx="1511280" cy="180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0800000">
            <a:off x="1835280" y="4941360"/>
            <a:ext cx="1728720" cy="1413000"/>
          </a:xfrm>
          <a:custGeom>
            <a:avLst/>
            <a:gdLst>
              <a:gd name="textAreaLeft" fmla="*/ 360 w 1728720"/>
              <a:gd name="textAreaRight" fmla="*/ 1729440 w 172872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34" name="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</cp:lastModifiedBy>
  <dcterms:modified xsi:type="dcterms:W3CDTF">2008-09-09T02:24:55Z</dcterms:modified>
  <cp:revision>77</cp:revision>
  <dc:subject/>
  <dc:title>Cultivo Continuo</dc:title>
</cp:coreProperties>
</file>