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2.gif" ContentType="image/gi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A84-DEC8-451C-92F1-2DEE6139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BD9-9CE5-43F7-BEF9-321DE7C5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08A-AB8E-4C2A-9507-F51474F5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72F-03A8-4181-9836-2043F4CE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0E96-29C7-4F7F-BD87-388A2935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1364-4469-4212-9EBE-DC73A93F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F8AA-9D24-4247-95FD-BEF96B84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69BE-5792-4452-864D-3F3E5E4E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0EF2-B166-4B46-8602-98E4E985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8CAB-7FBF-4D14-8E19-70D5B7A2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3C4B-E9D5-4BFC-B10F-685BF19A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6A3-AA18-45BF-ABD8-ADD1106C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6C5E-B051-44E7-B467-CB17192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D25D-7278-45EB-9917-8FBA9A02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115F-C4C3-4454-B449-B3A67DEF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FE5C-C959-4420-9FE2-E06A7D9C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CEF3-A53A-4EAA-BB7C-A693F568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BD4-1097-4D60-91B9-E0055EB3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EAB-1B5D-49EF-8992-E8836435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630-DD2B-42D9-88E9-AD46B8F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12E-22B1-4796-B6FD-50DD0954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BA4-97A9-4C96-B64F-D5E051A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029-29D9-4AE3-97FB-A218345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689-9524-4678-A989-0CDCEF4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E406-E24E-4901-8862-1EADC11EB09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49B9-3687-4A14-980A-A2B9B1ABA11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435640" y="1413000"/>
          <a:ext cx="345744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345744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70160" y="16876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6876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 de capita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78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n colocar dos o más fermentadores en ser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34320" cy="2951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5280" y="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ir productos formados después del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84400" y="40053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ólo hay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005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mación de producto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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907920"/>
          <a:ext cx="727236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727236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50920" y="4437000"/>
            <a:ext cx="511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781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udiar problemas fisiológicos interes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28464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20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agrega algún tipo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lendario de Actividad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5-Ago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2-Ago Laboratorio    Experiencia "Normas de Bioseguridad parte 1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9-Ago Laboratorio    Experiencia "Normas de Bioseguridad parte 2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26-Ago Laboratorio    Experiencia "Cultivos Batch en Matraz de 500 ml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2-Sep Presentaciones sobre producción de Bioetan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9-Sep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16-Sep Va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23-Sep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-Sep Semana Olím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7-Oct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-Oct Presentación Informal y Entrega Informe II   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1-Oct Prueba Prototipo Se presenta la idea del prototipo. Debe ser aprobada la idea para proseg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8-Oct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4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-Nov Presentación y Entrega Informe III    Informe Final de resultados del prototip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759280" y="2781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6a03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89000"/>
            <a:ext cx="39610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ltivo de S. cerevisi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403280" y="620640"/>
            <a:ext cx="1720800" cy="223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élulas físicamente confinadas en un espacio fís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ención de sus actividades catalí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ces su viabilidad es mantenida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das en forma continua y repeti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sorción superficial (células anima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utoagregación (Lodos Activ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finamiento en barr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trapamiento en matriz por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970920" y="549000"/>
            <a:ext cx="1511280" cy="1800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0800000">
            <a:off x="1835280" y="4941360"/>
            <a:ext cx="1728720" cy="1413000"/>
          </a:xfrm>
          <a:custGeom>
            <a:avLst/>
            <a:gdLst>
              <a:gd name="textAreaLeft" fmla="*/ 360 w 1728720"/>
              <a:gd name="textAreaRight" fmla="*/ 1729440 w 172872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34" name="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Maria Elena Lienqueo</cp:lastModifiedBy>
  <dcterms:modified xsi:type="dcterms:W3CDTF">2008-09-09T02:24:55Z</dcterms:modified>
  <cp:revision>77</cp:revision>
  <dc:subject/>
  <dc:title>Cultivo Continuo</dc:title>
</cp:coreProperties>
</file>