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6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2.gif" ContentType="image/gi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4E8-47B9-4A75-A6DA-954B2C5C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432-40CE-4EA5-819B-C9B65AC4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8BF-B3FA-4B49-B186-56DD7F4C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627-963C-4D10-8FB3-DE6132C3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5822-E5D0-457F-9CC4-4BBCA819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3C85-54E1-4BC3-9AD9-6A01B340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E132-DF75-45AE-B04B-AC9ECB30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3CA9-EA3A-4532-BD12-06644172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7C30-D23B-45C3-A2F2-15F21AAC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378D-B888-42CD-B44B-C9BF3C76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92D4-E04D-46E5-85ED-103978DF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D39-D6EC-4A21-A642-0F55BEA3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5616-F062-4A8F-A7C8-5AB29BF3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837F-8321-4976-8002-F568E78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6638-D519-4742-ABD9-6E4874C2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112A-938F-4DF6-BF0D-FBCEAA6C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BF43-FB36-4C79-82F4-0D1B15BA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FD4-C47A-4466-B4A6-0BBAAAF0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A0B-787B-4550-99D6-CFC7BFA5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694-710F-4164-961F-8D652098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4C0-995C-446A-830F-7863940A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C85-F340-42DA-BC3F-595EDAAB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7D5-4EE5-4018-BC70-DB78273E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310-1C0E-49B0-9458-02B08AD9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6B5C-66A6-402C-BB35-0BBFD163E5F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6B7A-CE3E-4F77-8195-2AF55B15D51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ificaciones 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000" y="2420640"/>
            <a:ext cx="81421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ultivo continuo de células inmovi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circulación de Células (Cultivos Perfusió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actores en Se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6560" y="1906560"/>
            <a:ext cx="57657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3800" y="2374920"/>
            <a:ext cx="70149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t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ción del crecimiento por sustr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a concent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ión catabó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os no-asociados al cr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0131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irculación de Células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s de Perfu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so : Cultivo de células ani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de perfusió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268280"/>
            <a:ext cx="489744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odo continuo con recirculación cel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dición continua de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moción continua de metaboli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tención de células en bio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pera las desventajas de un cultivo de células ani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Lento crecimiento de células anim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nsibles a metabolitos producidos por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Obteniendo grandes densidades y alta 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435640" y="1413000"/>
          <a:ext cx="345744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413000"/>
                    <a:ext cx="345744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Cultivo de Perfusió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70160" y="1687680"/>
          <a:ext cx="655632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687680"/>
                    <a:ext cx="655632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7560" y="1774800"/>
            <a:ext cx="776952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actor de menor volumen es necesario para la misma producción que batch o fed batch. (reducción en costos de capita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diciones ambientales esta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Productos tóxicos son removidos y el producto secretado es continuamente recuperado, disminuyendo el riesgo de la degradación del producto.(Buena calidad de produ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n lograr mayores concentraciones celulares.( 10 </a:t>
            </a:r>
            <a:r>
              <a:rPr b="0" lang="es-CL" sz="20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 células/mL, células anima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lta productividad  ( sobre 10 veces mas que en batch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 realizar el primer paso de purificación como un proceso 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Desventaj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ltas demandas técnicas ( operación compleja de oper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afí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en la obtención de un adecuado sistema de retención celular.(Sistemas que se bloquean o forman acumulaciones celular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42920" y="1989000"/>
          <a:ext cx="6897600" cy="42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689760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0" y="47628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Comparación de los modos de operación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82920" y="220500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4066560" y="3429000"/>
            <a:ext cx="718920" cy="504720"/>
          </a:xfrm>
          <a:custGeom>
            <a:avLst/>
            <a:gdLst>
              <a:gd name="textAreaLeft" fmla="*/ 125640 w 718920"/>
              <a:gd name="textAreaRight" fmla="*/ 521280 w 718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348000" y="3429000"/>
            <a:ext cx="719280" cy="504720"/>
          </a:xfrm>
          <a:custGeom>
            <a:avLst/>
            <a:gdLst>
              <a:gd name="textAreaLeft" fmla="*/ 125640 w 719280"/>
              <a:gd name="textAreaRight" fmla="*/ 521640 w 7192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élulas Inmovilizad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781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idea en colocar dos o más fermentadores en seri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34320" cy="2951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95280" y="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esta manera se pue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ir productos formados después del cre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84400" y="40053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ólo hay cre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00536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mación de producto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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50920" y="907920"/>
          <a:ext cx="727236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727236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050920" y="4437000"/>
            <a:ext cx="5113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3520" y="7812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esta manera se pue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udiar problemas fisiológicos interes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934320" cy="2950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3284640"/>
            <a:ext cx="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20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agrega algún tipo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380880"/>
            <a:ext cx="91440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alimentación al segundo  re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caso F =  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87280" y="2924280"/>
          <a:ext cx="6875640" cy="29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87564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90792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alimentación al segundo reactor, F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`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ismo sustra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ductor, permite estudiar casos de in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hibidor, permite estudiar casos de repre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6912000" cy="2941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88508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F + F`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puede trabajar a mayores flujos en el segundo fermentador, sin que se produzca lavado de é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ite estudiar algunos efectos sobre el metabolismo de los microorganismo en forma continua, evaluando diferentes camb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s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poco más complejo de implementar que un solo ferment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lendario de Actividad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05-Ago Formas de llevar a cabo una ferm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12-Ago Laboratorio    Experiencia "Normas de Bioseguridad parte 1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19-Ago Laboratorio    Experiencia "Normas de Bioseguridad parte 2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26-Ago Laboratorio    Experiencia "Cultivos Batch en Matraz de 500 ml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02-Sep Presentaciones sobre producción de Bioetan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9-Sep Formas de llevar a cabo una ferm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16-Sep Va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23-Sep Trabajo Grupal desarrollo de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0-Sep Semana Olímp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7-Oct Trabajo Grupal desarrollo de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-Oct Presentación Informal y Entrega Informe II   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1-Oct Prueba Prototipo Se presenta la idea del prototipo. Debe ser aprobada la idea para proseg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8-Oct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4-Nov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-Nov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-Nov Presentación y Entrega Informe III    Informe Final de resultados del prototip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759280" y="27813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6a03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189000"/>
            <a:ext cx="396108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ltivo de S. cerevisi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403280" y="620640"/>
            <a:ext cx="1720800" cy="223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élulas físicamente confinadas en un espacio fís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ención de sus actividades catalít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eces su viabilidad es mantenida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adas en forma continua y repetid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132000" y="162864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1636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476280"/>
            <a:ext cx="5472000" cy="100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guntas?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se utiliza un soporte poroso, la densidad celular será tal que permitirá un buen rendimi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elimina una etapa de sepa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ipos de inmoviliz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dsorción superficial (células anima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utoagregación (Lodos Activad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finamiento en barr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trapamiento en matriz poro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n posib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970920" y="549000"/>
            <a:ext cx="1511280" cy="180036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0800000">
            <a:off x="1835280" y="4941360"/>
            <a:ext cx="1728720" cy="1413000"/>
          </a:xfrm>
          <a:custGeom>
            <a:avLst/>
            <a:gdLst>
              <a:gd name="textAreaLeft" fmla="*/ 360 w 1728720"/>
              <a:gd name="textAreaRight" fmla="*/ 1729440 w 172872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14560" y="2205000"/>
            <a:ext cx="2127960" cy="2735280"/>
            <a:chOff x="1114560" y="2205000"/>
            <a:chExt cx="2127960" cy="2735280"/>
          </a:xfrm>
        </p:grpSpPr>
        <p:sp>
          <p:nvSpPr>
            <p:cNvPr id="134" name=""/>
            <p:cNvSpPr/>
            <p:nvPr/>
          </p:nvSpPr>
          <p:spPr>
            <a:xfrm>
              <a:off x="1114560" y="2205000"/>
              <a:ext cx="2089080" cy="432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364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4560" y="2421000"/>
              <a:ext cx="0" cy="23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4560" y="4508640"/>
              <a:ext cx="2089080" cy="431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74920" y="4724280"/>
              <a:ext cx="2156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0920" y="4653000"/>
              <a:ext cx="216000" cy="71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54200" y="4724280"/>
              <a:ext cx="2174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0920" y="4797360"/>
              <a:ext cx="216000" cy="71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424000">
              <a:off x="1258560" y="3284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424000">
              <a:off x="1834920" y="386064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424000">
              <a:off x="1329840" y="400500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424000">
              <a:off x="1761840" y="350028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424000">
              <a:off x="219528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424000">
              <a:off x="2410920" y="3573000"/>
              <a:ext cx="43200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424000">
              <a:off x="269856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424000">
              <a:off x="1618920" y="314172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424000">
              <a:off x="2266560" y="314136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424000">
              <a:off x="1329840" y="292392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424000">
              <a:off x="2195280" y="2781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424000">
              <a:off x="2698560" y="2997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687680"/>
            <a:ext cx="3708360" cy="2887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2916360" y="2133720"/>
            <a:ext cx="259236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3573360"/>
            <a:ext cx="2016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Fed-Batc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 un modo de operación donde uno a más (en algunos casos todos)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trientes son adicionado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al reactor durante el cultivo,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limentación puede ser función del tiempo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, pero el medio que contiene los metabolitos es retirado una vez finalizada cada corrid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no hay salida continu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7657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Maria Elena Lienqueo</cp:lastModifiedBy>
  <dcterms:modified xsi:type="dcterms:W3CDTF">2008-09-09T02:24:55Z</dcterms:modified>
  <cp:revision>77</cp:revision>
  <dc:subject/>
  <dc:title>Cultivo Continuo</dc:title>
</cp:coreProperties>
</file>