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07A-394B-4E8A-95BB-62653311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F575-25AC-4F39-A467-083461E2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0D3E-9E17-4566-96C1-414BC2FB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C93-7DA8-4A6E-9D31-C93D7EBE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3FC2-3443-4224-83A4-A0B7410B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3DB7-8FBC-480A-A01C-6EFD83A3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9650-2FEE-4EAE-AB94-C49F5737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6965-0C58-420C-899C-E9117A41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D001-C52E-4413-AE21-15E6C5CC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B050-2AFB-4A83-80CA-96681EB7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3044-F168-4FC5-ABC3-84E1362E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949-31F5-47B4-BCDA-1D1C1183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BB4D-BCFF-4F1C-98C8-FE2C3235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DD5B-E930-43D1-9EF4-53CDDB59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CD1A-5896-4011-ADFC-90B7A4AE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2C50-7382-400B-B2F1-0B8119AE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0BBD-C621-4E0F-8BAE-2591E97C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3836-C927-493E-9092-9D6E7A29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73A-6126-4E3C-92B0-CCD09B74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D986-65FD-4C17-9169-D06006D1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318-A229-4B07-8E7F-DED02339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6380-74E6-4252-9F38-9E7775DE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BDEF-BA42-4282-9547-3892EF23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ED8E-4123-4B39-A9BC-4216CF83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6B06-634B-4D38-920F-0AD479BCD4F3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9F1A-ED1C-4F41-9ADC-030EC835BD93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600"/>
            </a:b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560" y="3860280"/>
            <a:ext cx="6945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Bebidas Alcohól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ino y vinag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ervez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ak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03640" y="2930400"/>
            <a:ext cx="5178240" cy="2822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5280" y="1411200"/>
            <a:ext cx="828036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el crecimiento en suspensión, los organismos están sumergidos y dispersados en el medio nutritivo y su movimiento sigue al del medio.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los sistemas con soporte, los organismos crecen como una monocapa o película sobre una superficie en contacto con un medio nutritivo.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06600" y="411120"/>
            <a:ext cx="419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Tipos de fermentador</a:t>
            </a:r>
            <a:r>
              <a:rPr b="0" lang="es-ES_tradnl" sz="2800" spc="-1" strike="noStrike">
                <a:solidFill>
                  <a:srgbClr val="006666"/>
                </a:solidFill>
                <a:latin typeface="Times New Roman"/>
              </a:rPr>
              <a:t>: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219640" y="3936960"/>
            <a:ext cx="3313080" cy="218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5280" y="3045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mas de llevar a cabo un cultivo en suspens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769080" cy="3319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08000" y="4508640"/>
            <a:ext cx="136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Bat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-4680"/>
            <a:ext cx="849636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Cultivo Batch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(Por Lotes o Tanda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Estos bio-reactores operan en forma</a:t>
            </a: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continua (carga, fermentación, descarga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6721560" cy="360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940360" y="1773360"/>
          <a:ext cx="2882880" cy="4417920"/>
        </p:xfrm>
        <a:graphic>
          <a:graphicData uri="http://schemas.openxmlformats.org/drawingml/2006/table">
            <a:tbl>
              <a:tblPr/>
              <a:tblGrid>
                <a:gridCol w="1441440"/>
                <a:gridCol w="14414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Fa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Velocidad de crecimiento específ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Latenc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Aceler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Exponenci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6666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800" spc="-1" strike="noStrike" baseline="-25000">
                          <a:solidFill>
                            <a:srgbClr val="006666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Declin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stacionar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Muer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755640" y="1628640"/>
            <a:ext cx="1828800" cy="1217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4356000" y="836640"/>
            <a:ext cx="1511280" cy="106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0"/>
            <a:ext cx="86868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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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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upuesto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No hay entrada ni salida de células F =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erte celular despreciable, 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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71640" y="1197000"/>
                <a:ext cx="4933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010280" y="1905120"/>
          <a:ext cx="181944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905120"/>
                    <a:ext cx="181944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71640" y="4724280"/>
                <a:ext cx="36590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5508720" y="4221000"/>
            <a:ext cx="321624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inici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fin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28600"/>
            <a:ext cx="815328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 (cont..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plicando  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i </a:t>
            </a:r>
            <a:r>
              <a:rPr b="0" lang="es-E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ante, entonces la expresión anterior es integrable, considerando  que  la concentración inicial de biomasa en t=0 es x</a:t>
            </a:r>
            <a:r>
              <a:rPr b="0" lang="es-ES" sz="1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Esta situación ocurre principalmente en  </a:t>
            </a: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as fase de crecimiento exponencial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2880" y="4495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979640" y="1484280"/>
                <a:ext cx="42418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4284720" y="5734080"/>
            <a:ext cx="316692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332000" y="3716280"/>
            <a:ext cx="7812000" cy="2151000"/>
            <a:chOff x="1332000" y="3716280"/>
            <a:chExt cx="7812000" cy="2151000"/>
          </a:xfrm>
        </p:grpSpPr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1332000" y="4167000"/>
                  <a:ext cx="287964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∗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μ</m:t>
                          </m:r>
                          <m:r>
                            <m:t xml:space="preserve">∗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6329520" y="3716280"/>
              <a:ext cx="281448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284720" y="4670280"/>
              <a:ext cx="3166920" cy="0"/>
            </a:xfrm>
            <a:prstGeom prst="line">
              <a:avLst/>
            </a:prstGeom>
            <a:ln w="57240">
              <a:solidFill>
                <a:srgbClr val="a3ffe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826920" y="5805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xperimento 1- 26 de Agost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508720" y="1125360"/>
            <a:ext cx="3384360" cy="47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oducirse inhibición por sustrato que extiende la etapa de latenc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Laboratorio    Experiencia "Cultivos Batch en Matraz de 500 ml"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Cultivo Continu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Existen diferentes mo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 operar fermentador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tinuo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Quimostato</a:t>
            </a:r>
            <a:r>
              <a:rPr b="1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Verdana"/>
              </a:rPr>
              <a:t>(Perfectamente agitado, CSTR, RPA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Verdana"/>
              </a:rPr>
              <a:t>Si el biorreactor está bien mezclado, la corriente de producto que sale del bio-reactor posee la misma composición que el líquido presente en el interior del reacto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105520" y="98100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sultas</a:t>
            </a:r>
            <a:br>
              <a:rPr sz="4400"/>
            </a:br>
            <a:br>
              <a:rPr sz="4400"/>
            </a:br>
            <a:r>
              <a:rPr b="0" lang="es-ES_tradn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lienque@ing.uchile.c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Características del Quimostato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990360"/>
            <a:ext cx="847692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e le llamó Quimostato dado que la composición química y biológica del medio se mantiene constante, para ello se debe controlar:</a:t>
            </a:r>
            <a:r>
              <a:rPr b="0" lang="es-ES" sz="2800" spc="-1" strike="noStrike">
                <a:solidFill>
                  <a:srgbClr val="eaeaea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volumen del líquido en el reactor se mantiene constante, ajustando los flujos de entrada y salida al mismo valo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pH del medio mediante la adición de ácido o base. Generalmente se adiciona ácid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suministro continuo de O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( o aire), en el caso de sistemas aeróbic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n nivel de agitación adecuado que garantice la homogeneidad del sistem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os principales componentes de un cultivo continuo son: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Reactor de volumen constan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istema de alimentación de medio y salida de product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Tanque estéril de medio (entrada y salid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ntrol de pH, T, OD (Oxígeno disuelto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istema de aireación y agitació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905120" y="380880"/>
            <a:ext cx="5409360" cy="5714640"/>
            <a:chOff x="1905120" y="380880"/>
            <a:chExt cx="5409360" cy="5714640"/>
          </a:xfrm>
        </p:grpSpPr>
        <p:sp>
          <p:nvSpPr>
            <p:cNvPr id="181" name=""/>
            <p:cNvSpPr/>
            <p:nvPr/>
          </p:nvSpPr>
          <p:spPr>
            <a:xfrm>
              <a:off x="2541240" y="5810040"/>
              <a:ext cx="47732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eaeaea"/>
                  </a:solidFill>
                  <a:latin typeface="Times New Roman"/>
                </a:rPr>
                <a:t>Fig.  1 Típico Fermentador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1905120" y="380880"/>
            <a:ext cx="5369760" cy="533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380880"/>
                      <a:ext cx="5369760" cy="53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258920" y="10152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1268280"/>
            <a:ext cx="21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08720" y="61657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Salid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835280" y="980640"/>
            <a:ext cx="288720" cy="79236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4716360" y="6308280"/>
            <a:ext cx="719280" cy="7308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0"/>
            <a:ext cx="8686800" cy="47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alance de Biomas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3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"/>
              <a:tabLst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uestos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Alimentación estéril,  x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Estado estacionario, no hay acumulación.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y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x/s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[gr célula/gr sustrato] : Conversión  (yield) de células referidas a nutriente consumido.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87280" y="836640"/>
                <a:ext cx="65786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500720" y="3414600"/>
                <a:ext cx="5490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211640" y="2708280"/>
                <a:ext cx="5284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590920" y="5638680"/>
                <a:ext cx="255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3902040" cy="479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8920" y="0"/>
            <a:ext cx="684216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IOMASA UTILIZADA EN LA PRODUCCION DE BIOETANO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19640" y="1916280"/>
            <a:ext cx="1871640" cy="8413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LMID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Arial"/>
              </a:rPr>
              <a:t>Maíz, Trigo, Papa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38920" y="1844640"/>
            <a:ext cx="223200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LIGNOCELULOS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Residuos Forestales, Agrícol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Plantacion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54560" y="2781360"/>
            <a:ext cx="0" cy="50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20000" y="270828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71640" y="1916280"/>
            <a:ext cx="1511280" cy="2017440"/>
            <a:chOff x="971640" y="1916280"/>
            <a:chExt cx="1511280" cy="2017440"/>
          </a:xfrm>
        </p:grpSpPr>
        <p:sp>
          <p:nvSpPr>
            <p:cNvPr id="202" name=""/>
            <p:cNvSpPr/>
            <p:nvPr/>
          </p:nvSpPr>
          <p:spPr>
            <a:xfrm>
              <a:off x="971640" y="1916280"/>
              <a:ext cx="1511280" cy="84132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AZUCAR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Caña de Azúcar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Remolacha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19280" y="2708280"/>
              <a:ext cx="0" cy="57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58920" y="3284640"/>
              <a:ext cx="914400" cy="6490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eaeaea"/>
                  </a:solidFill>
                  <a:latin typeface="Arial"/>
                </a:rPr>
                <a:t>Jarab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3562200" y="3284640"/>
            <a:ext cx="1584360" cy="57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Molien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54560" y="386064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27640" y="2997360"/>
            <a:ext cx="172728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Pretratamient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27640" y="4292640"/>
            <a:ext cx="1727280" cy="574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Tratamiento d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Celulosa 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20000" y="3860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221000"/>
            <a:ext cx="1727280" cy="57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Obtenció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úcares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4920" y="5157720"/>
            <a:ext cx="2376720" cy="1008000"/>
          </a:xfrm>
          <a:prstGeom prst="flowChartProcess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Fermentar, Destilar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Deshidrata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19280" y="3933720"/>
            <a:ext cx="0" cy="1511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5445000"/>
            <a:ext cx="1584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651640" y="544500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6308640"/>
            <a:ext cx="1512720" cy="3668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ETANO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5456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2000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54560" y="479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56000" y="6165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99280" y="5157720"/>
            <a:ext cx="1582560" cy="642600"/>
          </a:xfrm>
          <a:prstGeom prst="rect">
            <a:avLst/>
          </a:prstGeom>
          <a:solidFill>
            <a:srgbClr val="33cc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ucares fermentab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869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1052640"/>
            <a:ext cx="5400720" cy="388908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35280" y="2852640"/>
            <a:ext cx="2808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Primera Gener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2000" y="2781360"/>
            <a:ext cx="259236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Segunda Gener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95640" y="4292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1-2 cent/gal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20000" y="4437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20 cent/gal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1187280" y="1197000"/>
            <a:ext cx="1081080" cy="801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51280" y="1125360"/>
            <a:ext cx="1149480" cy="827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443640" y="1052640"/>
            <a:ext cx="1195560" cy="826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195640" y="549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Presentación 1:   2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 de Septiembr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981000"/>
            <a:ext cx="2881440" cy="4896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87640" y="5157720"/>
            <a:ext cx="2735280" cy="151128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5519880"/>
            <a:ext cx="2520720" cy="133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Formas de ferment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SHF, SSF, SSCF y CBP o DM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5-Ag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Ag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9-Ago Laboratorio    Experiencia "Normas de Bioseguridad parte 2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Ago Laboratorio 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2-Sep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9-Sep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6-Sep Vacacion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Sep Trabajo Grupal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700" spc="-1" strike="noStrike">
                <a:solidFill>
                  <a:srgbClr val="ffffcc"/>
                </a:solidFill>
                <a:latin typeface="Arial"/>
              </a:rPr>
              <a:t>Producción de Biomasa a escala Industrial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¿Qué es la fermentació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ció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1.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f. Acción y efecto de ferment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r.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(Del lat.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fermentāre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).</a:t>
            </a: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1.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intr. Dicho de los hidratos de carbono: Degradarse por acción enzimática, dando lugar a productos sencillos, como el alcohol etílic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¿Cómo debemos entender la fermentació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ción Anaeróbic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(ausencia de oxígeno): produce compuestos menos oxidad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ción Aeróbic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(presencia de oxígeno): produce compuestos algo más oxidad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¿Por qué en un microorganismo se produce la fermentació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eaeaea"/>
                </a:solidFill>
                <a:uFillTx/>
                <a:latin typeface="Verdana"/>
              </a:rPr>
              <a:t>Respuest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Para producir energí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eaeaea"/>
                </a:solidFill>
                <a:uFillTx/>
                <a:latin typeface="Verdana"/>
              </a:rPr>
              <a:t>Ejemplo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Levadura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Saccharomyces cerevisiae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en ausencia de oxígen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lucosa </a:t>
            </a:r>
            <a:r>
              <a:rPr b="0" lang="es-E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Etanol + CO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+ Energí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Tipos de Fermentació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197000"/>
          <a:ext cx="8748720" cy="5519880"/>
        </p:xfrm>
        <a:graphic>
          <a:graphicData uri="http://schemas.openxmlformats.org/drawingml/2006/table">
            <a:tbl>
              <a:tblPr/>
              <a:tblGrid>
                <a:gridCol w="2916360"/>
                <a:gridCol w="2916000"/>
                <a:gridCol w="291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Tipo de fermentació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Producto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Organismo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lcohól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Etanol +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Levadura (Saccharomyces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láct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láct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acterias del ácido láctico (Streptococcus, lactobacillus, etc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mixt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láctico, ácido acético, etanol,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, H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acterias entéricas (Escherichia, Salmonella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utanedio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utanediol, ácido láctico, ácido acético, etanol,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, H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acterias entéricas (Aerobacter, Serratia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burit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burítico, ácido acético,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, H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lgunos clostridios (Clostridium butyricum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etona – butano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etona, butanol, etano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lgunos clostridios (Clostridium acetobutylicum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propión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propión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Propionibacterium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roductos de la fermentació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Ácidos Orgánic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minoácid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Vitamin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Hormonas (esteroide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ntibiótic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Pickl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hucru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roductos de la fermentació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ceite de oliv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ceto balsám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alsa de soy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8-08-04T16:09:30Z</dcterms:modified>
  <cp:revision>140</cp:revision>
  <dc:subject/>
  <dc:title>Sin título de diapositiva</dc:title>
</cp:coreProperties>
</file>