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825-FA10-40F6-B54B-A0D544F9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4F7-979B-481E-A74F-CCE6963D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DFC-00AD-46AD-AD76-A4FE2697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E19-B96D-4699-92A8-260FBB85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F123-71AB-4B51-93C8-3C798D10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BB9C-92A4-44FA-9500-B52DF7A0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33A1-0EC1-498C-B1F3-12DF03B0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CE6B-6F2C-4253-8BAE-450280EA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DB5F-C667-4465-9452-00803CFA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FA3B-0C92-4A71-BE89-51089ADA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2C49-BC9E-4713-B496-542EFE21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052-A5E5-414B-B91A-A0275AC9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AFCA-25B1-4C19-9441-32C7270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9487-4CDF-4F8C-8F27-97C67BA3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B1E4-6BD3-45B6-9418-D9E40D93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D086-77BF-4F0A-A362-EA87A1E9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04EC-E766-46EE-8ED6-16D9A977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025-ED6D-43BE-9DA7-F0107825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666-6FCA-4975-B6C3-186F9DE7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C11-6E12-4B4F-BF6F-5A7134A9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1BF-F88E-411D-9F65-07766225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A71-0873-4CEF-8718-21C48FC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630-7FD8-427F-9B89-A419F628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06A-7139-4F56-A8DE-FC3D204B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6D5E-BE2C-4090-BAA6-4DE517C6ADA3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FA3-1D3E-414E-A821-49EBB42F3A61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600"/>
            </a:b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945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Bebidas Alcohól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ino y vinag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erv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a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03640" y="2930400"/>
            <a:ext cx="5178240" cy="28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006666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940360" y="1773360"/>
          <a:ext cx="2882880" cy="441792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0"/>
            <a:ext cx="86868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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71640" y="119700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71640" y="4724280"/>
                <a:ext cx="3659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79640" y="148428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332000" y="3716280"/>
            <a:ext cx="7812000" cy="2151000"/>
            <a:chOff x="1332000" y="371628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1332000" y="416700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329520" y="371628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284720" y="467028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826920" y="5805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xperimento 1- 26 de Agos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aboratorio    Experiencia "Cultivos Batch en Matraz de 500 ml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Cultivo Continu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Existen diferentes mo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 operar fermentador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inuo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Quimostato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(Perfectamente agitado, CSTR, RP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05520" y="98100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aracterísticas del Quimostato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e le llamó Quimostato dado que la composición química y biológica del medio se mantiene constante, para ello se debe controlar: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volumen del líquido en el reactor se mantiene constante, ajustando los flujos de entrada y salida al mismo val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pH del medio mediante la adición de ácido o base. Generalmente se adiciona ácid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suministro continuo de O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( o aire), en el caso de sistemas aeróbic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 nivel de agitación adecuado que garantice la homogeneidad del siste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os principales componentes de un cultivo continuo son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eactor de volumen consta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limentación de medio y salida de produc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Tanque estéril de medio (entrada y salid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trol de pH, T, OD (Oxígeno disuelto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ireación y agitació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81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0"/>
            <a:ext cx="86868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alance de Bioma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"/>
              <a:tabLst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87280" y="836640"/>
                <a:ext cx="6578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00720" y="3414600"/>
                <a:ext cx="549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11640" y="2708280"/>
                <a:ext cx="5284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202" name="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052640"/>
            <a:ext cx="5400720" cy="3889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2852640"/>
            <a:ext cx="280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781360"/>
            <a:ext cx="259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195640" y="54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Presentación 1:   2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 de Septiemb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981000"/>
            <a:ext cx="2881440" cy="489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5157720"/>
            <a:ext cx="2735280" cy="15112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5519880"/>
            <a:ext cx="2520720" cy="133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Formas de ferment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HF, SSF, SSCF y CBP o DM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5-Ag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Ag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9-Ago Laboratorio    Experiencia "Normas de Bioseguridad parte 2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Ago Laboratorio 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2-Sep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9-Sep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Sep Vaca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Sep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700" spc="-1" strike="noStrike">
                <a:solidFill>
                  <a:srgbClr val="ffffcc"/>
                </a:solidFill>
                <a:latin typeface="Arial"/>
              </a:rPr>
              <a:t>Producción de Biomasa a escala Industria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¿Qué es la fermentació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f. Acción y efecto de ferment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r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Del lat.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fermentār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.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intr. Dicho de los hidratos de carbono: Degradarse por acción enzimática, dando lugar a productos sencillos, como el alcohol etí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Cómo debemos entender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n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ausencia de oxígeno): produce compuestos meno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presencia de oxígeno): produce compuestos algo má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Por qué en un microorganismo se produce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Respuest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ara producir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Ejemplo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evadura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Saccharomyces cerevisia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n ausencia de oxígen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lucosa </a:t>
            </a:r>
            <a:r>
              <a:rPr b="0" lang="es-E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tanol + CO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+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Tipos de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97000"/>
          <a:ext cx="8748720" cy="551988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Tipo de fermentac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duct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Organism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cohól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tanol +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Levadura (Saccharomyce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del ácido láctico (Streptococcus, lactobacillus, etc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mixt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Escherichia, Salmonell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Aerobacter, Serrati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i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ítico, ácido acético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butyr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 – bu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, butanol, e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acetobutyl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pionibacterium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Ácidos Orgán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minoáci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Vitamin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Hormonas (esteroid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ntibiót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ick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ucr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ite de oliv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to balsám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alsa de soy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8-08-04T16:09:30Z</dcterms:modified>
  <cp:revision>140</cp:revision>
  <dc:subject/>
  <dc:title>Sin título de diapositiva</dc:title>
</cp:coreProperties>
</file>