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CA6-5B9E-402E-B0CD-F3A11AA2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165-4867-4D80-8E37-CEAC9175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ACF-BC39-43D5-9464-CBE57DC2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4E4-2B8D-4B73-B67E-1943118A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2AE4-DF64-420D-AE08-21A0B792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842C-6F86-4E5B-B7BB-EDB33917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CACB-01B6-40E4-9173-F8BD6210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5CEB-B5D0-455B-AADF-807B04A4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3C3E-F857-432D-A8DE-696C9928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5F9B-9E59-47E7-8608-FB2E6601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70BB-FC3F-4879-BF2E-2152B4A0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637-A08C-4D5B-8A76-06F9DAF9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83FC-9217-4277-963A-4B189257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3845-2679-462E-AFE4-2FF05186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4A57-7F5B-4916-83B4-3FC17D04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F49B-7732-4ED6-B2CC-9D20D17C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E161-7D74-4BF6-AC47-1E9E5F0C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E5D-81E5-4CD7-8DE6-27A69FA0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122-518F-409F-8B98-13936A73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59E-1083-4DDF-A87F-B2161F68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940-BDAE-4ED3-BCD5-D2C6E77F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92D-A2F3-4693-BA18-BDF87B78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049-B7BB-4029-9558-2589BF2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BE9-6B87-4E21-A2F2-1F4C35AD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C304-31AC-4EFF-A9ED-D7586EDA7717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3A44-0512-42D3-83CE-5B954CC3C28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600"/>
            </a:b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6945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Bebidas Alcohól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ino y vinag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erve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ak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03640" y="2930400"/>
            <a:ext cx="5178240" cy="2822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006666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940360" y="1773360"/>
          <a:ext cx="2882880" cy="441792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0"/>
            <a:ext cx="86868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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71640" y="119700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71640" y="4724280"/>
                <a:ext cx="3659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79640" y="148428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332000" y="3716280"/>
            <a:ext cx="7812000" cy="2151000"/>
            <a:chOff x="1332000" y="371628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1332000" y="416700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329520" y="371628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284720" y="467028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826920" y="5805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xperimento 1- 26 de Agos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Laboratorio    Experiencia "Cultivos Batch en Matraz de 500 ml"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Cultivo Continu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Existen diferentes mo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 operar fermentador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tinuo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Quimostato</a:t>
            </a:r>
            <a:r>
              <a:rPr b="1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(Perfectamente agitado, CSTR, RPA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Verdan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05520" y="98100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aracterísticas del Quimostato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Se le llamó Quimostato dado que la composición química y biológica del medio se mantiene constante, para ello se debe controlar: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volumen del líquido en el reactor se mantiene constante, ajustando los flujos de entrada y salida al mismo valo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pH del medio mediante la adición de ácido o base. Generalmente se adiciona ácid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suministro continuo de O</a:t>
            </a:r>
            <a:r>
              <a:rPr b="0" lang="es-E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( o aire), en el caso de sistemas aeróbico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n nivel de agitación adecuado que garantice la homogeneidad del sistem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os principales componentes de un cultivo continuo son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eactor de volumen consta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limentación de medio y salida de product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Tanque estéril de medio (entrada y salid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trol de pH, T, OD (Oxígeno disuelto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istema de aireación y agitació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81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0"/>
            <a:ext cx="868680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alance de Bioma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"/>
              <a:tabLst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87280" y="836640"/>
                <a:ext cx="65786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00720" y="3414600"/>
                <a:ext cx="549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11640" y="2708280"/>
                <a:ext cx="5284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8920" y="0"/>
            <a:ext cx="68421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BIOMASA UTILIZADA EN LA PRODUCCION DE BIOETAN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1916280"/>
            <a:ext cx="1871640" cy="8413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LMID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Arial"/>
              </a:rPr>
              <a:t>Maíz, Trigo, Pap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38920" y="1844640"/>
            <a:ext cx="223200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LIGNOCELULOS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Residuos Forestales, Agrícol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Arial"/>
              </a:rPr>
              <a:t>Plantacion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54560" y="2781360"/>
            <a:ext cx="0" cy="50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20000" y="270828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71640" y="1916280"/>
            <a:ext cx="1511280" cy="2017440"/>
            <a:chOff x="971640" y="1916280"/>
            <a:chExt cx="1511280" cy="2017440"/>
          </a:xfrm>
        </p:grpSpPr>
        <p:sp>
          <p:nvSpPr>
            <p:cNvPr id="202" name=""/>
            <p:cNvSpPr/>
            <p:nvPr/>
          </p:nvSpPr>
          <p:spPr>
            <a:xfrm>
              <a:off x="971640" y="1916280"/>
              <a:ext cx="1511280" cy="84132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AZUCA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Caña de Azúca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eaeaea"/>
                  </a:solidFill>
                  <a:latin typeface="Arial"/>
                </a:rPr>
                <a:t>Remolach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19280" y="2708280"/>
              <a:ext cx="0" cy="576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58920" y="3284640"/>
              <a:ext cx="914400" cy="64908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Arial"/>
                </a:rPr>
                <a:t>Jarab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562200" y="3284640"/>
            <a:ext cx="1584360" cy="576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Molien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4560" y="3860640"/>
            <a:ext cx="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27640" y="2997360"/>
            <a:ext cx="1727280" cy="8650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Pretratamien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4292640"/>
            <a:ext cx="1727280" cy="5745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Tratamiento 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Celulosa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20000" y="3860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221000"/>
            <a:ext cx="1727280" cy="57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Obtenció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úcares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4920" y="5157720"/>
            <a:ext cx="2376720" cy="1008000"/>
          </a:xfrm>
          <a:prstGeom prst="flowChartProcess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Fermentar, Destilar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Deshidrat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3933720"/>
            <a:ext cx="0" cy="151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5445000"/>
            <a:ext cx="15843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651640" y="544500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6308640"/>
            <a:ext cx="1512720" cy="366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</a:rPr>
              <a:t>ETAN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5456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20000" y="155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54560" y="479736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616572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99280" y="5157720"/>
            <a:ext cx="1582560" cy="642600"/>
          </a:xfrm>
          <a:prstGeom prst="rect">
            <a:avLst/>
          </a:prstGeom>
          <a:solidFill>
            <a:srgbClr val="33cc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Arial"/>
              </a:rPr>
              <a:t>Azucares fermenta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86900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052640"/>
            <a:ext cx="5400720" cy="38890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2852640"/>
            <a:ext cx="2808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Primera Gene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781360"/>
            <a:ext cx="2592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egunda Gener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95640" y="4292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1-2 cent/gal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0000" y="44370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20 cent/gal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1187280" y="1197000"/>
            <a:ext cx="1081080" cy="801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51280" y="1125360"/>
            <a:ext cx="1149480" cy="827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443640" y="1052640"/>
            <a:ext cx="1195560" cy="826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195640" y="549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Presentación 1:   2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 de Septiemb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981000"/>
            <a:ext cx="2881440" cy="4896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5157720"/>
            <a:ext cx="2735280" cy="15112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5519880"/>
            <a:ext cx="2520720" cy="133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Formas de ferment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SHF, SSF, SSCF y CBP o DM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5-Ag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Ag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9-Ago Laboratorio    Experiencia "Normas de Bioseguridad parte 2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Ago Laboratorio 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2-Sep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9-Sep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6-Sep Vacacion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Sep Trabajo Grupal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700" spc="-1" strike="noStrike">
                <a:solidFill>
                  <a:srgbClr val="ffffcc"/>
                </a:solidFill>
                <a:latin typeface="Arial"/>
              </a:rPr>
              <a:t>Producción de Biomasa a escala Industria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¿Qué es la fermentació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f. Acción y efecto de ferment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r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Del lat.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fermentār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).</a:t>
            </a: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intr. Dicho de los hidratos de carbono: Degradarse por acción enzimática, dando lugar a productos sencillos, como el alcohol etílic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Cómo debemos entender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n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ausencia de oxígeno): produce compuestos meno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Fermentación Aeróbic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(presencia de oxígeno): produce compuestos algo más oxidad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¿Por qué en un microorganismo se produce la fermentació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Respuest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ara producir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eaeaea"/>
                </a:solidFill>
                <a:uFillTx/>
                <a:latin typeface="Verdana"/>
              </a:rPr>
              <a:t>Ejemplo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evadura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Saccharomyces cerevisiae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n ausencia de oxígen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lucosa </a:t>
            </a:r>
            <a:r>
              <a:rPr b="0" lang="es-E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Etanol + CO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+ Energí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Tipos de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97000"/>
          <a:ext cx="8748720" cy="551988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Tipo de fermentac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duct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Organismo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cohól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tanol +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Levadura (Saccharomyces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del ácido láctico (Streptococcus, lactobacillus, etc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mixt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Escherichia, Salmonell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acterias entéricas (Aerobacter, Serratia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it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burítico, ácido acético, CO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, H</a:t>
                      </a:r>
                      <a:r>
                        <a:rPr b="0" lang="es-ES" sz="1600" spc="-1" strike="noStrike" baseline="-30000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butyr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 – bu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etona, butanol, etano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lgunos clostridios (Clostridium acetobutylicum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ido propiónic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ropionibacterium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Ácidos Orgán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minoáci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Vitamin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Hormonas (esteroide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ntibiótic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Pickl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ucr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Productos de la fermentación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ite de oliv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ceto balsám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alsa de soy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8-08-04T16:09:30Z</dcterms:modified>
  <cp:revision>140</cp:revision>
  <dc:subject/>
  <dc:title>Sin título de diapositiva</dc:title>
</cp:coreProperties>
</file>