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4098-4CE3-40B4-8EC3-E091ACA0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C1D2-A791-493B-824D-03EBD823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949B-4825-4EFA-99B8-87C57A18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B2C7-3FFA-4243-8279-F8D08A67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22A7-99FF-426A-8561-C8A3FD0B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1345-649E-40E3-8F4C-7A4F1D17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2CC4-8236-42B9-B7CA-C7FF54DA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283C-7F92-4B08-A3A8-8D851E5D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CA6A-89CE-4170-A7F8-FD344108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C76C-C0E7-4775-918B-A8715CD7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069F-3D24-425F-AA59-E50B5FEB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5F0F-B0F0-400F-BD12-978E9349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9514-10C1-458E-A52B-3D587611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6C2E-157B-47B5-BE3A-0B345F77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6694-A700-4996-ACA8-AAE07E4D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C744-5A9F-4218-8D52-08376274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1F6C-7D48-48A2-BC8F-878C29DD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E1CC-AF2E-4AB3-B677-47BC28DA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3012-2583-4A20-BB19-9167D911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8E58-44B7-45C9-B360-F0FDC0D4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00A-2325-4DC3-95B3-093F0FC5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28F4-BB99-4F98-96A5-FCFCD963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452D-69F7-4C39-8AB8-4AD4C32C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20C6-E0C4-43E3-8A57-87CE3F54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896B-00FF-4A92-9966-E832FE4C0B95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0F89-8F02-45F8-9E7B-B3D816DD6C91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1960" y="1715760"/>
            <a:ext cx="734040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iseño e Implementación de un proceso de producción de biomasa en altas concentraciones para la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producción de bio-etanol de segunda generación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M.Elena Lienque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entro de Ing. Bioquímica y Biotecnologí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Facultad de Ciencias. Físicas y Matemátic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mlienque@ing.uchile.c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908000" y="404640"/>
          <a:ext cx="4324680" cy="50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04640"/>
                    <a:ext cx="432468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2627280" y="3716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¿¿Preguntas?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58920" y="0"/>
            <a:ext cx="684216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BIOMASA UTILIZADA EN LA PRODUCCION DE BIOETANO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19640" y="1916280"/>
            <a:ext cx="1871640" cy="8413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LMID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Arial"/>
              </a:rPr>
              <a:t>Maíz, Trigo, Papa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38920" y="1844640"/>
            <a:ext cx="223200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LIGNOCELULOS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</a:rPr>
              <a:t>Residuos Forestales, Agrícola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</a:rPr>
              <a:t>Plantacion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4560" y="2781360"/>
            <a:ext cx="0" cy="504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20000" y="270828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71640" y="1916280"/>
            <a:ext cx="1511280" cy="2017440"/>
            <a:chOff x="971640" y="1916280"/>
            <a:chExt cx="1511280" cy="2017440"/>
          </a:xfrm>
        </p:grpSpPr>
        <p:sp>
          <p:nvSpPr>
            <p:cNvPr id="122" name=""/>
            <p:cNvSpPr/>
            <p:nvPr/>
          </p:nvSpPr>
          <p:spPr>
            <a:xfrm>
              <a:off x="971640" y="1916280"/>
              <a:ext cx="1511280" cy="84132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AZUCAR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Caña de Azúcar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Remolacha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19280" y="2708280"/>
              <a:ext cx="0" cy="576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920" y="3284640"/>
              <a:ext cx="914400" cy="64908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eaeaea"/>
                  </a:solidFill>
                  <a:latin typeface="Arial"/>
                </a:rPr>
                <a:t>Jarab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562200" y="3284640"/>
            <a:ext cx="1584360" cy="576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Moliend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4560" y="386064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27640" y="2997360"/>
            <a:ext cx="172728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Pretratamient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292640"/>
            <a:ext cx="1727280" cy="5745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Tratamiento 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Celulosa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20000" y="386064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90920" y="4221000"/>
            <a:ext cx="1727280" cy="5749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Obtención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zúcares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4920" y="5157720"/>
            <a:ext cx="2376720" cy="1008000"/>
          </a:xfrm>
          <a:prstGeom prst="flowChartProcess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Fermentar, Destilar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Deshidrata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3933720"/>
            <a:ext cx="0" cy="1511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5445000"/>
            <a:ext cx="15843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651640" y="5445000"/>
            <a:ext cx="576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06920" y="6308640"/>
            <a:ext cx="1512720" cy="3668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ETANO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1928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5456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2000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54560" y="479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6165720"/>
            <a:ext cx="0" cy="142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99280" y="5157720"/>
            <a:ext cx="1582560" cy="642600"/>
          </a:xfrm>
          <a:prstGeom prst="rect">
            <a:avLst/>
          </a:prstGeom>
          <a:solidFill>
            <a:srgbClr val="33cc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zucares fermentabl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20000" y="486900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1052640"/>
            <a:ext cx="5400720" cy="580536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5950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Primera Generació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00720" y="609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Segunda Generació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4292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1-2 cent/galó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920000" y="44370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20 cent/galó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1187280" y="1197000"/>
            <a:ext cx="1081080" cy="801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3851280" y="1125360"/>
            <a:ext cx="1149480" cy="827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443640" y="1052640"/>
            <a:ext cx="11955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Etapas básicas del proceso de producción de Bioetanol de segunda Generació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49280" y="2060640"/>
            <a:ext cx="8694720" cy="4459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788000" y="3429000"/>
            <a:ext cx="2376360" cy="2016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tap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2090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Comprender el proceso de producción de bioetano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ferenciar entre bio-etanol de primera y segunda genera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Presentación sobre bio-etanol de primera y segunda genera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tap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omprender en que consiste una fermentació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Diferentes Formas de operar una fermentació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atc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ntinu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en serie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Laboratorio para hacer una fermentación batch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6945840" y="1965240"/>
            <a:ext cx="1908720" cy="2271960"/>
            <a:chOff x="6945840" y="1965240"/>
            <a:chExt cx="1908720" cy="2271960"/>
          </a:xfrm>
        </p:grpSpPr>
        <p:sp>
          <p:nvSpPr>
            <p:cNvPr id="161" name=""/>
            <p:cNvSpPr/>
            <p:nvPr/>
          </p:nvSpPr>
          <p:spPr>
            <a:xfrm rot="20403600">
              <a:off x="7235640" y="2133360"/>
              <a:ext cx="1328400" cy="193500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7296120" y="2133720"/>
              <a:ext cx="1267920" cy="1935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tap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señar una forma optimizada de llevar a cabo una fermentación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Presentación 2: Propuestas de forma de optimizar una fermenta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HACER UN PROTOTIPO DE LA FORMA OPTIMIZAD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Presentación 3: EL PROTOTIP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308720" y="907920"/>
            <a:ext cx="163044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Trabajo en Equipo de 3-4 person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Entregas de Informes escrit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879840" indent="-1756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3 Inform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esentaciones Orales por cada Inform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879840" indent="-1756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3 Presentacion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Desarrollo del prototip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87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Evalu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N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f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= 10%*Ni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+15% Ni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+ 25% Ni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+ 20%*N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p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 + 30% Prototip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3049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Forma de trabajo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alendario de Actividad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5-Ago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2-Ago Laboratorio    Experiencia "Normas de Bioseguridad parte 1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9-Ago Laboratorio    Experiencia "Normas de Bioseguridad parte 2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6-Ago Laboratorio    Experiencia "Cultivos Batch en Matraz de 500 ml"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2-Sep Presentaciones sobre producción de Bioetanol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9-Sep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6-Sep Vacacion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3-Sep Trabajo Grupal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30-Sep Semana Olímpic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7-Oct Trabajo Grupal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4-Oct Presentación Informal y Entrega Informe II   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1-Oct Prueba Prototipo Se presenta la idea del prototipo. Debe ser aprobada la idea para prosegui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8-Oct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4-Nov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1-Nov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8-Nov Presentación y Entrega Informe III    Informe Final de resultados del prototipo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21:24:28Z</dcterms:created>
  <dc:creator>guest</dc:creator>
  <dc:description/>
  <dc:language>en-US</dc:language>
  <cp:lastModifiedBy>Ing Quimica</cp:lastModifiedBy>
  <dcterms:modified xsi:type="dcterms:W3CDTF">2008-07-28T21:30:14Z</dcterms:modified>
  <cp:revision>107</cp:revision>
  <dc:subject/>
  <dc:title>Diapositiva 1</dc:title>
</cp:coreProperties>
</file>