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jpeg" ContentType="image/jpeg"/>
  <Override PartName="/ppt/media/image7.wmf" ContentType="image/x-wm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2D7A-1025-4728-A9CF-058AF816E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15F3-8D7D-486D-BECC-7D7E9781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EC7D-BF66-4CAE-9DB7-308E5A436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F639-7DB6-4646-ACB4-D1E433A2F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5C38-4820-40E4-91A0-6B1B6760E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9794-7193-4DCE-BDBF-23B70C63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FDC1-6C30-41C7-A917-5A26BDEE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F505-D68B-4A62-AC46-EA5A3210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2F6D-61C1-426E-9310-351530C3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236A-C16E-4AA9-85B3-2A4EED04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B55B6-47BA-4AFA-B522-794A43A7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93D6-5B6B-4323-8A69-54CB3119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A72F-9BDB-44AA-9FAC-5ACD8B80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DA84-6648-44AA-BD4E-4ECDCC88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3923-1914-4309-8793-A6B94E4B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F825D-27D6-4532-9AB0-7E7363C3F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34BC-6577-466D-90A2-BCD9EC240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950F-9E2C-4828-B82B-8C28E8FE9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F55A-6F38-4B9A-B74F-E8E8E561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65DD-0B2E-475C-AC05-2C96F950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CE30-07E6-4C95-B2F2-A6751508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E69A-4814-40CF-A2BB-D7F0C267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8379-81D9-4B10-A92C-232BF49B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B483-8966-4A46-A73A-14DFC034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B6D9-994C-4344-AA96-67F94619DD83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3CA8-4350-4D6D-9EFE-F433B7576414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1960" y="1715760"/>
            <a:ext cx="734040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Diseño e Implementación de un proceso de producción de biomasa en altas concentraciones para la 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producción de bio-etanol de segunda generación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M.Elena Lienque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Centro de Ing. Bioquímica y Biotecnologí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Facultad de Ciencias. Físicas y Matemática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Universidad de Chil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mlienque@ing.uchile.c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1908000" y="404640"/>
          <a:ext cx="4324680" cy="506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404640"/>
                    <a:ext cx="432468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2627280" y="37162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Arial"/>
              </a:rPr>
              <a:t>¿¿Preguntas?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58920" y="0"/>
            <a:ext cx="6842160" cy="91440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BIOMASA UTILIZADA EN LA PRODUCCION DE BIOETANO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19640" y="1916280"/>
            <a:ext cx="1871640" cy="8413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ALMID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aeaea"/>
                </a:solidFill>
                <a:latin typeface="Arial"/>
              </a:rPr>
              <a:t>Maíz, Trigo, Papa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38920" y="1844640"/>
            <a:ext cx="2232000" cy="86508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LIGNOCELULOS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</a:rPr>
              <a:t>Residuos Forestales, Agrícola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</a:rPr>
              <a:t>Plantacion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54560" y="2781360"/>
            <a:ext cx="0" cy="5047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20000" y="2708280"/>
            <a:ext cx="0" cy="289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71640" y="1916280"/>
            <a:ext cx="1511280" cy="2017440"/>
            <a:chOff x="971640" y="1916280"/>
            <a:chExt cx="1511280" cy="2017440"/>
          </a:xfrm>
        </p:grpSpPr>
        <p:sp>
          <p:nvSpPr>
            <p:cNvPr id="122" name=""/>
            <p:cNvSpPr/>
            <p:nvPr/>
          </p:nvSpPr>
          <p:spPr>
            <a:xfrm>
              <a:off x="971640" y="1916280"/>
              <a:ext cx="1511280" cy="84132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eaeaea"/>
                  </a:solidFill>
                  <a:latin typeface="Arial"/>
                </a:rPr>
                <a:t>AZUCAR</a:t>
              </a:r>
              <a:endParaRPr b="0" lang="en-US" sz="1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eaeaea"/>
                  </a:solidFill>
                  <a:latin typeface="Arial"/>
                </a:rPr>
                <a:t>Caña de Azúcar</a:t>
              </a:r>
              <a:endParaRPr b="0" lang="en-US" sz="1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eaeaea"/>
                  </a:solidFill>
                  <a:latin typeface="Arial"/>
                </a:rPr>
                <a:t>Remolacha</a:t>
              </a:r>
              <a:endParaRPr b="0" lang="en-US" sz="1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19280" y="2708280"/>
              <a:ext cx="0" cy="5763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920" y="3284640"/>
              <a:ext cx="914400" cy="64908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eaeaea"/>
                  </a:solidFill>
                  <a:latin typeface="Arial"/>
                </a:rPr>
                <a:t>Jarabe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562200" y="3284640"/>
            <a:ext cx="1584360" cy="5760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Moliend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54560" y="3860640"/>
            <a:ext cx="0" cy="289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27640" y="2997360"/>
            <a:ext cx="1727280" cy="86508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Pretratamient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292640"/>
            <a:ext cx="1727280" cy="57456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Tratamiento d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Celulosa  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20000" y="3860640"/>
            <a:ext cx="0" cy="360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90920" y="4221000"/>
            <a:ext cx="1727280" cy="5749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Obtención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azúcares 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74920" y="5157720"/>
            <a:ext cx="2376720" cy="1008000"/>
          </a:xfrm>
          <a:prstGeom prst="flowChartProcess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Fermentar, Destilar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Deshidrata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19280" y="3933720"/>
            <a:ext cx="0" cy="1511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19280" y="5445000"/>
            <a:ext cx="158436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651640" y="5445000"/>
            <a:ext cx="5760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06920" y="6308640"/>
            <a:ext cx="1512720" cy="36684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ETANO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19280" y="1557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54560" y="1557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20000" y="1557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54560" y="4797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56000" y="6165720"/>
            <a:ext cx="0" cy="1429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99280" y="5157720"/>
            <a:ext cx="1582560" cy="642600"/>
          </a:xfrm>
          <a:prstGeom prst="rect">
            <a:avLst/>
          </a:prstGeom>
          <a:solidFill>
            <a:srgbClr val="33cc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Azucares fermentable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20000" y="4869000"/>
            <a:ext cx="0" cy="360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1052640"/>
            <a:ext cx="5400720" cy="580536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4360" y="59500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Primera Generació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00720" y="6093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Segunda Generació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95640" y="429264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1-2 cent/galó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920000" y="443700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20 cent/galó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>
            <a:lum bright="-36000"/>
          </a:blip>
          <a:stretch/>
        </p:blipFill>
        <p:spPr>
          <a:xfrm>
            <a:off x="1187280" y="1197000"/>
            <a:ext cx="1081080" cy="801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3851280" y="1125360"/>
            <a:ext cx="1149480" cy="827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6443640" y="1052640"/>
            <a:ext cx="119556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Etapas básicas del proceso de producción de Bioetanol de segunda Generació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49280" y="2060640"/>
            <a:ext cx="8694720" cy="44593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788000" y="3429000"/>
            <a:ext cx="2376360" cy="201600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Etap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82090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Comprender el proceso de producción de bioetanol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Diferenciar entre bio-etanol de primera y segunda generació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Presentación sobre bio-etanol de primera y segunda generació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775640" y="0"/>
            <a:ext cx="993600" cy="162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Etap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4247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Comprender en que consiste una fermentació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Diferentes Formas de operar una fermentació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atch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ntinu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élulas inmovilizada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ultivos de perfusió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ultivos en serie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Fed-batch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Fermentación en estado sólido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Laboratorio para hacer una fermentación batch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775640" y="0"/>
            <a:ext cx="993600" cy="162864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6945840" y="1965240"/>
            <a:ext cx="1908720" cy="2271960"/>
            <a:chOff x="6945840" y="1965240"/>
            <a:chExt cx="1908720" cy="2271960"/>
          </a:xfrm>
        </p:grpSpPr>
        <p:sp>
          <p:nvSpPr>
            <p:cNvPr id="161" name=""/>
            <p:cNvSpPr/>
            <p:nvPr/>
          </p:nvSpPr>
          <p:spPr>
            <a:xfrm rot="20403600">
              <a:off x="7235640" y="2133360"/>
              <a:ext cx="1328400" cy="193500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7296120" y="2133720"/>
              <a:ext cx="1267920" cy="1935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Etap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7067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Diseñar una forma optimizada de llevar a cabo una fermentación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Presentación 2: Propuestas de forma de optimizar una fermentació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HACER UN PROTOTIPO DE LA FORMA OPTIMIZAD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Presentación 3: EL PROTOTIP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308720" y="907920"/>
            <a:ext cx="1630440" cy="17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Trabajo en Equipo de 3-4 persona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Entregas de Informes escrito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879840" indent="-1756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3 Inform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Presentaciones Orales por cada Inform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879840" indent="-1756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3 Presentacion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Desarrollo del prototip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87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Evaluació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N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Verdana"/>
                <a:ea typeface="Times New Roman"/>
              </a:rPr>
              <a:t>f</a:t>
            </a:r>
            <a:r>
              <a:rPr b="0" lang="es-ES_tradnl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 = 10%*Ni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Verdana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+15% Ni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Verdana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 + 25% Ni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Verdana"/>
                <a:ea typeface="Times New Roman"/>
              </a:rPr>
              <a:t>3</a:t>
            </a:r>
            <a:r>
              <a:rPr b="0" lang="es-ES_tradnl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 + 20%*N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Verdana"/>
                <a:ea typeface="Times New Roman"/>
              </a:rPr>
              <a:t>p</a:t>
            </a: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 + 30% Prototip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1523880" y="304920"/>
            <a:ext cx="56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Forma de trabajo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alendario de Actividad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05-Ago Formas de llevar a cabo una fermentació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2-Ago Laboratorio    Experiencia "Normas de Bioseguridad parte 1”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9-Ago Laboratorio    Experiencia "Normas de Bioseguridad parte 2”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6-Ago Laboratorio    Experiencia "Cultivos Batch en Matraz de 500 ml"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02-Sep Presentaciones sobre producción de Bioetanol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09-Sep Formas de llevar a cabo una fermentació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6-Sep Vacacion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3-Sep Trabajo Grupal desarrollo de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8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30-Sep Semana Olímpic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07-Oct Trabajo Grupal desarrollo de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4-Oct Presentación Informal y Entrega Informe II   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1-Oct Prueba Prototipo Se presenta la idea del prototipo. Debe ser aprobada la idea para prosegui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8-Oct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04-Nov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1-Nov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8-Nov Presentación y Entrega Informe III    Informe Final de resultados del prototipo</a:t>
            </a: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21:24:28Z</dcterms:created>
  <dc:creator>guest</dc:creator>
  <dc:description/>
  <dc:language>en-US</dc:language>
  <cp:lastModifiedBy>Ing Quimica</cp:lastModifiedBy>
  <dcterms:modified xsi:type="dcterms:W3CDTF">2008-07-28T21:30:14Z</dcterms:modified>
  <cp:revision>107</cp:revision>
  <dc:subject/>
  <dc:title>Diapositiva 1</dc:title>
</cp:coreProperties>
</file>