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jpeg" ContentType="image/jpeg"/>
  <Override PartName="/ppt/media/image7.wmf" ContentType="image/x-wmf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D388-AB4C-4A38-8FFC-B085102DF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37EE-E1A3-44E4-AE71-5B39F1606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AD4A-CB92-4CD1-81D5-A81C1B1BC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F587-7AE4-4BA3-A24B-83D9B3C04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9A40A-CBA9-4CC7-B2E5-8869E4BD3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2FA5F-A150-4F86-8C63-56DB8039A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68334-CA37-45F3-B0C2-644973010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5E440-CA9F-4789-90AE-8FC3F1535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6C44B-84E9-455E-9452-F9BECD0EA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53FC7-D67D-44CC-9C4A-309FD0627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BA416-A0F3-4BF3-A205-309D998F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33B4-7755-42BB-95D0-DA0977E1D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FF8B4-7B64-4F62-B87D-4F9A65D7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26E0A-2F3F-4B24-8B44-818BA9AF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BD161-840E-4D9C-BE6B-6BBB50248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00021-270E-4F34-900B-35F7293BB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48D54-4DBE-4AED-8D58-3B2F9A06F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CFE7-A01A-43FE-96C9-D29479E12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B87E-8E14-4A9B-9533-D633BC51D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BC2C-7B05-48E4-99FB-2E2F2B555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C1B4-69BE-4F4C-B013-0EC63D267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D296-0092-4A71-BF67-27CB2234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10D8-F4A4-4C21-8172-5BE8377B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BE23-DA77-459B-90B8-F7A2BE9A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B4BC5-6B06-4E9D-BD0B-9FCB8E4E1096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C29D5-6A1F-4B71-BDAC-F97E281973D0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1960" y="1715760"/>
            <a:ext cx="7340400" cy="15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Diseño e Implementación de un proceso de producción de biomasa en altas concentraciones para la 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producción de bio-etanol de segunda generación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40328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M.Elena Lienque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Centro de Ing. Bioquímica y Biotecnología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Facultad de Ciencias. Físicas y Matemática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Universidad de Chil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mlienque@ing.uchile.c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1908000" y="404640"/>
          <a:ext cx="4324680" cy="506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404640"/>
                    <a:ext cx="4324680" cy="50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2627280" y="371628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6"/>
                </a:solidFill>
                <a:latin typeface="Arial"/>
              </a:rPr>
              <a:t>¿¿Preguntas?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58920" y="0"/>
            <a:ext cx="6842160" cy="91440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</a:rPr>
              <a:t>BIOMASA UTILIZADA EN LA PRODUCCION DE BIOETANO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19640" y="1916280"/>
            <a:ext cx="1871640" cy="84132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ALMIDO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aeaea"/>
                </a:solidFill>
                <a:latin typeface="Arial"/>
              </a:rPr>
              <a:t>Maíz, Trigo, Papa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938920" y="1844640"/>
            <a:ext cx="2232000" cy="86508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LIGNOCELULOS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Arial"/>
              </a:rPr>
              <a:t>Residuos Forestales, Agrícola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Arial"/>
              </a:rPr>
              <a:t>Plantacione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54560" y="2781360"/>
            <a:ext cx="0" cy="5047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020000" y="2708280"/>
            <a:ext cx="0" cy="2890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971640" y="1916280"/>
            <a:ext cx="1511280" cy="2017440"/>
            <a:chOff x="971640" y="1916280"/>
            <a:chExt cx="1511280" cy="2017440"/>
          </a:xfrm>
        </p:grpSpPr>
        <p:sp>
          <p:nvSpPr>
            <p:cNvPr id="122" name=""/>
            <p:cNvSpPr/>
            <p:nvPr/>
          </p:nvSpPr>
          <p:spPr>
            <a:xfrm>
              <a:off x="971640" y="1916280"/>
              <a:ext cx="1511280" cy="841320"/>
            </a:xfrm>
            <a:prstGeom prst="rect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eaeaea"/>
                  </a:solidFill>
                  <a:latin typeface="Arial"/>
                </a:rPr>
                <a:t>AZUCAR</a:t>
              </a:r>
              <a:endParaRPr b="0" lang="en-US" sz="14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eaeaea"/>
                  </a:solidFill>
                  <a:latin typeface="Arial"/>
                </a:rPr>
                <a:t>Caña de Azúcar</a:t>
              </a:r>
              <a:endParaRPr b="0" lang="en-US" sz="14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eaeaea"/>
                  </a:solidFill>
                  <a:latin typeface="Arial"/>
                </a:rPr>
                <a:t>Remolacha</a:t>
              </a:r>
              <a:endParaRPr b="0" lang="en-US" sz="1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19280" y="2708280"/>
              <a:ext cx="0" cy="5763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920" y="3284640"/>
              <a:ext cx="914400" cy="649080"/>
            </a:xfrm>
            <a:prstGeom prst="rect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eaeaea"/>
                  </a:solidFill>
                  <a:latin typeface="Arial"/>
                </a:rPr>
                <a:t>Jarabe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3562200" y="3284640"/>
            <a:ext cx="1584360" cy="5760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Moliend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354560" y="3860640"/>
            <a:ext cx="0" cy="2890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227640" y="2997360"/>
            <a:ext cx="1727280" cy="86508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Pretratamient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4292640"/>
            <a:ext cx="1727280" cy="57456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Tratamiento d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Celulosa   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020000" y="3860640"/>
            <a:ext cx="0" cy="360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90920" y="4221000"/>
            <a:ext cx="1727280" cy="57492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Obtención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azúcares  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74920" y="5157720"/>
            <a:ext cx="2376720" cy="1008000"/>
          </a:xfrm>
          <a:prstGeom prst="flowChartProcess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</a:rPr>
              <a:t>Fermentar, Destilar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</a:rPr>
              <a:t>Deshidratar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19280" y="3933720"/>
            <a:ext cx="0" cy="1511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19280" y="5445000"/>
            <a:ext cx="158436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5651640" y="5445000"/>
            <a:ext cx="5760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706920" y="6308640"/>
            <a:ext cx="1512720" cy="36684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</a:rPr>
              <a:t>ETANO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19280" y="1557360"/>
            <a:ext cx="0" cy="287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354560" y="1557360"/>
            <a:ext cx="0" cy="287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020000" y="1557360"/>
            <a:ext cx="0" cy="287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354560" y="4797360"/>
            <a:ext cx="0" cy="287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356000" y="6165720"/>
            <a:ext cx="0" cy="1429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299280" y="5157720"/>
            <a:ext cx="1582560" cy="642600"/>
          </a:xfrm>
          <a:prstGeom prst="rect">
            <a:avLst/>
          </a:prstGeom>
          <a:solidFill>
            <a:srgbClr val="33cc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Azucares fermentable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20000" y="4869000"/>
            <a:ext cx="0" cy="360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1052640"/>
            <a:ext cx="5400720" cy="580536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4360" y="59500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Primera Generació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300720" y="6093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Segunda Generació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95640" y="429264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0000"/>
                </a:solidFill>
                <a:latin typeface="Arial"/>
              </a:rPr>
              <a:t>1-2 cent/galó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920000" y="443700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0000"/>
                </a:solidFill>
                <a:latin typeface="Arial"/>
              </a:rPr>
              <a:t>20 cent/galó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>
            <a:lum bright="-36000"/>
          </a:blip>
          <a:stretch/>
        </p:blipFill>
        <p:spPr>
          <a:xfrm>
            <a:off x="1187280" y="1197000"/>
            <a:ext cx="1081080" cy="801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3851280" y="1125360"/>
            <a:ext cx="1149480" cy="8272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6443640" y="1052640"/>
            <a:ext cx="1195560" cy="8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Etapas básicas del proceso de producción de Bioetanol de segunda Generació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49280" y="2060640"/>
            <a:ext cx="8694720" cy="44593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788000" y="3429000"/>
            <a:ext cx="2376360" cy="201600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Etap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94920" y="1125000"/>
            <a:ext cx="82090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Comic Sans MS"/>
              </a:rPr>
              <a:t>Comprender el proceso de producción de bioetanol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Comic Sans MS"/>
              </a:rPr>
              <a:t>Diferenciar entre bio-etanol de primera y segunda generación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Comic Sans MS"/>
              </a:rPr>
              <a:t>Presentación sobre bio-etanol de primera y segunda generación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775640" y="0"/>
            <a:ext cx="993600" cy="162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Etap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4247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Comprender en que consiste una fermentación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Diferentes Formas de operar una fermentación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Batch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ontinua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Células inmovilizada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Cultivos de perfusión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Cultivos en serie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Fed-batch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Fermentación en estado sólido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Laboratorio para hacer una fermentación batch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775640" y="0"/>
            <a:ext cx="993600" cy="1628640"/>
          </a:xfrm>
          <a:prstGeom prst="rect">
            <a:avLst/>
          </a:prstGeom>
          <a:ln w="0">
            <a:noFill/>
          </a:ln>
        </p:spPr>
      </p:pic>
      <p:grpSp>
        <p:nvGrpSpPr>
          <p:cNvPr id="160" name=""/>
          <p:cNvGrpSpPr/>
          <p:nvPr/>
        </p:nvGrpSpPr>
        <p:grpSpPr>
          <a:xfrm>
            <a:off x="6945840" y="1965240"/>
            <a:ext cx="1908720" cy="2271960"/>
            <a:chOff x="6945840" y="1965240"/>
            <a:chExt cx="1908720" cy="2271960"/>
          </a:xfrm>
        </p:grpSpPr>
        <p:sp>
          <p:nvSpPr>
            <p:cNvPr id="161" name=""/>
            <p:cNvSpPr/>
            <p:nvPr/>
          </p:nvSpPr>
          <p:spPr>
            <a:xfrm rot="20403600">
              <a:off x="7235640" y="2133360"/>
              <a:ext cx="1328400" cy="193500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pic>
          <p:nvPicPr>
            <p:cNvPr id="162" name="" descr=""/>
            <p:cNvPicPr/>
            <p:nvPr/>
          </p:nvPicPr>
          <p:blipFill>
            <a:blip r:embed="rId2"/>
            <a:stretch/>
          </p:blipFill>
          <p:spPr>
            <a:xfrm>
              <a:off x="7296120" y="2133720"/>
              <a:ext cx="1267920" cy="19350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Etap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70675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Comic Sans MS"/>
              </a:rPr>
              <a:t>Diseñar una forma optimizada de llevar a cabo una fermentación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Comic Sans MS"/>
              </a:rPr>
              <a:t>Presentación 2: Propuestas de forma de optimizar una fermentación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Comic Sans MS"/>
              </a:rPr>
              <a:t>HACER UN PROTOTIPO DE LA FORMA OPTIMIZAD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Comic Sans MS"/>
              </a:rPr>
              <a:t>Presentación 3: EL PROTOTIP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7308720" y="907920"/>
            <a:ext cx="1630440" cy="172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Trabajo en Equipo de 3-4 persona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Entregas de Informes escrito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879840" indent="-1756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3 Inform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Presentaciones Orales por cada Inform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879840" indent="-1756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3 Presentacion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Desarrollo del prototip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87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Evaluació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Verdana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Verdana"/>
                <a:ea typeface="Times New Roman"/>
              </a:rPr>
              <a:t>N</a:t>
            </a:r>
            <a:r>
              <a:rPr b="0" lang="es-ES_tradnl" sz="2800" spc="-1" strike="noStrike" baseline="-25000">
                <a:solidFill>
                  <a:srgbClr val="ffff00"/>
                </a:solidFill>
                <a:latin typeface="Verdana"/>
                <a:ea typeface="Times New Roman"/>
              </a:rPr>
              <a:t>f</a:t>
            </a:r>
            <a:r>
              <a:rPr b="0" lang="es-ES_tradnl" sz="2800" spc="-1" strike="noStrike">
                <a:solidFill>
                  <a:srgbClr val="ffff00"/>
                </a:solidFill>
                <a:latin typeface="Verdana"/>
                <a:ea typeface="Times New Roman"/>
              </a:rPr>
              <a:t> = 10%*Ni</a:t>
            </a:r>
            <a:r>
              <a:rPr b="0" lang="es-ES_tradnl" sz="2800" spc="-1" strike="noStrike" baseline="-25000">
                <a:solidFill>
                  <a:srgbClr val="ffff00"/>
                </a:solidFill>
                <a:latin typeface="Verdana"/>
                <a:ea typeface="Times New Roman"/>
              </a:rPr>
              <a:t>1</a:t>
            </a:r>
            <a:r>
              <a:rPr b="0" lang="es-ES_tradnl" sz="2800" spc="-1" strike="noStrike">
                <a:solidFill>
                  <a:srgbClr val="ffff00"/>
                </a:solidFill>
                <a:latin typeface="Verdana"/>
                <a:ea typeface="Times New Roman"/>
              </a:rPr>
              <a:t>+15% Ni</a:t>
            </a:r>
            <a:r>
              <a:rPr b="0" lang="es-ES_tradnl" sz="2800" spc="-1" strike="noStrike" baseline="-25000">
                <a:solidFill>
                  <a:srgbClr val="ffff00"/>
                </a:solidFill>
                <a:latin typeface="Verdana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ffff00"/>
                </a:solidFill>
                <a:latin typeface="Verdana"/>
                <a:ea typeface="Times New Roman"/>
              </a:rPr>
              <a:t> + 25% Ni</a:t>
            </a:r>
            <a:r>
              <a:rPr b="0" lang="es-ES_tradnl" sz="2800" spc="-1" strike="noStrike" baseline="-25000">
                <a:solidFill>
                  <a:srgbClr val="ffff00"/>
                </a:solidFill>
                <a:latin typeface="Verdana"/>
                <a:ea typeface="Times New Roman"/>
              </a:rPr>
              <a:t>3</a:t>
            </a:r>
            <a:r>
              <a:rPr b="0" lang="es-ES_tradnl" sz="2800" spc="-1" strike="noStrike">
                <a:solidFill>
                  <a:srgbClr val="ffff00"/>
                </a:solidFill>
                <a:latin typeface="Verdana"/>
                <a:ea typeface="Times New Roman"/>
              </a:rPr>
              <a:t> + 20%*N</a:t>
            </a:r>
            <a:r>
              <a:rPr b="0" lang="es-ES_tradnl" sz="2800" spc="-1" strike="noStrike" baseline="-25000">
                <a:solidFill>
                  <a:srgbClr val="ffff00"/>
                </a:solidFill>
                <a:latin typeface="Verdana"/>
                <a:ea typeface="Times New Roman"/>
              </a:rPr>
              <a:t>p</a:t>
            </a: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 + 30% Prototip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1523880" y="304920"/>
            <a:ext cx="563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ahoma"/>
              </a:rPr>
              <a:t>Forma de trabajo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Calendario de Actividad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05-Ago Formas de llevar a cabo una fermentación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12-Ago Laboratorio    Experiencia "Normas de Bioseguridad parte 1”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19-Ago Laboratorio    Experiencia "Normas de Bioseguridad parte 2”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6-Ago Laboratorio    Experiencia "Cultivos Batch en Matraz de 500 ml"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02-Sep Presentaciones sobre producción de Bioetanol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09-Sep Formas de llevar a cabo una fermentación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16-Sep Vacacion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3-Sep Trabajo Grupal desarrollo de Propuesta de Optimización de una fermentació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58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30-Sep Semana Olímpic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07-Oct Trabajo Grupal desarrollo de Propuesta de Optimización de una fermentació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14-Oct Presentación Informal y Entrega Informe II    Propuesta de Optimización de una fermentació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1-Oct Prueba Prototipo Se presenta la idea del prototipo. Debe ser aprobada la idea para prosegui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8-Oct Prueba Prototipo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04-Nov Prueba Prototipo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11-Nov Prueba Prototipo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18-Nov Presentación y Entrega Informe III    Informe Final de resultados del prototipo</a:t>
            </a: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21:24:28Z</dcterms:created>
  <dc:creator>guest</dc:creator>
  <dc:description/>
  <dc:language>en-US</dc:language>
  <cp:lastModifiedBy>Ing Quimica</cp:lastModifiedBy>
  <dcterms:modified xsi:type="dcterms:W3CDTF">2008-07-28T21:30:14Z</dcterms:modified>
  <cp:revision>107</cp:revision>
  <dc:subject/>
  <dc:title>Diapositiva 1</dc:title>
</cp:coreProperties>
</file>