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763-CDC3-4152-9CA2-81416F2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9A1-D9FB-4A89-BCAA-49969388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154-D386-4D11-A8EA-9B1D6215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645-05ED-42EE-AC7B-918BD4A7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82B4-E978-4326-B2F7-4CF0203B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61FC-6734-44D3-B0B0-3BE6B7E3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58A4-D348-411F-99A5-C4006A5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1EAD-57E2-4648-BA38-35757EE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FE68-B91F-447D-B838-3AB0428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13A-87DA-4E0B-B807-A2F8A826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9EE0-D25C-4E00-B5EE-3795E49D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4EB-4977-4E43-BE56-47DB07E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B87A-99AF-44BE-B6BC-0C31DBA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6082-88F4-4A13-BF91-D52E8DEB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75E9-FD6C-4704-AC21-F7852188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0C71-AC9F-4D0B-B2C5-7F591622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AA7-B65B-4E4C-B01C-115FF874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E4A-E2E4-4FD1-9DF7-B4AF19E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E6C-287B-4DF0-9ABA-0217DD64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5AB-442C-401E-99A9-FC7294D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04F-71AC-45F0-A465-2292BF9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80A-E554-445D-82F6-4741468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3E4-CABB-4009-93FC-F1F14A56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236-433B-4801-B0CF-98903AB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04AE-2C31-4056-9AB1-7A6856503F61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381D-7815-4F73-9E47-B35CFF74B0A7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Sep Semana Olímp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Oct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Oct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Oct Prueba Prototipo Se presenta la idea del prototipo. Debe ser aprobada la idea para prosegu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Oct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4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1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8-Nov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8-07-28T21:30:14Z</dcterms:modified>
  <cp:revision>107</cp:revision>
  <dc:subject/>
  <dc:title>Diapositiva 1</dc:title>
</cp:coreProperties>
</file>