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F24-530D-4C7A-8719-4DAB565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768-FFBE-4C18-971B-836C8AF3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58E-448E-4A1C-9BF8-7BBB9AE8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EB9-0C71-49A2-AD73-F3A1F1CE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8B12-F39D-4A91-A10E-16735514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7E39-6275-4547-81D8-3FBF58F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D067-76A5-4A83-87E3-E5BE940E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4E81-785F-4748-8FBF-107292DF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2820-1A48-4AAB-A8F5-EE8FB064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2BA4-72F6-48A0-99BE-CAA038E2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73C6-5584-4316-A8AF-3214C11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781-A74E-4ACC-8A75-400FCFA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D692-A233-4BFF-9A04-50B974D0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9069-E92A-4436-8E30-F67CF182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F952-F627-490C-BB0E-1EDD859E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F270-52E1-4926-8845-25E4CCC4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B296-52C6-40EF-8AAC-F86847F4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0FB1-DAAB-4887-9188-627E1A26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D068-1253-44D4-9BFB-3EFA7A4C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A5C6-5FC5-42A2-8802-74F3E67B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B756-C833-43F7-A974-C5806E1A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0702-20D1-40BA-AB6A-E04EA7F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5F3-1101-4984-AE41-FF6AE00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4AEE-4030-4A3D-9CC5-FBEC9225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DCD7-869B-47C5-9650-88492727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B07A-B84F-4F41-B8C2-9A68FF6F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7FEA-B40B-4CEA-AD0C-ADFB5DB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5678-F0FA-4E08-93CA-C67E5CEE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34A9-2241-46EF-9246-58CE7944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1813-39B9-46E9-BB2E-9F9B51A9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962BF-3387-40BE-B0FF-17FFD3B6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D9DF-2481-4EBB-932B-AF08044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B0239-771E-4D13-AACA-9C9E663E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53F-EB83-405C-BE13-0C23758B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F823-C952-4DC1-98BF-B68FC2DB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6157-E85C-4115-85B8-04EFF4B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556A5-B5BE-4FD2-A01A-068ADA5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A688-988D-4239-AD41-185883A2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62AB-2CA1-4C7D-B714-D0C2773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77A1-151C-407E-B454-A7269CE6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051E-C603-4D3A-A666-9EE22A6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C5AC-FC92-49FF-B991-5D7F53EE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D0AD6-6EE3-496D-AA24-97241838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987F-4243-4403-A42B-9E387E7A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59B-4730-416C-822D-12E4C6E5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D1066-CEC7-42E3-88BF-53F6209B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A65C-8A2C-44A3-ACCD-802F0F4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FCB7-C6EE-47AE-A5B5-A95A03E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84F9-998E-41F8-9574-F7FC4AC4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F01CE-86FC-4477-95F3-36B4421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CE907-0A91-440A-96C8-F916B8C2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AC647-9A41-4A27-8F1D-AF7C636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F747-B1A0-4287-AA28-8BC4128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EF85-C261-4EFB-A818-2E631A17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24955-1922-4A4D-8F1D-697CC05E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125-B2E0-47E1-AD78-7E449BB1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E976-25E9-437F-92EB-9EF10C91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2D31-9819-4133-8FC0-DBEC31AD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5A3C7-8794-40D8-9467-21B598F3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09006-AF73-4C63-BAAB-184C0293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6739-4EC6-448F-8812-38ADE456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E064-F6E3-46A2-A9F4-13C7C0C3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C2540-D394-4375-B27C-F9434C8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53404-5959-44B9-BF23-06B8DD2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C91C-BC72-4753-BC9D-C2A0619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5DD4F-B821-4B4E-82F1-E221FD98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B8B-BCF4-48E9-865C-EFB94C8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179D-A2D5-4E34-9664-E8155BD9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0783B-41C4-4128-AEDA-928AA567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E5AF0-AE2E-4FDC-AD3F-2D49BFE7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782-1D4F-4D46-A5C5-1B35F168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A69-5B91-4A2F-A32C-2A2269E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FE33-B827-40D9-A817-DCEF1D62D268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C11D-BA97-4BFF-B25E-81D8848B86A8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FDB-804A-42F7-87C4-6D77E82706A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FE8D-C0A9-4624-91F1-58CA8F51BBC3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AA52-2C7B-4D53-BD3F-D5ABFD60E397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641-4046-4167-8B87-1470D0B379C3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S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olar </a:t>
            </a: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C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harger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3 CuadroTexto"/>
          <p:cNvSpPr/>
          <p:nvPr/>
        </p:nvSpPr>
        <p:spPr>
          <a:xfrm>
            <a:off x="4429080" y="37148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ebastián Ava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ernán  Don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ichard We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or: Rodrigo Pa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nte: Ignacio Po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5 Imagen" descr="Solar Charger X copia.gif"/>
          <p:cNvPicPr/>
          <p:nvPr/>
        </p:nvPicPr>
        <p:blipFill>
          <a:blip r:embed="rId1"/>
          <a:stretch/>
        </p:blipFill>
        <p:spPr>
          <a:xfrm>
            <a:off x="1000080" y="328608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2 CuadroTexto"/>
          <p:cNvSpPr/>
          <p:nvPr/>
        </p:nvSpPr>
        <p:spPr>
          <a:xfrm>
            <a:off x="785880" y="185724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troduc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ance del Proy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c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reación y Construcción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ción Circuito Eléc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2 CuadroTexto"/>
          <p:cNvSpPr/>
          <p:nvPr/>
        </p:nvSpPr>
        <p:spPr>
          <a:xfrm>
            <a:off x="311400" y="1785960"/>
            <a:ext cx="86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otivación: La utilización del celular como medio de comun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uelve cada vez mas frecuente ,el incentivo al ahorro energé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 la utilización de energías renovables convergen en la idea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 Char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jetivos: Construcción de un producto capaz de cargar celul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upando energía renovable (en este caso de tipo solar) ,que sea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ácil utilización y seguro para el que desee cargar su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cance del Proy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uest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2 CuadroTexto"/>
          <p:cNvSpPr/>
          <p:nvPr/>
        </p:nvSpPr>
        <p:spPr>
          <a:xfrm>
            <a:off x="571680" y="1143000"/>
            <a:ext cx="778644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alizo una encuesta vía internet a 100 personas donde se les pregunta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as relacionados con el uso que hacían de su celular  para así tener 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de lo que seria la curva de demanda que presentaría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as preguntas mas relevantes se destacan los siguientes result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86% de los encuestados mantiene su celulares prendido todo el día incluye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che ;un 61% carga su celular cada 3 días  y un 34%  una vez cada semana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53% respon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ría muy dispuesto a dejarlo cargando mientras hacen ot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 mientras que el lugar sea lo suficientemente seguro mientras que un 32% 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aría pero quedaría preocup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ipo de conexión de la batería de mi celular es (de arriba hacia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jo 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%    -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%    - 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   -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%  - 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%    - 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 - 6                                                                 1               2              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%  - Otros: Nokia nuevo, ot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              5              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4"/>
          <p:cNvPicPr/>
          <p:nvPr/>
        </p:nvPicPr>
        <p:blipFill>
          <a:blip r:embed="rId1"/>
          <a:stretch/>
        </p:blipFill>
        <p:spPr>
          <a:xfrm>
            <a:off x="3857760" y="57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1"/>
          <p:cNvPicPr/>
          <p:nvPr/>
        </p:nvPicPr>
        <p:blipFill>
          <a:blip r:embed="rId2"/>
          <a:stretch/>
        </p:blipFill>
        <p:spPr>
          <a:xfrm>
            <a:off x="3851280" y="472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"/>
          <p:cNvPicPr/>
          <p:nvPr/>
        </p:nvPicPr>
        <p:blipFill>
          <a:blip r:embed="rId3"/>
          <a:stretch/>
        </p:blipFill>
        <p:spPr>
          <a:xfrm>
            <a:off x="4643280" y="471492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5"/>
          <p:cNvPicPr/>
          <p:nvPr/>
        </p:nvPicPr>
        <p:blipFill>
          <a:blip r:embed="rId4"/>
          <a:stretch/>
        </p:blipFill>
        <p:spPr>
          <a:xfrm>
            <a:off x="4716360" y="578628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3"/>
          <p:cNvPicPr/>
          <p:nvPr/>
        </p:nvPicPr>
        <p:blipFill>
          <a:blip r:embed="rId5"/>
          <a:stretch/>
        </p:blipFill>
        <p:spPr>
          <a:xfrm>
            <a:off x="5429160" y="471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6"/>
          <p:cNvPicPr/>
          <p:nvPr/>
        </p:nvPicPr>
        <p:blipFill>
          <a:blip r:embed="rId6"/>
          <a:stretch/>
        </p:blipFill>
        <p:spPr>
          <a:xfrm>
            <a:off x="5500800" y="578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ión y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eñ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2 CuadroTexto"/>
          <p:cNvSpPr/>
          <p:nvPr/>
        </p:nvSpPr>
        <p:spPr>
          <a:xfrm>
            <a:off x="785880" y="1785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3 CuadroTexto"/>
          <p:cNvSpPr/>
          <p:nvPr/>
        </p:nvSpPr>
        <p:spPr>
          <a:xfrm>
            <a:off x="606960" y="1714680"/>
            <a:ext cx="808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rte del proyecto se divide en dos grandes et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mente que son la parte del circuito y la que correspon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a estructura que sustenta esté últim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4 CuadroTexto"/>
          <p:cNvSpPr/>
          <p:nvPr/>
        </p:nvSpPr>
        <p:spPr>
          <a:xfrm>
            <a:off x="651960" y="3286080"/>
            <a:ext cx="773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iendo el proceso a grandes rasg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mero que todo fue el planteamiento de cómo seria la apariencia del proy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s la parte que más se sugestiona en el as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uego ocupamos una gran parte de las reuniones en la creación del circuito c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z perfeccionándolo 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odo concluye con la parte de carpinteria donde se sustenta la base del proyecto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 que le da forma y lo exhi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uito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éctrico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2 CuadroTexto"/>
          <p:cNvSpPr/>
          <p:nvPr/>
        </p:nvSpPr>
        <p:spPr>
          <a:xfrm>
            <a:off x="50004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 de los grandes retos para el grupo debido a la inexperiencia con respecto al trabajo con circu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Hernan Donoso\My Documents\Mis archivos recibidos\Nueva carpeta\IMG_2669.JPG"/>
          <p:cNvPicPr/>
          <p:nvPr/>
        </p:nvPicPr>
        <p:blipFill>
          <a:blip r:embed="rId1"/>
          <a:stretch/>
        </p:blipFill>
        <p:spPr>
          <a:xfrm>
            <a:off x="4000680" y="27147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276" name="4 CuadroTexto"/>
          <p:cNvSpPr/>
          <p:nvPr/>
        </p:nvSpPr>
        <p:spPr>
          <a:xfrm>
            <a:off x="297720" y="2643120"/>
            <a:ext cx="353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¿Qué tipo de circuito hay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r?¿Qué debe contener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sea no afecte el funcio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aparato móvil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ización  y compr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es y componen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arios para la elabo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ircu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blemas y soluciones  re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proc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so de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2 CuadroTexto"/>
          <p:cNvSpPr/>
          <p:nvPr/>
        </p:nvSpPr>
        <p:spPr>
          <a:xfrm>
            <a:off x="730440" y="1571760"/>
            <a:ext cx="76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duda el proceso que requirió más dedicación debido al arduo traba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repres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C:\Documents and Settings\Hernan Donoso\My Documents\Mis archivos recibidos\Nueva carpeta\IMG_2665.JPG"/>
          <p:cNvPicPr/>
          <p:nvPr/>
        </p:nvPicPr>
        <p:blipFill>
          <a:blip r:embed="rId1"/>
          <a:stretch/>
        </p:blipFill>
        <p:spPr>
          <a:xfrm>
            <a:off x="5500800" y="2500200"/>
            <a:ext cx="3020760" cy="402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Hernan Donoso\My Documents\Mis archivos recibidos\Nueva carpeta\IMG_2643.JPG"/>
          <p:cNvPicPr/>
          <p:nvPr/>
        </p:nvPicPr>
        <p:blipFill>
          <a:blip r:embed="rId2"/>
          <a:stretch/>
        </p:blipFill>
        <p:spPr>
          <a:xfrm>
            <a:off x="428760" y="435780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Hernan Donoso\My Documents\Mis archivos recibidos\Nueva carpeta\IMG_2636.JPG"/>
          <p:cNvPicPr/>
          <p:nvPr/>
        </p:nvPicPr>
        <p:blipFill>
          <a:blip r:embed="rId3"/>
          <a:stretch/>
        </p:blipFill>
        <p:spPr>
          <a:xfrm>
            <a:off x="2214720" y="264312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58000" y="5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12969 -0.17592 E">
                                      <p:cBhvr>
                                        <p:cTn id="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2 CuadroTexto"/>
          <p:cNvSpPr/>
          <p:nvPr/>
        </p:nvSpPr>
        <p:spPr>
          <a:xfrm>
            <a:off x="811080" y="1857240"/>
            <a:ext cx="77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o que respecta de construcción y montaje del proyecto el grupo ve esta et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Volviendo al objetivo primordial que es sustentar a la comunidad universi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un dispositivo que permita cargar sus celulares de una manera segura el gru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 cumplido el objetivo , además se le da el plus de ser atractivo a la 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mencionar la posible influencia que tenga sobre la comunidad estudiantil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o de ocupar energía sol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lar Charger representa más que un dispositivo donde la gente puede car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celular ,puede ser visto como un símbolo que nos dice que hay energía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as veces no se considera ,que no le sacamos todo el provecho que está pue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nos ,especialmente en tiempos donde se habla mucho del ahorro energé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Hernan Donoso\My Documents\Mis archivos recibidos\Nueva carpeta\IMG_2668.JPG"/>
          <p:cNvPicPr/>
          <p:nvPr/>
        </p:nvPicPr>
        <p:blipFill>
          <a:blip r:embed="rId1"/>
          <a:stretch/>
        </p:blipFill>
        <p:spPr>
          <a:xfrm>
            <a:off x="0" y="164304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Hernan Donoso\My Documents\My Pictures\SC\IMG_0217.jpg"/>
          <p:cNvPicPr/>
          <p:nvPr/>
        </p:nvPicPr>
        <p:blipFill>
          <a:blip r:embed="rId2"/>
          <a:stretch/>
        </p:blipFill>
        <p:spPr>
          <a:xfrm>
            <a:off x="5857920" y="1571760"/>
            <a:ext cx="3286080" cy="438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Hernan Donoso\My Documents\My Pictures\SC\IMG_0214.jpg"/>
          <p:cNvPicPr/>
          <p:nvPr/>
        </p:nvPicPr>
        <p:blipFill>
          <a:blip r:embed="rId3"/>
          <a:stretch/>
        </p:blipFill>
        <p:spPr>
          <a:xfrm>
            <a:off x="3000240" y="164304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3:41:57Z</dcterms:created>
  <dc:creator>hdonoso</dc:creator>
  <dc:description/>
  <dc:language>en-US</dc:language>
  <cp:lastModifiedBy>Wendler</cp:lastModifiedBy>
  <dcterms:modified xsi:type="dcterms:W3CDTF">2008-07-09T08:55:45Z</dcterms:modified>
  <cp:revision>28</cp:revision>
  <dc:subject/>
  <dc:title> asaas</dc:title>
</cp:coreProperties>
</file>