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3F8-417F-428C-A1B9-94AD3B0F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CB02-AEB1-43B7-A9AB-96E32427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45A-BE3F-474E-96E7-47E5A614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B43-6B2D-4436-B405-C66CFD52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EF3F-94E7-4A08-8690-64999CD8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9F5B-1BE1-43D4-93B2-C3A1710C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B544-1072-4C12-8386-989EB0C1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64D0-37C4-47FC-8E25-60FE002C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7077-EADD-495C-933E-8254F765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59D4-D805-4883-8253-7908A209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B2BB-F454-4B80-96D0-4E0AA008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D1D9-B4A4-402F-8E72-D019B5AC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800B-FBF9-4E3E-BEAC-7FB41C40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C009-257E-4550-982E-A95A1DD1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E8FE-6751-440A-9A89-7A59727C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64F9-9EAE-49BB-8A23-863A30B4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4D6F-3588-4ABB-893D-EACBC5CC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E74A7-3656-430E-A29A-FD2630B0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6D7EE-68DA-493E-9804-AAC85545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5AFB0-FE19-425F-9421-C6CCE7DC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D2765-0A5B-4D27-86FB-46D40907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E7118-0353-43CD-9EF7-E47B4E22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53B-9EBB-40F5-97E8-F08B70BB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62E0E-74A5-432D-9D76-236FE356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C0458-9725-44DF-9F24-50F05B90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A6F8D-88F5-428F-B4CF-97231590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8420E-9E5B-4AFA-AE0E-90076D47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4B0DB-43DF-4A88-B2FD-6267FF92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2C8DD-825C-43F6-B934-307D3E39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40925-216B-4B3F-B258-98877633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57A3A-F338-424C-AEAE-3D4EF8A3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84462-DF66-4608-A761-E5DDDDEC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F8E84-A0FC-4EF7-B1F8-B880F2CD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7D4-581C-44CD-AC59-08F39D28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7D548-10B7-4F39-B2FF-6436B064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5579F-8B63-45AF-8C1D-06B83323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232F0-D9B2-4F30-B3D3-4326B006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E990D-AE0A-4783-97C6-1CA96639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6EC0E-E852-4A24-994B-0DCC4622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04D54-918B-4DB2-B7D6-2ABA9286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576A0-C9A6-4160-9BF2-0E41140B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0C094-D1E7-45BE-9F0E-4D7EEA34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7AFB7-2214-41CC-8B54-97B3EA28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D5543-09D0-4328-B35B-D8ED812E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56C-F7E9-4A9E-B477-20F79BB4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E5554-EE3A-4C28-A84E-B6FD710D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8C0AC-AC73-440C-BC84-0E37304A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8059E-599D-44DC-9275-1081BD27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28480-7618-4B03-889E-5799E935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26E27-8F35-471F-8294-34076310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F7267-E7C7-44F7-BC35-1D57E898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587E8-DEE1-4453-8378-34A437EA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CDD87-850D-41DA-96B4-4021E671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12290-45DF-4892-A609-CBBD106D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E59FD-9A97-4D23-8618-681A6CB6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EAC3-090F-4CED-9ADB-3C88B602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2567B-CA6D-4B67-8251-01594D14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73538-C7EC-4522-B231-6BB56FEC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F2FE3-AF52-4171-97BB-92276D10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A9065-B2CE-4001-A85D-09AB543C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E9DAA-04AB-4242-90C0-7894F833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DD6EE-E85B-40B0-BDBC-742C131E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D8A3F-D315-45F7-85B2-E2D20313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A6B97-CBEB-4FB6-A2C8-5187689E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02678-67C9-4AF6-BC46-F4C979CE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1A025-C74B-44FE-9B27-0BECBE7E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536-C190-49FF-B09E-DBC31FC3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045F4-F859-4518-8B60-6C0CBBA0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8E057-6E78-4F55-9A6E-55BFDBD5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6740B-2847-4959-A210-FDF0DA48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E313-1C08-4E8C-A9FF-CA2E47DB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89D-7039-4D75-90E1-55AE3F63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B6A3-8F51-431B-B223-409FBFAE45A6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0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557A-D27B-4B30-A44E-F12878389B22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0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5A89-CD98-4322-A960-644807CEA24C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7964-1065-4B62-9181-20728ADF078A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73B4-9AA2-46BA-939C-C523F18E7777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4AF2-39D7-4485-A7A0-5FAAC4321B04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071720" y="149976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700" spc="-1" strike="noStrike">
                <a:solidFill>
                  <a:srgbClr val="ff0000"/>
                </a:solidFill>
                <a:latin typeface="AddCityboy"/>
              </a:rPr>
              <a:t>S</a:t>
            </a:r>
            <a:r>
              <a:rPr b="0" lang="es-CL" sz="6700" spc="-1" strike="noStrike">
                <a:solidFill>
                  <a:srgbClr val="ffffff"/>
                </a:solidFill>
                <a:latin typeface="AddCityboy"/>
              </a:rPr>
              <a:t>olar </a:t>
            </a:r>
            <a:r>
              <a:rPr b="0" lang="es-CL" sz="6700" spc="-1" strike="noStrike">
                <a:solidFill>
                  <a:srgbClr val="ff0000"/>
                </a:solidFill>
                <a:latin typeface="AddCityboy"/>
              </a:rPr>
              <a:t>C</a:t>
            </a:r>
            <a:r>
              <a:rPr b="0" lang="es-CL" sz="6700" spc="-1" strike="noStrike">
                <a:solidFill>
                  <a:srgbClr val="ffffff"/>
                </a:solidFill>
                <a:latin typeface="AddCityboy"/>
              </a:rPr>
              <a:t>harger</a:t>
            </a:r>
            <a:endParaRPr b="0" lang="en-US" sz="6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3 CuadroTexto"/>
          <p:cNvSpPr/>
          <p:nvPr/>
        </p:nvSpPr>
        <p:spPr>
          <a:xfrm>
            <a:off x="4429080" y="371484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ebastián Ava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Hernán  Donos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ichard We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or: Rodrigo Pal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yudante: Ignacio Polan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5 Imagen" descr="Solar Charger X copia.gif"/>
          <p:cNvPicPr/>
          <p:nvPr/>
        </p:nvPicPr>
        <p:blipFill>
          <a:blip r:embed="rId1"/>
          <a:stretch/>
        </p:blipFill>
        <p:spPr>
          <a:xfrm>
            <a:off x="1000080" y="3286080"/>
            <a:ext cx="3143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nt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2 CuadroTexto"/>
          <p:cNvSpPr/>
          <p:nvPr/>
        </p:nvSpPr>
        <p:spPr>
          <a:xfrm>
            <a:off x="785880" y="1857240"/>
            <a:ext cx="7143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troducció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tiv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ance del Proye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c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reación y Construcción 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aboración Circuito Eléctr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o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rod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2 CuadroTexto"/>
          <p:cNvSpPr/>
          <p:nvPr/>
        </p:nvSpPr>
        <p:spPr>
          <a:xfrm>
            <a:off x="311400" y="1785960"/>
            <a:ext cx="8646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otivación: La utilización del celular como medio de comun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vuelve cada vez mas frecuente ,el incentivo al ahorro energé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 la utilización de energías renovables convergen en la idea 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ar Charg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jetivos: Construcción de un producto capaz de cargar celula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upando energía renovable (en este caso de tipo solar) ,que sea 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ácil utilización y seguro para el que desee cargar su celu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cance del Proy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uest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2 CuadroTexto"/>
          <p:cNvSpPr/>
          <p:nvPr/>
        </p:nvSpPr>
        <p:spPr>
          <a:xfrm>
            <a:off x="571680" y="1143000"/>
            <a:ext cx="778644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realizo una encuesta vía internet a 100 personas donde se les preguntab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mas relacionados con el uso que hacían de su celular  para así tener u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oximación de lo que seria la curva de demanda que presentaría 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as preguntas mas relevantes se destacan los siguientes resultad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86% de los encuestados mantiene su celulares prendido todo el día incluyend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che ;un 61% carga su celular cada 3 días  y un 34%  una vez cada semana 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53% respon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ría muy dispuesto a dejarlo cargando mientras hacen ot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 mientras que el lugar sea lo suficientemente seguro mientras que un 32% l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jaría pero quedaría preocup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ipo de conexión de la batería de mi celular es (de arriba hacia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ajo 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%    - 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%    - 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%    - 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%  - 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%    - 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%  - 6                                                                 1               2               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%  - Otros: Nokia nuevo, otr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               5               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4"/>
          <p:cNvPicPr/>
          <p:nvPr/>
        </p:nvPicPr>
        <p:blipFill>
          <a:blip r:embed="rId1"/>
          <a:stretch/>
        </p:blipFill>
        <p:spPr>
          <a:xfrm>
            <a:off x="3857760" y="5786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1"/>
          <p:cNvPicPr/>
          <p:nvPr/>
        </p:nvPicPr>
        <p:blipFill>
          <a:blip r:embed="rId2"/>
          <a:stretch/>
        </p:blipFill>
        <p:spPr>
          <a:xfrm>
            <a:off x="3851280" y="4724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2"/>
          <p:cNvPicPr/>
          <p:nvPr/>
        </p:nvPicPr>
        <p:blipFill>
          <a:blip r:embed="rId3"/>
          <a:stretch/>
        </p:blipFill>
        <p:spPr>
          <a:xfrm>
            <a:off x="4643280" y="4714920"/>
            <a:ext cx="654120" cy="654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5"/>
          <p:cNvPicPr/>
          <p:nvPr/>
        </p:nvPicPr>
        <p:blipFill>
          <a:blip r:embed="rId4"/>
          <a:stretch/>
        </p:blipFill>
        <p:spPr>
          <a:xfrm>
            <a:off x="4716360" y="5786280"/>
            <a:ext cx="662040" cy="662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3"/>
          <p:cNvPicPr/>
          <p:nvPr/>
        </p:nvPicPr>
        <p:blipFill>
          <a:blip r:embed="rId5"/>
          <a:stretch/>
        </p:blipFill>
        <p:spPr>
          <a:xfrm>
            <a:off x="5429160" y="471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6"/>
          <p:cNvPicPr/>
          <p:nvPr/>
        </p:nvPicPr>
        <p:blipFill>
          <a:blip r:embed="rId6"/>
          <a:stretch/>
        </p:blipFill>
        <p:spPr>
          <a:xfrm>
            <a:off x="5500800" y="5786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ión y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trucción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eñ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2 CuadroTexto"/>
          <p:cNvSpPr/>
          <p:nvPr/>
        </p:nvSpPr>
        <p:spPr>
          <a:xfrm>
            <a:off x="785880" y="1785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3 CuadroTexto"/>
          <p:cNvSpPr/>
          <p:nvPr/>
        </p:nvSpPr>
        <p:spPr>
          <a:xfrm>
            <a:off x="606960" y="1714680"/>
            <a:ext cx="8085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rte del proyecto se divide en dos grandes etap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almente que son la parte del circuito y la que correspon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a estructura que sustenta esté últim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4 CuadroTexto"/>
          <p:cNvSpPr/>
          <p:nvPr/>
        </p:nvSpPr>
        <p:spPr>
          <a:xfrm>
            <a:off x="651960" y="3286080"/>
            <a:ext cx="7732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iendo el proceso a grandes rasg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mero que todo fue el planteamiento de cómo seria la apariencia del proy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 que es la parte que más se sugestiona en el asu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uego ocupamos una gran parte de las reuniones en la creación del circuito ca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z perfeccionándolo má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Todo concluye con la parte de carpinteria donde se sustenta la base del proyecto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 que le da forma y lo exhib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oración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cuito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éctrico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2 CuadroTexto"/>
          <p:cNvSpPr/>
          <p:nvPr/>
        </p:nvSpPr>
        <p:spPr>
          <a:xfrm>
            <a:off x="500040" y="1428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o de los grandes retos para el grupo debido a la inexperiencia con respecto al trabajo con circui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C:\Documents and Settings\Hernan Donoso\My Documents\Mis archivos recibidos\Nueva carpeta\IMG_2669.JPG"/>
          <p:cNvPicPr/>
          <p:nvPr/>
        </p:nvPicPr>
        <p:blipFill>
          <a:blip r:embed="rId1"/>
          <a:stretch/>
        </p:blipFill>
        <p:spPr>
          <a:xfrm>
            <a:off x="4000680" y="271476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276" name="4 CuadroTexto"/>
          <p:cNvSpPr/>
          <p:nvPr/>
        </p:nvSpPr>
        <p:spPr>
          <a:xfrm>
            <a:off x="297720" y="2643120"/>
            <a:ext cx="3533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¿Qué tipo de circuito hay q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aborar?¿Qué debe contener p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sea no afecte el funcion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aparato móvil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ización  y compra de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les y componen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esarios para la elabo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circui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blemas y soluciones  resp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proce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so de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tr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2 CuadroTexto"/>
          <p:cNvSpPr/>
          <p:nvPr/>
        </p:nvSpPr>
        <p:spPr>
          <a:xfrm>
            <a:off x="730440" y="1571760"/>
            <a:ext cx="761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 duda el proceso que requirió más dedicación debido al arduo traba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represen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3" descr="C:\Documents and Settings\Hernan Donoso\My Documents\Mis archivos recibidos\Nueva carpeta\IMG_2665.JPG"/>
          <p:cNvPicPr/>
          <p:nvPr/>
        </p:nvPicPr>
        <p:blipFill>
          <a:blip r:embed="rId1"/>
          <a:stretch/>
        </p:blipFill>
        <p:spPr>
          <a:xfrm>
            <a:off x="5500800" y="2500200"/>
            <a:ext cx="3020760" cy="4029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C:\Documents and Settings\Hernan Donoso\My Documents\Mis archivos recibidos\Nueva carpeta\IMG_2643.JPG"/>
          <p:cNvPicPr/>
          <p:nvPr/>
        </p:nvPicPr>
        <p:blipFill>
          <a:blip r:embed="rId2"/>
          <a:stretch/>
        </p:blipFill>
        <p:spPr>
          <a:xfrm>
            <a:off x="428760" y="435780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C:\Documents and Settings\Hernan Donoso\My Documents\Mis archivos recibidos\Nueva carpeta\IMG_2636.JPG"/>
          <p:cNvPicPr/>
          <p:nvPr/>
        </p:nvPicPr>
        <p:blipFill>
          <a:blip r:embed="rId3"/>
          <a:stretch/>
        </p:blipFill>
        <p:spPr>
          <a:xfrm>
            <a:off x="2214720" y="2643120"/>
            <a:ext cx="49291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58000" y="58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12969 -0.17592 E">
                                      <p:cBhvr>
                                        <p:cTn id="19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lus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2 CuadroTexto"/>
          <p:cNvSpPr/>
          <p:nvPr/>
        </p:nvSpPr>
        <p:spPr>
          <a:xfrm>
            <a:off x="811080" y="1857240"/>
            <a:ext cx="77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o que respecta de construcción y montaje del proyecto el grupo ve esta eta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Volviendo al objetivo primordial que es sustentar a la comunidad universi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un dispositivo que permita cargar sus celulares de una manera segura el grup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a cumplido el objetivo , además se le da el plus de ser atractivo a la v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 mencionar la posible influencia que tenga sobre la comunidad estudiantil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cho de ocupar energía sol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olar Charger representa más que un dispositivo donde la gente puede car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celular ,puede ser visto como un símbolo que nos dice que hay energía 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as veces no se considera ,que no le sacamos todo el provecho que está pue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nos ,especialmente en tiempos donde se habla mucho del ahorro energétic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5" name="Picture 2" descr="C:\Documents and Settings\Hernan Donoso\My Documents\Mis archivos recibidos\Nueva carpeta\IMG_2668.JPG"/>
          <p:cNvPicPr/>
          <p:nvPr/>
        </p:nvPicPr>
        <p:blipFill>
          <a:blip r:embed="rId1"/>
          <a:stretch/>
        </p:blipFill>
        <p:spPr>
          <a:xfrm>
            <a:off x="0" y="1643040"/>
            <a:ext cx="3214800" cy="4286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C:\Documents and Settings\Hernan Donoso\My Documents\My Pictures\SC\IMG_0217.jpg"/>
          <p:cNvPicPr/>
          <p:nvPr/>
        </p:nvPicPr>
        <p:blipFill>
          <a:blip r:embed="rId2"/>
          <a:stretch/>
        </p:blipFill>
        <p:spPr>
          <a:xfrm>
            <a:off x="5857920" y="1571760"/>
            <a:ext cx="3286080" cy="438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Hernan Donoso\My Documents\My Pictures\SC\IMG_0214.jpg"/>
          <p:cNvPicPr/>
          <p:nvPr/>
        </p:nvPicPr>
        <p:blipFill>
          <a:blip r:embed="rId3"/>
          <a:stretch/>
        </p:blipFill>
        <p:spPr>
          <a:xfrm>
            <a:off x="3000240" y="1643040"/>
            <a:ext cx="3214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3:41:57Z</dcterms:created>
  <dc:creator>hdonoso</dc:creator>
  <dc:description/>
  <dc:language>en-US</dc:language>
  <cp:lastModifiedBy>Wendler</cp:lastModifiedBy>
  <dcterms:modified xsi:type="dcterms:W3CDTF">2008-07-09T08:55:45Z</dcterms:modified>
  <cp:revision>28</cp:revision>
  <dc:subject/>
  <dc:title> asaas</dc:title>
</cp:coreProperties>
</file>