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B89-F10C-4458-B40E-1EDBF342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160-2FCC-47C4-AC09-D2A58A9C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F3A-E5CF-4A95-8C1B-975DA979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614-862C-4EB4-9E89-B0FFD3A3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419A-07A6-4ED2-B44E-2C583926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FE53-E0CA-46E5-8213-C77FE295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B5E5-D57F-4EA4-B7CE-A63A4BC0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5072-553B-4CBE-B099-EE655804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0686-0553-42D4-95C4-AD7AB848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1396-3C81-4E44-A906-1BC37DC2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646F-EFC2-49E2-B999-65378D3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A9E-612B-4002-ABD3-67FE8F8A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EF21-6E1E-4E1F-BCD3-6D58BEA6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B09B-6DA7-41CB-BCE7-5EEA5523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850B-F381-4BAF-8803-837D5EBC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E902-830D-4922-9456-E09D0046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9594-4B87-4E32-822E-6402DC21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FCE9-0BB1-479E-97E6-15172D1B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1F4F-CB6D-4662-AEA7-26A54532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672D-BA4F-4FBD-B97B-6C82182B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CC3B-C5BC-478C-A30F-2D9FE2DA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F803-C792-44A5-93DD-3B1A794E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631-D222-4F5D-AE37-D950CFE9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68714-003B-4298-BE32-DDE466E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4ABB-23BB-417F-B380-B776D6E9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C849-DB45-4AE0-B2E1-E6ED92C9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E6D9-A1C3-45B7-84D5-6AAB815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C4C0C-D134-4A6C-8FA2-0D164FAD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9347-709B-4EC1-8AD5-05CD5049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6EE2-A2C8-43D9-9882-A97170BA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C540-639F-466A-A98F-7BA3104F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7F34-2107-42CF-94CC-FBE6FCF8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9AEF-F40F-4536-91AA-026120B4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9A9-E889-421E-ADC2-FE564C42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0D245-5A9D-4976-91E4-69167A1D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973B-AFBE-4E32-B350-919F9F31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0E16F-2163-4CA6-8240-220B100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DB6F-85B0-4E76-A8E8-3FED5E31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212E-4710-4723-A906-B4EED045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F87D-A0F0-4169-B0D6-75CC1E75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EC18-EB52-44FB-B42F-A4516F11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F238-AE9C-436D-9E6F-690E4527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870E6-549C-426F-8A4C-029E9873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9141D-BE64-4619-9068-ED16A002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6CC-8706-4306-9882-D818ECCA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FC91E-B7DF-4D57-B7B6-E3BBF5CA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301C9-89E5-4D67-9D8B-443D371A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2498A-2C9A-4BEB-B93E-2760B825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BEBA-4E84-49DE-94D1-5AC57428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21B7-19A6-4956-BAAE-031AC641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5A5F9-3C6E-426E-8E14-C570C348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81E5E-A20A-4EB3-A637-F03D8E3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8E8CE-5233-4645-B0CF-F2AEDE8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C888F-694A-4E70-AD52-EC48DDE1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ED9F5-C850-42FD-BFA6-E15A69E8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253-B0DD-422F-BE39-013AC710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D44C8-201B-425C-873D-F500C735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40B5-4667-49CA-BF71-D54714D0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BABAC-901C-43F5-ADF1-D9EEDF06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9DB24-FABF-4BEC-9BD4-D53ED274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1E9ED-DC8A-4011-9224-0CEF1EDC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C7AE3-C791-4438-B6A6-26C9D19B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BEF8D-1660-4BC3-B190-D8436208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77A5-657D-4371-91C7-2C369412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61423-6B2C-4599-9FFA-312E21D5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9A06-54BC-472B-93C6-05FD1C6B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78B-8203-4021-B0DF-3B9A16D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5F79-5C80-4E85-BC18-B23C1F54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0EBBF-20E5-4801-80AC-93119EFA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7B330-F89A-4F5E-A60C-84A67C67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B4A-42AA-4F33-947E-7C45E6D4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BA4-647D-4B1A-A8E4-D2D863BD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0DCB-8B49-42D0-9F0A-8CF85ECC0D07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12F9-9503-4ECE-AA39-4F58A0B2AF60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E09E-49DE-46A1-BDD9-69D0A26DEA9D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01A6-2B22-4BAC-AF56-FE1ACD281D9E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6652-8D07-49B1-9F06-144B1F29AB08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51DF-7770-476B-A614-C0F01D8AE675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071720" y="149976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700" spc="-1" strike="noStrike">
                <a:solidFill>
                  <a:srgbClr val="ff0000"/>
                </a:solidFill>
                <a:latin typeface="AddCityboy"/>
              </a:rPr>
              <a:t>S</a:t>
            </a:r>
            <a:r>
              <a:rPr b="0" lang="es-CL" sz="6700" spc="-1" strike="noStrike">
                <a:solidFill>
                  <a:srgbClr val="ffffff"/>
                </a:solidFill>
                <a:latin typeface="AddCityboy"/>
              </a:rPr>
              <a:t>olar </a:t>
            </a:r>
            <a:r>
              <a:rPr b="0" lang="es-CL" sz="6700" spc="-1" strike="noStrike">
                <a:solidFill>
                  <a:srgbClr val="ff0000"/>
                </a:solidFill>
                <a:latin typeface="AddCityboy"/>
              </a:rPr>
              <a:t>C</a:t>
            </a:r>
            <a:r>
              <a:rPr b="0" lang="es-CL" sz="6700" spc="-1" strike="noStrike">
                <a:solidFill>
                  <a:srgbClr val="ffffff"/>
                </a:solidFill>
                <a:latin typeface="AddCityboy"/>
              </a:rPr>
              <a:t>harger</a:t>
            </a:r>
            <a:endParaRPr b="0" lang="en-US" sz="6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3 CuadroTexto"/>
          <p:cNvSpPr/>
          <p:nvPr/>
        </p:nvSpPr>
        <p:spPr>
          <a:xfrm>
            <a:off x="4429080" y="37148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ebastián Ava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Hernán  Dono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ichard We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or: Rodrigo Pal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udante: Ignacio Po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5 Imagen" descr="Solar Charger X copia.gif"/>
          <p:cNvPicPr/>
          <p:nvPr/>
        </p:nvPicPr>
        <p:blipFill>
          <a:blip r:embed="rId1"/>
          <a:stretch/>
        </p:blipFill>
        <p:spPr>
          <a:xfrm>
            <a:off x="1000080" y="328608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2 CuadroTexto"/>
          <p:cNvSpPr/>
          <p:nvPr/>
        </p:nvSpPr>
        <p:spPr>
          <a:xfrm>
            <a:off x="785880" y="185724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troduc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ance del Proy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c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reación y Construcción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ción Circuito Eléct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2 CuadroTexto"/>
          <p:cNvSpPr/>
          <p:nvPr/>
        </p:nvSpPr>
        <p:spPr>
          <a:xfrm>
            <a:off x="311400" y="1785960"/>
            <a:ext cx="86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otivación: La utilización del celular como medio de comun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uelve cada vez mas frecuente ,el incentivo al ahorro energé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 la utilización de energías renovables convergen en la idea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 Char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jetivos: Construcción de un producto capaz de cargar celul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upando energía renovable (en este caso de tipo solar) ,que sea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ácil utilización y seguro para el que desee cargar su cel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cance del Proy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uest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2 CuadroTexto"/>
          <p:cNvSpPr/>
          <p:nvPr/>
        </p:nvSpPr>
        <p:spPr>
          <a:xfrm>
            <a:off x="571680" y="1143000"/>
            <a:ext cx="778644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alizo una encuesta vía internet a 100 personas donde se les pregunta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as relacionados con el uso que hacían de su celular  para así tener u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de lo que seria la curva de demanda que presentaría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as preguntas mas relevantes se destacan los siguientes result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86% de los encuestados mantiene su celulares prendido todo el día incluyen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che ;un 61% carga su celular cada 3 días  y un 34%  una vez cada semana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53% respon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ría muy dispuesto a dejarlo cargando mientras hacen ot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 mientras que el lugar sea lo suficientemente seguro mientras que un 32% 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aría pero quedaría preocup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ipo de conexión de la batería de mi celular es (de arriba hacia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ajo 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%    - 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%    - 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%    -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%  - 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%    - 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%  - 6                                                                 1               2              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%  - Otros: Nokia nuevo, ot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              5              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4"/>
          <p:cNvPicPr/>
          <p:nvPr/>
        </p:nvPicPr>
        <p:blipFill>
          <a:blip r:embed="rId1"/>
          <a:stretch/>
        </p:blipFill>
        <p:spPr>
          <a:xfrm>
            <a:off x="3857760" y="57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1"/>
          <p:cNvPicPr/>
          <p:nvPr/>
        </p:nvPicPr>
        <p:blipFill>
          <a:blip r:embed="rId2"/>
          <a:stretch/>
        </p:blipFill>
        <p:spPr>
          <a:xfrm>
            <a:off x="3851280" y="4724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"/>
          <p:cNvPicPr/>
          <p:nvPr/>
        </p:nvPicPr>
        <p:blipFill>
          <a:blip r:embed="rId3"/>
          <a:stretch/>
        </p:blipFill>
        <p:spPr>
          <a:xfrm>
            <a:off x="4643280" y="471492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5"/>
          <p:cNvPicPr/>
          <p:nvPr/>
        </p:nvPicPr>
        <p:blipFill>
          <a:blip r:embed="rId4"/>
          <a:stretch/>
        </p:blipFill>
        <p:spPr>
          <a:xfrm>
            <a:off x="4716360" y="578628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3"/>
          <p:cNvPicPr/>
          <p:nvPr/>
        </p:nvPicPr>
        <p:blipFill>
          <a:blip r:embed="rId5"/>
          <a:stretch/>
        </p:blipFill>
        <p:spPr>
          <a:xfrm>
            <a:off x="5429160" y="471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6"/>
          <p:cNvPicPr/>
          <p:nvPr/>
        </p:nvPicPr>
        <p:blipFill>
          <a:blip r:embed="rId6"/>
          <a:stretch/>
        </p:blipFill>
        <p:spPr>
          <a:xfrm>
            <a:off x="5500800" y="5786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ión y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trucción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eñ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2 CuadroTexto"/>
          <p:cNvSpPr/>
          <p:nvPr/>
        </p:nvSpPr>
        <p:spPr>
          <a:xfrm>
            <a:off x="785880" y="1785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3 CuadroTexto"/>
          <p:cNvSpPr/>
          <p:nvPr/>
        </p:nvSpPr>
        <p:spPr>
          <a:xfrm>
            <a:off x="606960" y="1714680"/>
            <a:ext cx="8085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rte del proyecto se divide en dos grandes et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mente que son la parte del circuito y la que correspon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a estructura que sustenta esté últim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4 CuadroTexto"/>
          <p:cNvSpPr/>
          <p:nvPr/>
        </p:nvSpPr>
        <p:spPr>
          <a:xfrm>
            <a:off x="651960" y="3286080"/>
            <a:ext cx="773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iendo el proceso a grandes rasg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mero que todo fue el planteamiento de cómo seria la apariencia del proy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s la parte que más se sugestiona en el as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uego ocupamos una gran parte de las reuniones en la creación del circuito ca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z perfeccionándolo 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odo concluye con la parte de carpinteria donde se sustenta la base del proyecto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 que le da forma y lo exhi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ción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cuito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éctrico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2 CuadroTexto"/>
          <p:cNvSpPr/>
          <p:nvPr/>
        </p:nvSpPr>
        <p:spPr>
          <a:xfrm>
            <a:off x="50004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o de los grandes retos para el grupo debido a la inexperiencia con respecto al trabajo con circui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C:\Documents and Settings\Hernan Donoso\My Documents\Mis archivos recibidos\Nueva carpeta\IMG_2669.JPG"/>
          <p:cNvPicPr/>
          <p:nvPr/>
        </p:nvPicPr>
        <p:blipFill>
          <a:blip r:embed="rId1"/>
          <a:stretch/>
        </p:blipFill>
        <p:spPr>
          <a:xfrm>
            <a:off x="4000680" y="271476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276" name="4 CuadroTexto"/>
          <p:cNvSpPr/>
          <p:nvPr/>
        </p:nvSpPr>
        <p:spPr>
          <a:xfrm>
            <a:off x="297720" y="2643120"/>
            <a:ext cx="3533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¿Qué tipo de circuito hay 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r?¿Qué debe contener p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sea no afecte el funcion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aparato móvil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ización  y compr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es y componen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arios para la elabo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ircui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blemas y soluciones  resp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proc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so de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tr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2 CuadroTexto"/>
          <p:cNvSpPr/>
          <p:nvPr/>
        </p:nvSpPr>
        <p:spPr>
          <a:xfrm>
            <a:off x="730440" y="1571760"/>
            <a:ext cx="761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duda el proceso que requirió más dedicación debido al arduo traba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repres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C:\Documents and Settings\Hernan Donoso\My Documents\Mis archivos recibidos\Nueva carpeta\IMG_2665.JPG"/>
          <p:cNvPicPr/>
          <p:nvPr/>
        </p:nvPicPr>
        <p:blipFill>
          <a:blip r:embed="rId1"/>
          <a:stretch/>
        </p:blipFill>
        <p:spPr>
          <a:xfrm>
            <a:off x="5500800" y="2500200"/>
            <a:ext cx="3020760" cy="4029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Documents and Settings\Hernan Donoso\My Documents\Mis archivos recibidos\Nueva carpeta\IMG_2643.JPG"/>
          <p:cNvPicPr/>
          <p:nvPr/>
        </p:nvPicPr>
        <p:blipFill>
          <a:blip r:embed="rId2"/>
          <a:stretch/>
        </p:blipFill>
        <p:spPr>
          <a:xfrm>
            <a:off x="428760" y="435780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Documents and Settings\Hernan Donoso\My Documents\Mis archivos recibidos\Nueva carpeta\IMG_2636.JPG"/>
          <p:cNvPicPr/>
          <p:nvPr/>
        </p:nvPicPr>
        <p:blipFill>
          <a:blip r:embed="rId3"/>
          <a:stretch/>
        </p:blipFill>
        <p:spPr>
          <a:xfrm>
            <a:off x="2214720" y="264312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58000" y="5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12969 -0.17592 E">
                                      <p:cBhvr>
                                        <p:cTn id="1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us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2 CuadroTexto"/>
          <p:cNvSpPr/>
          <p:nvPr/>
        </p:nvSpPr>
        <p:spPr>
          <a:xfrm>
            <a:off x="811080" y="1857240"/>
            <a:ext cx="77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o que respecta de construcción y montaje del proyecto el grupo ve esta eta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Volviendo al objetivo primordial que es sustentar a la comunidad universi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un dispositivo que permita cargar sus celulares de una manera segura el gru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a cumplido el objetivo , además se le da el plus de ser atractivo a la 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mencionar la posible influencia que tenga sobre la comunidad estudiantil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cho de ocupar energía sol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lar Charger representa más que un dispositivo donde la gente puede car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celular ,puede ser visto como un símbolo que nos dice que hay energía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as veces no se considera ,que no le sacamos todo el provecho que está pue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nos ,especialmente en tiempos donde se habla mucho del ahorro energét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2" descr="C:\Documents and Settings\Hernan Donoso\My Documents\Mis archivos recibidos\Nueva carpeta\IMG_2668.JPG"/>
          <p:cNvPicPr/>
          <p:nvPr/>
        </p:nvPicPr>
        <p:blipFill>
          <a:blip r:embed="rId1"/>
          <a:stretch/>
        </p:blipFill>
        <p:spPr>
          <a:xfrm>
            <a:off x="0" y="1643040"/>
            <a:ext cx="3214800" cy="428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Documents and Settings\Hernan Donoso\My Documents\My Pictures\SC\IMG_0217.jpg"/>
          <p:cNvPicPr/>
          <p:nvPr/>
        </p:nvPicPr>
        <p:blipFill>
          <a:blip r:embed="rId2"/>
          <a:stretch/>
        </p:blipFill>
        <p:spPr>
          <a:xfrm>
            <a:off x="5857920" y="1571760"/>
            <a:ext cx="3286080" cy="438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Hernan Donoso\My Documents\My Pictures\SC\IMG_0214.jpg"/>
          <p:cNvPicPr/>
          <p:nvPr/>
        </p:nvPicPr>
        <p:blipFill>
          <a:blip r:embed="rId3"/>
          <a:stretch/>
        </p:blipFill>
        <p:spPr>
          <a:xfrm>
            <a:off x="3000240" y="1643040"/>
            <a:ext cx="3214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3:41:57Z</dcterms:created>
  <dc:creator>hdonoso</dc:creator>
  <dc:description/>
  <dc:language>en-US</dc:language>
  <cp:lastModifiedBy>Wendler</cp:lastModifiedBy>
  <dcterms:modified xsi:type="dcterms:W3CDTF">2008-07-09T08:55:45Z</dcterms:modified>
  <cp:revision>28</cp:revision>
  <dc:subject/>
  <dc:title> asaas</dc:title>
</cp:coreProperties>
</file>