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CD50-96BB-4876-9AC0-416EDFEA1B3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3B22-5953-4B12-9B58-75AFA0B41F30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581-3E57-4271-AE8D-C5BD1E09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0FA-117F-477D-8F22-0D859C9E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F98-059A-47D3-888C-0655AB91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E97-E4EF-4004-9C29-BCB1DAA8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FA1-9978-483A-AA3C-ADD0F8E0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5C52-A9DA-4905-87CF-1015E37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09B9-E3C4-4812-99BA-006B3F4A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0A9-24A8-4B3C-80CF-AD4933C9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1DF-8973-4776-9538-C26791E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461C-99C2-4977-9216-381AF4C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6B2D-74DE-4327-AD6B-D824A52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870-F6F8-410C-A8F6-39B48280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CADF-8645-4FDC-B08A-8B5BE69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CB4-298B-4644-AA9C-16A9997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DAD0-AAEE-4524-9009-A18F789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76B9-0BF0-4171-8FAC-28CD7B97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9B6-A793-4FB0-B510-A2DBF488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018-9587-45FB-BC07-90417E74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1CF-E2EC-4D1E-B4FD-0AC2721E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40F-F73E-487C-8C38-65BF496D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D3A-DE52-42BF-95E6-ABED81B6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483-294F-47F4-9270-1C0180F9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57C-4958-4567-B14A-DB574ECE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6E4-85BF-471A-A437-0DEC080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9EF6-8A9B-4A31-BB1D-FD4CB6AA6F0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3562-EBB8-4214-9FB9-1ADEB58B1B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Calibri"/>
              </a:rPr>
              <a:t>Ventilab</a:t>
            </a:r>
            <a:br>
              <a:rPr sz="6600"/>
            </a:br>
            <a:r>
              <a:rPr b="1" lang="en-US" sz="2000" spc="-1" strike="noStrike">
                <a:solidFill>
                  <a:srgbClr val="ffffb7"/>
                </a:solidFill>
                <a:latin typeface="Calibri"/>
              </a:rPr>
              <a:t>Proyecto de Ventilación Renovable</a:t>
            </a:r>
            <a:br>
              <a:rPr sz="48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17920" y="5229000"/>
            <a:ext cx="26017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fesor de cátedra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Rodrigo Palm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yudante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eonardo Sta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3 CuadroTexto"/>
          <p:cNvSpPr/>
          <p:nvPr/>
        </p:nvSpPr>
        <p:spPr>
          <a:xfrm>
            <a:off x="468360" y="52293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laudia Aravena V.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Eleyn Kennedy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Gianfranco Liberona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4941" b="14898"/>
          <a:stretch/>
        </p:blipFill>
        <p:spPr>
          <a:xfrm>
            <a:off x="1403280" y="1484280"/>
            <a:ext cx="5905440" cy="443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395280" y="13413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Rectángulo"/>
          <p:cNvSpPr/>
          <p:nvPr/>
        </p:nvSpPr>
        <p:spPr>
          <a:xfrm>
            <a:off x="395280" y="213372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sistema de ventilación cumple la función de mejorar la calidad de aire presente en el laboratorio del segundo subnivel del edif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trabajo en equipo fue importante para lograr el diseño y puesta en funcionamiento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ún así, no se pudo completar la parte final de la instalación del proyecto, que consistía en perforar una parte del portón que separa el laboratorio del ex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 existe la oportunidad, el grupo se compromete a terminar esta parte del proyecto voluntaria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5 CuadroTexto"/>
          <p:cNvSpPr/>
          <p:nvPr/>
        </p:nvSpPr>
        <p:spPr>
          <a:xfrm>
            <a:off x="53352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i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ala calidad del aire en el laboratorio del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renovación de aire alimentado con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novará gran parte del aire del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se purific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alimentación altern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ejorar la calidad del aire respirado por los usu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s especí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so de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mentar uso de energías renovables en la FCF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abajo en Equ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CuadroTexto"/>
          <p:cNvSpPr/>
          <p:nvPr/>
        </p:nvSpPr>
        <p:spPr>
          <a:xfrm>
            <a:off x="468360" y="1197000"/>
            <a:ext cx="82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do del arte y antecedentes  generales: contexto   mundial respecto al uso de la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4957920" y="3933720"/>
            <a:ext cx="3143160" cy="2286000"/>
            <a:chOff x="4957920" y="3933720"/>
            <a:chExt cx="3143160" cy="2286000"/>
          </a:xfrm>
        </p:grpSpPr>
        <p:pic>
          <p:nvPicPr>
            <p:cNvPr id="119" name="Picture 2" descr="http://ocio.quitua.com.mx/blogs/media/Paneles%20Solares.jpg"/>
            <p:cNvPicPr/>
            <p:nvPr/>
          </p:nvPicPr>
          <p:blipFill>
            <a:blip r:embed="rId1"/>
            <a:stretch/>
          </p:blipFill>
          <p:spPr>
            <a:xfrm>
              <a:off x="5029200" y="4005360"/>
              <a:ext cx="30006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7 Rectángulo"/>
            <p:cNvSpPr/>
            <p:nvPr/>
          </p:nvSpPr>
          <p:spPr>
            <a:xfrm>
              <a:off x="4957920" y="3933720"/>
              <a:ext cx="3143160" cy="2286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6"/>
          <p:cNvGrpSpPr/>
          <p:nvPr/>
        </p:nvGrpSpPr>
        <p:grpSpPr>
          <a:xfrm>
            <a:off x="971640" y="3933720"/>
            <a:ext cx="3600360" cy="2303640"/>
            <a:chOff x="971640" y="3933720"/>
            <a:chExt cx="3600360" cy="2303640"/>
          </a:xfrm>
        </p:grpSpPr>
        <p:pic>
          <p:nvPicPr>
            <p:cNvPr id="122" name="Picture 13" descr=""/>
            <p:cNvPicPr/>
            <p:nvPr/>
          </p:nvPicPr>
          <p:blipFill>
            <a:blip r:embed="rId2"/>
            <a:stretch/>
          </p:blipFill>
          <p:spPr>
            <a:xfrm>
              <a:off x="1040400" y="4015080"/>
              <a:ext cx="346284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4"/>
            <p:cNvSpPr/>
            <p:nvPr/>
          </p:nvSpPr>
          <p:spPr>
            <a:xfrm>
              <a:off x="971640" y="3933720"/>
              <a:ext cx="3600360" cy="2303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todología, material y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realizó una encuesta a los usuarios para determinar los requerimientos mínimos que debía poseer e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estimó la cantidad mínima de aire que se debe poner en movimiento para que crear una corriente que aligere la concentración de material particu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92000" y="1700280"/>
          <a:ext cx="7596360" cy="4809960"/>
        </p:xfrm>
        <a:graphic>
          <a:graphicData uri="http://schemas.openxmlformats.org/drawingml/2006/table">
            <a:tbl>
              <a:tblPr/>
              <a:tblGrid>
                <a:gridCol w="3799080"/>
                <a:gridCol w="3797280"/>
              </a:tblGrid>
              <a:tr h="401400">
                <a:tc gridSpan="2">
                  <a:txBody>
                    <a:bodyPr lIns="39600" rIns="39600" tIns="0" bIns="0" anchor="t">
                      <a:noAutofit/>
                    </a:bodyPr>
                    <a:p>
                      <a:pPr marL="684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¿Cuánto tiempo está usted dentro del laboratori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 promedio, 6-8 ho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¿Qué actividades específicamente realiza usted allí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ir circui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arrollar piezas de motores, maquinaria en gener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¿Cuál es su principal molestia respecto a la falta de ventilación en el secto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Dolor de cabez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 olor, producto de combustion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casez de oxígeno, debido al gran nivel de material particulado disuelto en el aire del luga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¿Qué es lo que usted espera de la ventilación del laboratorio del -2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la solución no tenga efectos nocivos en el área de trabajo, como ruidos, calor, o uso excesivo de espaci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sea segur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e no se note que estamos en un subterráneo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0720" y="90612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Resultados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Encuest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01600" y="260280"/>
            <a:ext cx="1274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CuadroTexto"/>
          <p:cNvSpPr/>
          <p:nvPr/>
        </p:nvSpPr>
        <p:spPr>
          <a:xfrm>
            <a:off x="538200" y="1293840"/>
            <a:ext cx="8248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ución Pro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stema de extracción de aire, alimentado por energía sola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 extraerá aire desde el laboratorio hacia el exterior, con un  flujo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mplirá los requerimientos de seguridad, poco uso de espacio, y bajo nivel de ruido emitido, determinados a través de la enc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819440"/>
            <a:ext cx="4319640" cy="5038560"/>
            <a:chOff x="468360" y="1819440"/>
            <a:chExt cx="4319640" cy="5038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5996" t="7118" r="31004" b="0"/>
            <a:stretch/>
          </p:blipFill>
          <p:spPr>
            <a:xfrm>
              <a:off x="684360" y="1989000"/>
              <a:ext cx="3848040" cy="4392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819000" y="6148440"/>
              <a:ext cx="23364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2917800"/>
              <a:ext cx="583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4113360"/>
              <a:ext cx="58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40" y="5632560"/>
              <a:ext cx="58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4920" y="640728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Courier New"/>
                </a:rPr>
                <a:t>(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4920" y="6278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1819440"/>
              <a:ext cx="4319640" cy="5038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1989000"/>
              <a:ext cx="582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583000" cy="193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533520" y="12682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ionamiento del sistema (Conex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5964120" y="26654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les So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dor de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r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Venti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900000" y="2503440"/>
            <a:ext cx="4572000" cy="3373560"/>
            <a:chOff x="900000" y="2503440"/>
            <a:chExt cx="4572000" cy="3373560"/>
          </a:xfrm>
        </p:grpSpPr>
        <p:pic>
          <p:nvPicPr>
            <p:cNvPr id="152" name="Picture 7" descr="Conexión"/>
            <p:cNvPicPr/>
            <p:nvPr/>
          </p:nvPicPr>
          <p:blipFill>
            <a:blip r:embed="rId1"/>
            <a:stretch/>
          </p:blipFill>
          <p:spPr>
            <a:xfrm>
              <a:off x="900000" y="2503440"/>
              <a:ext cx="4572000" cy="3373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3" name="Rectangle 8"/>
            <p:cNvSpPr/>
            <p:nvPr/>
          </p:nvSpPr>
          <p:spPr>
            <a:xfrm>
              <a:off x="2414520" y="35035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087640" y="264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4000" y="3800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06920" y="3656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6560" y="5168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2:17:56Z</dcterms:created>
  <dc:creator>Claudia</dc:creator>
  <dc:description/>
  <dc:language>en-US</dc:language>
  <cp:lastModifiedBy>clauarav</cp:lastModifiedBy>
  <dcterms:modified xsi:type="dcterms:W3CDTF">2008-07-09T20:34:31Z</dcterms:modified>
  <cp:revision>65</cp:revision>
  <dc:subject/>
  <dc:title>Diapositiva 1</dc:title>
</cp:coreProperties>
</file>