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2198-A2A9-4CFC-AEA4-8B4A5CC6665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B02E-AF2F-4DD9-B4EF-BEB08DE4E1CF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171A-F3E3-4026-A3FC-0738A7D7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E442-F900-4FFB-A7DC-BD492172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838D-CB31-406A-925B-CAE31499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0AA9-59CE-4FDF-BEFD-35907E18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55AF-D8F8-4B20-BA1A-DB8A1F8C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0A99-2800-4466-AB40-471134A6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84A7-535E-42C9-A471-D3AAC49E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C437-C78A-4912-992A-8DFDD545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5F74-A10C-43D2-9C9A-2143D51D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FBB0-9863-4141-86FB-42667E2A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2767-ADDB-422F-8B29-9B954F2B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29A4-7294-4678-8ECE-D0C735E8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00D9-0694-4C26-BD2D-F7EEDC95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51C9-217F-454C-8295-768AC202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077E-C915-492F-8C9F-77A824D3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3838-BAA8-4730-8F50-55D92BDE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8506-D17C-4E70-BB72-606280D2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BE69-AF37-4375-9F31-623CC869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1D4E-C5BF-4371-BC03-AC4EDFFD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CB04-55E6-4630-AAC7-1217A416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B77C-53B2-4B6D-9530-F5407BF0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45B0-E79C-4EA6-AC52-E5759DF0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E1A2-83FE-433C-B479-89C6E5A8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D5F9-0DB0-485D-850F-A45B3E5C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319C-D12B-43CC-9283-1BC4F4BB3D5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839F-73F0-4FDC-BF5D-3D30B8D78C8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Calibri"/>
              </a:rPr>
              <a:t>Ventilab</a:t>
            </a:r>
            <a:br>
              <a:rPr sz="6600"/>
            </a:br>
            <a:r>
              <a:rPr b="1" lang="en-US" sz="2000" spc="-1" strike="noStrike">
                <a:solidFill>
                  <a:srgbClr val="ffffb7"/>
                </a:solidFill>
                <a:latin typeface="Calibri"/>
              </a:rPr>
              <a:t>Proyecto de Ventilación Renovable</a:t>
            </a:r>
            <a:br>
              <a:rPr sz="48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217920" y="5229000"/>
            <a:ext cx="26017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Profesor de cátedra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Rodrigo Palm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Ayudante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Leonardo Stari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3 CuadroTexto"/>
          <p:cNvSpPr/>
          <p:nvPr/>
        </p:nvSpPr>
        <p:spPr>
          <a:xfrm>
            <a:off x="468360" y="522936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alibri"/>
              </a:rPr>
              <a:t>Integra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alibri"/>
              </a:rPr>
              <a:t>Claudia Aravena V.</a:t>
            </a:r>
            <a:br>
              <a:rPr sz="1800"/>
            </a:br>
            <a:r>
              <a:rPr b="0" lang="es-CL" sz="1800" spc="-1" strike="noStrike">
                <a:solidFill>
                  <a:srgbClr val="ffffff"/>
                </a:solidFill>
                <a:latin typeface="Calibri"/>
              </a:rPr>
              <a:t>Eleyn Kennedy 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alibri"/>
              </a:rPr>
              <a:t>Gianfranco Liberona 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14941" b="14898"/>
          <a:stretch/>
        </p:blipFill>
        <p:spPr>
          <a:xfrm>
            <a:off x="1403280" y="1484280"/>
            <a:ext cx="5905440" cy="4430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5 CuadroTexto"/>
          <p:cNvSpPr/>
          <p:nvPr/>
        </p:nvSpPr>
        <p:spPr>
          <a:xfrm>
            <a:off x="395280" y="134136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6 Rectángulo"/>
          <p:cNvSpPr/>
          <p:nvPr/>
        </p:nvSpPr>
        <p:spPr>
          <a:xfrm>
            <a:off x="395280" y="2133720"/>
            <a:ext cx="8072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l sistema de ventilación cumple la función de mejorar la calidad de aire presente en el laboratorio del segundo subnivel del edif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l trabajo en equipo fue importante para lograr el diseño y puesta en funcionamiento del siste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ún así, no se pudo completar la parte final de la instalación del proyecto, que consistía en perforar una parte del portón que separa el laboratorio del exteri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 existe la oportunidad, el grupo se compromete a terminar esta parte del proyecto voluntariamen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08720" cy="4805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5 CuadroTexto"/>
          <p:cNvSpPr/>
          <p:nvPr/>
        </p:nvSpPr>
        <p:spPr>
          <a:xfrm>
            <a:off x="533520" y="1268280"/>
            <a:ext cx="82152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tiv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Mala calidad del aire en el laboratorio del -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Sistema de renovación de aire alimentado con energía so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lc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Renovará gran parte del aire del se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o se purific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Sistema de alimentación alterna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5 CuadroTexto"/>
          <p:cNvSpPr/>
          <p:nvPr/>
        </p:nvSpPr>
        <p:spPr>
          <a:xfrm>
            <a:off x="468360" y="1268280"/>
            <a:ext cx="82152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bjetiv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Mejorar la calidad del aire respirado por los usu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bjetivos específ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Uso de energía so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Fomentar uso de energías renovables en la FCF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rabajo en Equi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CuadroTexto"/>
          <p:cNvSpPr/>
          <p:nvPr/>
        </p:nvSpPr>
        <p:spPr>
          <a:xfrm>
            <a:off x="468360" y="1197000"/>
            <a:ext cx="821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uerpo del traba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stado del arte y antecedentes  generales: contexto   mundial respecto al uso de la energía so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15"/>
          <p:cNvGrpSpPr/>
          <p:nvPr/>
        </p:nvGrpSpPr>
        <p:grpSpPr>
          <a:xfrm>
            <a:off x="4957920" y="3933720"/>
            <a:ext cx="3143160" cy="2286000"/>
            <a:chOff x="4957920" y="3933720"/>
            <a:chExt cx="3143160" cy="2286000"/>
          </a:xfrm>
        </p:grpSpPr>
        <p:pic>
          <p:nvPicPr>
            <p:cNvPr id="119" name="Picture 2" descr="http://ocio.quitua.com.mx/blogs/media/Paneles%20Solares.jpg"/>
            <p:cNvPicPr/>
            <p:nvPr/>
          </p:nvPicPr>
          <p:blipFill>
            <a:blip r:embed="rId1"/>
            <a:stretch/>
          </p:blipFill>
          <p:spPr>
            <a:xfrm>
              <a:off x="5029200" y="4005360"/>
              <a:ext cx="300060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7 Rectángulo"/>
            <p:cNvSpPr/>
            <p:nvPr/>
          </p:nvSpPr>
          <p:spPr>
            <a:xfrm>
              <a:off x="4957920" y="3933720"/>
              <a:ext cx="3143160" cy="2286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Group 16"/>
          <p:cNvGrpSpPr/>
          <p:nvPr/>
        </p:nvGrpSpPr>
        <p:grpSpPr>
          <a:xfrm>
            <a:off x="971640" y="3933720"/>
            <a:ext cx="3600360" cy="2303640"/>
            <a:chOff x="971640" y="3933720"/>
            <a:chExt cx="3600360" cy="2303640"/>
          </a:xfrm>
        </p:grpSpPr>
        <p:pic>
          <p:nvPicPr>
            <p:cNvPr id="122" name="Picture 13" descr=""/>
            <p:cNvPicPr/>
            <p:nvPr/>
          </p:nvPicPr>
          <p:blipFill>
            <a:blip r:embed="rId2"/>
            <a:stretch/>
          </p:blipFill>
          <p:spPr>
            <a:xfrm>
              <a:off x="1040400" y="4015080"/>
              <a:ext cx="3462840" cy="21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Rectangle 14"/>
            <p:cNvSpPr/>
            <p:nvPr/>
          </p:nvSpPr>
          <p:spPr>
            <a:xfrm>
              <a:off x="971640" y="3933720"/>
              <a:ext cx="3600360" cy="23036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3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5 CuadroTexto"/>
          <p:cNvSpPr/>
          <p:nvPr/>
        </p:nvSpPr>
        <p:spPr>
          <a:xfrm>
            <a:off x="468360" y="1268280"/>
            <a:ext cx="82152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uerpo del traba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todología, material y méto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Se realizó una encuesta a los usuarios para determinar los requerimientos mínimos que debía poseer el proyec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Se estimó la cantidad mínima de aire que se debe poner en movimiento para que crear una corriente que aligere la concentración de material particul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92000" y="1700280"/>
          <a:ext cx="7596360" cy="4809960"/>
        </p:xfrm>
        <a:graphic>
          <a:graphicData uri="http://schemas.openxmlformats.org/drawingml/2006/table">
            <a:tbl>
              <a:tblPr/>
              <a:tblGrid>
                <a:gridCol w="3799080"/>
                <a:gridCol w="3797280"/>
              </a:tblGrid>
              <a:tr h="401400">
                <a:tc gridSpan="2">
                  <a:txBody>
                    <a:bodyPr lIns="39600" rIns="39600" tIns="0" bIns="0" anchor="t">
                      <a:noAutofit/>
                    </a:bodyPr>
                    <a:p>
                      <a:pPr marL="684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24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 ¿Cuánto tiempo está usted dentro del laboratorio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 promedio, 6-8 hor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 ¿Qué actividades específicamente realiza usted allí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truir circuito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arrollar piezas de motores, maquinaria en general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92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 ¿Cuál es su principal molestia respecto a la falta de ventilación en el sector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b7"/>
                          </a:solidFill>
                          <a:latin typeface="Arial"/>
                          <a:ea typeface="Times New Roman"/>
                        </a:rPr>
                        <a:t>Dolor de cabez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l olor, producto de combustion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scasez de oxígeno, debido al gran nivel de material particulado disuelto en el aire del lugar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108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 ¿Qué es lo que usted espera de la ventilación del laboratorio del -2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b7"/>
                          </a:solidFill>
                          <a:latin typeface="Arial"/>
                          <a:ea typeface="Times New Roman"/>
                        </a:rPr>
                        <a:t>Que la solución no tenga efectos nocivos en el área de trabajo, como ruidos, calor, o uso excesivo de espaci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b7"/>
                          </a:solidFill>
                          <a:latin typeface="Arial"/>
                          <a:ea typeface="Times New Roman"/>
                        </a:rPr>
                        <a:t>Que sea segur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ue no se note que estamos en un subterráneo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20720" y="906120"/>
            <a:ext cx="824544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Resultados</a:t>
            </a:r>
            <a:r>
              <a:rPr b="1" lang="es-C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Encuesta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01600" y="260280"/>
            <a:ext cx="12747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5 CuadroTexto"/>
          <p:cNvSpPr/>
          <p:nvPr/>
        </p:nvSpPr>
        <p:spPr>
          <a:xfrm>
            <a:off x="538200" y="1293840"/>
            <a:ext cx="82486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lución Propue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stema de extracción de aire, alimentado por energía solar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 extraerá aire desde el laboratorio hacia el exterior, con un  flujo adecu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umplirá los requerimientos de seguridad, poco uso de espacio, y bajo nivel de ruido emitido, determinados a través de la encue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68360" y="1819440"/>
            <a:ext cx="4319640" cy="5038560"/>
            <a:chOff x="468360" y="1819440"/>
            <a:chExt cx="4319640" cy="503856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rcRect l="5996" t="7118" r="31004" b="0"/>
            <a:stretch/>
          </p:blipFill>
          <p:spPr>
            <a:xfrm>
              <a:off x="684360" y="1989000"/>
              <a:ext cx="3848040" cy="4392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138" name=""/>
            <p:cNvSpPr/>
            <p:nvPr/>
          </p:nvSpPr>
          <p:spPr>
            <a:xfrm>
              <a:off x="819000" y="6148440"/>
              <a:ext cx="233640" cy="12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70440" y="2917800"/>
              <a:ext cx="5839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6600"/>
                  </a:solidFill>
                  <a:latin typeface="Courier New"/>
                </a:rPr>
                <a:t>(1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85920" y="4113360"/>
              <a:ext cx="5824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6600"/>
                  </a:solidFill>
                  <a:latin typeface="Courier New"/>
                </a:rPr>
                <a:t>(2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1640" y="5632560"/>
              <a:ext cx="58428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6600"/>
                  </a:solidFill>
                  <a:latin typeface="Courier New"/>
                </a:rPr>
                <a:t>(3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34920" y="6407280"/>
              <a:ext cx="5842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Courier New"/>
                </a:rPr>
                <a:t>(4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34920" y="627840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8360" y="1819440"/>
              <a:ext cx="4319640" cy="5038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19280" y="1989000"/>
              <a:ext cx="582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6600"/>
                  </a:solidFill>
                  <a:latin typeface="Courier New"/>
                </a:rPr>
                <a:t>(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2583000" cy="1936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5 CuadroTexto"/>
          <p:cNvSpPr/>
          <p:nvPr/>
        </p:nvSpPr>
        <p:spPr>
          <a:xfrm>
            <a:off x="533520" y="126828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uncionamiento del sistema (Conexió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8 CuadroTexto"/>
          <p:cNvSpPr/>
          <p:nvPr/>
        </p:nvSpPr>
        <p:spPr>
          <a:xfrm>
            <a:off x="5964120" y="2665440"/>
            <a:ext cx="3071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neles Sol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ulador de car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terí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er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yecto Venti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6 Grupo"/>
          <p:cNvGrpSpPr/>
          <p:nvPr/>
        </p:nvGrpSpPr>
        <p:grpSpPr>
          <a:xfrm>
            <a:off x="900000" y="2503440"/>
            <a:ext cx="4572000" cy="3373560"/>
            <a:chOff x="900000" y="2503440"/>
            <a:chExt cx="4572000" cy="3373560"/>
          </a:xfrm>
        </p:grpSpPr>
        <p:pic>
          <p:nvPicPr>
            <p:cNvPr id="152" name="Picture 7" descr="Conexión"/>
            <p:cNvPicPr/>
            <p:nvPr/>
          </p:nvPicPr>
          <p:blipFill>
            <a:blip r:embed="rId1"/>
            <a:stretch/>
          </p:blipFill>
          <p:spPr>
            <a:xfrm>
              <a:off x="900000" y="2503440"/>
              <a:ext cx="4572000" cy="3373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153" name="Rectangle 8"/>
            <p:cNvSpPr/>
            <p:nvPr/>
          </p:nvSpPr>
          <p:spPr>
            <a:xfrm>
              <a:off x="2414520" y="3503520"/>
              <a:ext cx="3427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087640" y="26478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Calibri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27280" y="35845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64000" y="38005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06920" y="3656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06560" y="51688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(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2:17:56Z</dcterms:created>
  <dc:creator>Claudia</dc:creator>
  <dc:description/>
  <dc:language>en-US</dc:language>
  <cp:lastModifiedBy>clauarav</cp:lastModifiedBy>
  <dcterms:modified xsi:type="dcterms:W3CDTF">2008-07-09T20:34:31Z</dcterms:modified>
  <cp:revision>65</cp:revision>
  <dc:subject/>
  <dc:title>Diapositiva 1</dc:title>
</cp:coreProperties>
</file>