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D76-46A1-48BE-BA08-115A3B6B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35E2-0E22-4064-B9DE-0D01436D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469-2D17-4948-8509-88C32905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F09C-E195-4B2A-8CBE-357960F1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AD7F-9112-4A1E-BA93-7A1ACB68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6D37-1ABA-4742-ABFC-7C5E6D5B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8650-F44D-4D59-85B1-F2C89DEC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2BE5-ED79-43F7-833F-1ED6D317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1340-8B23-4FA7-BA7C-D7C30D8D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5328-A482-4C9E-9DFD-19680879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E731-B8DC-4C9C-BD54-F7BF6F9F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439-070C-4CA0-AB4D-E902923D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DD44-F94A-4CA9-BA2F-401C0918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FB60-48E0-4367-9752-D4EB193C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2CF8-AAC9-47CC-9383-CF96B8D9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95F0-358B-4625-8FE5-D2943D42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32DE-32A4-4DC0-B0F5-04FCD9C4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2CC0B-EFE7-48AF-B6B0-C9D6CCDC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90F45-837C-4DFB-B2C8-F7E8650A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1864D-0CD2-4506-B458-FE607DB9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F6937-4F88-4C12-908B-B13A9136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6CBDA-A476-4AE4-9169-8DACE446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28ED-A99F-486D-9B96-C2AE50FB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3E1AD-EE58-4644-B435-0219C982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FEB8F-79CC-4C76-B73C-5FB989C3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224A5-2108-4388-B492-AF206612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61E4F-D768-4919-9E13-D8C3FD25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8033F-B0BC-4845-833E-71B76F2F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7E000-9220-434F-8ADA-CAFB1F95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BF6EB-776F-45F3-9948-ED725D93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D82B5-9175-48A2-B21A-69849B50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9C472-6116-4702-973F-A03392E1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5D353-6C8C-438E-8D71-84B79B57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79D3-0AE0-468F-8F8B-AA9EDE7D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574DB-9443-48B9-92BC-35BD661C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3EB59-6F6A-4FAE-BF74-3C97EA0F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0773D-5AC7-4969-BCA3-1DECE0B8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5C7FD-4C3F-4333-A566-B793D67F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ACCDE-92C1-43A6-9D8F-24549CAF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C857A-5A59-4B94-B590-CF8FBC71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820D3-6136-47FD-83F7-82424966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3C1E9-1109-4C3C-84BD-F046DB34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1575D-DBC9-41B7-ADB8-2E30E417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A943F-ACD5-49EB-A5D1-EEC83B90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396-2524-4891-AFC5-650797E9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7F92A-2DCF-4B4E-A9F8-6E62EAB3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C69F3-E709-499C-81EC-779A24AE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35A85-58C1-4594-8D7E-4C88B1E4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9FA0E-574F-4D99-8DC3-ED47A3BA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BD081-65FB-4749-91E3-40D62032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98B7E-D676-457D-8D17-361295F3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406B3-4006-4ECC-8515-BC0F74E8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AB375-2B16-4D9E-B5DB-40937AA4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A82B7-5C39-49DD-BA1D-0F1DF270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B0065-1C6E-4662-B39E-8E3F6DF3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C7F3-5768-4CAB-9999-1A36AC4F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9BB82-DF31-4BC3-8745-7A89C1F0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A0CB1-BC35-4602-8831-F38B4A9D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F01FC-4C67-4A92-9145-C9B56D19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FFCDB-7724-4966-9C42-3B2D11FE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6B4A9-9D8B-4B24-8908-B165E815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E2B49-E6EA-4F47-821D-D58B5345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83476-9756-4DDE-8A98-57E7339A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8C002-1188-44C8-AA47-567C2271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96F19-5335-4D6E-A225-F8F05CA0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0B3A2-7019-4F3B-B597-69ABE407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8C3-ABFD-4791-B7C2-6AF984C2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4D43D-B0EF-4DC4-B4D6-E9C49349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AD800-B118-4034-ADEE-FE0CA9D4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5B7BC-40EE-40DB-AAA0-8510203C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032-94E6-41C4-AAC0-1CF59E04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6566-5833-4CCA-B576-F7A5C797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3E3F-3A98-4097-BEED-2E5B21642256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0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900A-0777-40AA-BAC1-BBB6D64DED74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0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05FB-CF64-41F3-AC57-33D3FEC6660F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E7C2-C842-48DF-A55B-D7C77D8F0FE5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B2F6-CB54-47B1-8041-3A06EC70F593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D3EE-E547-427E-A4B4-4874E14BBA2D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071720" y="149976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700" spc="-1" strike="noStrike">
                <a:solidFill>
                  <a:srgbClr val="ff0000"/>
                </a:solidFill>
                <a:latin typeface="AddCityboy"/>
              </a:rPr>
              <a:t>S</a:t>
            </a:r>
            <a:r>
              <a:rPr b="0" lang="es-CL" sz="6700" spc="-1" strike="noStrike">
                <a:solidFill>
                  <a:srgbClr val="ffffff"/>
                </a:solidFill>
                <a:latin typeface="AddCityboy"/>
              </a:rPr>
              <a:t>olar </a:t>
            </a:r>
            <a:r>
              <a:rPr b="0" lang="es-CL" sz="6700" spc="-1" strike="noStrike">
                <a:solidFill>
                  <a:srgbClr val="ff0000"/>
                </a:solidFill>
                <a:latin typeface="AddCityboy"/>
              </a:rPr>
              <a:t>C</a:t>
            </a:r>
            <a:r>
              <a:rPr b="0" lang="es-CL" sz="6700" spc="-1" strike="noStrike">
                <a:solidFill>
                  <a:srgbClr val="ffffff"/>
                </a:solidFill>
                <a:latin typeface="AddCityboy"/>
              </a:rPr>
              <a:t>harger</a:t>
            </a:r>
            <a:endParaRPr b="0" lang="en-US" sz="6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3 CuadroTexto"/>
          <p:cNvSpPr/>
          <p:nvPr/>
        </p:nvSpPr>
        <p:spPr>
          <a:xfrm>
            <a:off x="4429080" y="371484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ebastián Ava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Hernán  Donos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ichard We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or: Rodrigo Pal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yudante: Ignacio Polan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5 Imagen" descr="Solar Charger X copia.gif"/>
          <p:cNvPicPr/>
          <p:nvPr/>
        </p:nvPicPr>
        <p:blipFill>
          <a:blip r:embed="rId1"/>
          <a:stretch/>
        </p:blipFill>
        <p:spPr>
          <a:xfrm>
            <a:off x="1000080" y="3286080"/>
            <a:ext cx="3143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nt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2 CuadroTexto"/>
          <p:cNvSpPr/>
          <p:nvPr/>
        </p:nvSpPr>
        <p:spPr>
          <a:xfrm>
            <a:off x="785880" y="1857240"/>
            <a:ext cx="7143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troducció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tiv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ance del Proye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c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reación y Construcción 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aboración Circuito Eléctr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o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rod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2 CuadroTexto"/>
          <p:cNvSpPr/>
          <p:nvPr/>
        </p:nvSpPr>
        <p:spPr>
          <a:xfrm>
            <a:off x="311400" y="1785960"/>
            <a:ext cx="8646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otivación: La utilización del celular como medio de comun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vuelve cada vez mas frecuente ,el incentivo al ahorro energé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 la utilización de energías renovables convergen en la idea 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ar Charg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jetivos: Construcción de un producto capaz de cargar celula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upando energía renovable (en este caso de tipo solar) ,que sea 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ácil utilización y seguro para el que desee cargar su celu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cance del Proy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uest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2 CuadroTexto"/>
          <p:cNvSpPr/>
          <p:nvPr/>
        </p:nvSpPr>
        <p:spPr>
          <a:xfrm>
            <a:off x="571680" y="1143000"/>
            <a:ext cx="778644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realizo una encuesta vía internet a 100 personas donde se les preguntab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mas relacionados con el uso que hacían de su celular  para así tener u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oximación de lo que seria la curva de demanda que presentaría 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as preguntas mas relevantes se destacan los siguientes resultad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86% de los encuestados mantiene su celulares prendido todo el día incluyend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che ;un 61% carga su celular cada 3 días  y un 34%  una vez cada semana 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53% respon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ría muy dispuesto a dejarlo cargando mientras hacen ot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 mientras que el lugar sea lo suficientemente seguro mientras que un 32% l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jaría pero quedaría preocup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ipo de conexión de la batería de mi celular es (de arriba hacia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ajo 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%    - 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%    - 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%    - 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%  - 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%    - 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%  - 6                                                                 1               2               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%  - Otros: Nokia nuevo, otr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               5               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4"/>
          <p:cNvPicPr/>
          <p:nvPr/>
        </p:nvPicPr>
        <p:blipFill>
          <a:blip r:embed="rId1"/>
          <a:stretch/>
        </p:blipFill>
        <p:spPr>
          <a:xfrm>
            <a:off x="3857760" y="5786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1"/>
          <p:cNvPicPr/>
          <p:nvPr/>
        </p:nvPicPr>
        <p:blipFill>
          <a:blip r:embed="rId2"/>
          <a:stretch/>
        </p:blipFill>
        <p:spPr>
          <a:xfrm>
            <a:off x="3851280" y="4724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2"/>
          <p:cNvPicPr/>
          <p:nvPr/>
        </p:nvPicPr>
        <p:blipFill>
          <a:blip r:embed="rId3"/>
          <a:stretch/>
        </p:blipFill>
        <p:spPr>
          <a:xfrm>
            <a:off x="4643280" y="4714920"/>
            <a:ext cx="654120" cy="654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5"/>
          <p:cNvPicPr/>
          <p:nvPr/>
        </p:nvPicPr>
        <p:blipFill>
          <a:blip r:embed="rId4"/>
          <a:stretch/>
        </p:blipFill>
        <p:spPr>
          <a:xfrm>
            <a:off x="4716360" y="5786280"/>
            <a:ext cx="662040" cy="662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3"/>
          <p:cNvPicPr/>
          <p:nvPr/>
        </p:nvPicPr>
        <p:blipFill>
          <a:blip r:embed="rId5"/>
          <a:stretch/>
        </p:blipFill>
        <p:spPr>
          <a:xfrm>
            <a:off x="5429160" y="471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6"/>
          <p:cNvPicPr/>
          <p:nvPr/>
        </p:nvPicPr>
        <p:blipFill>
          <a:blip r:embed="rId6"/>
          <a:stretch/>
        </p:blipFill>
        <p:spPr>
          <a:xfrm>
            <a:off x="5500800" y="5786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ión y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trucción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eñ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2 CuadroTexto"/>
          <p:cNvSpPr/>
          <p:nvPr/>
        </p:nvSpPr>
        <p:spPr>
          <a:xfrm>
            <a:off x="785880" y="1785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3 CuadroTexto"/>
          <p:cNvSpPr/>
          <p:nvPr/>
        </p:nvSpPr>
        <p:spPr>
          <a:xfrm>
            <a:off x="606960" y="1714680"/>
            <a:ext cx="8085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rte del proyecto se divide en dos grandes etap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almente que son la parte del circuito y la que correspon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a estructura que sustenta esté últim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4 CuadroTexto"/>
          <p:cNvSpPr/>
          <p:nvPr/>
        </p:nvSpPr>
        <p:spPr>
          <a:xfrm>
            <a:off x="651960" y="3286080"/>
            <a:ext cx="7732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iendo el proceso a grandes rasg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mero que todo fue el planteamiento de cómo seria la apariencia del proy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 que es la parte que más se sugestiona en el asu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uego ocupamos una gran parte de las reuniones en la creación del circuito ca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z perfeccionándolo má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Todo concluye con la parte de carpinteria donde se sustenta la base del proyecto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 que le da forma y lo exhib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oración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cuito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éctrico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2 CuadroTexto"/>
          <p:cNvSpPr/>
          <p:nvPr/>
        </p:nvSpPr>
        <p:spPr>
          <a:xfrm>
            <a:off x="500040" y="1428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o de los grandes retos para el grupo debido a la inexperiencia con respecto al trabajo con circui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C:\Documents and Settings\Hernan Donoso\My Documents\Mis archivos recibidos\Nueva carpeta\IMG_2669.JPG"/>
          <p:cNvPicPr/>
          <p:nvPr/>
        </p:nvPicPr>
        <p:blipFill>
          <a:blip r:embed="rId1"/>
          <a:stretch/>
        </p:blipFill>
        <p:spPr>
          <a:xfrm>
            <a:off x="4000680" y="271476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276" name="4 CuadroTexto"/>
          <p:cNvSpPr/>
          <p:nvPr/>
        </p:nvSpPr>
        <p:spPr>
          <a:xfrm>
            <a:off x="297720" y="2643120"/>
            <a:ext cx="3533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¿Qué tipo de circuito hay q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aborar?¿Qué debe contener p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sea no afecte el funcion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aparato móvil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ización  y compra de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les y componen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esarios para la elabo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circui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blemas y soluciones  resp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proce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so de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tr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2 CuadroTexto"/>
          <p:cNvSpPr/>
          <p:nvPr/>
        </p:nvSpPr>
        <p:spPr>
          <a:xfrm>
            <a:off x="730440" y="1571760"/>
            <a:ext cx="761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 duda el proceso que requirió más dedicación debido al arduo traba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represen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3" descr="C:\Documents and Settings\Hernan Donoso\My Documents\Mis archivos recibidos\Nueva carpeta\IMG_2665.JPG"/>
          <p:cNvPicPr/>
          <p:nvPr/>
        </p:nvPicPr>
        <p:blipFill>
          <a:blip r:embed="rId1"/>
          <a:stretch/>
        </p:blipFill>
        <p:spPr>
          <a:xfrm>
            <a:off x="5500800" y="2500200"/>
            <a:ext cx="3020760" cy="4029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C:\Documents and Settings\Hernan Donoso\My Documents\Mis archivos recibidos\Nueva carpeta\IMG_2643.JPG"/>
          <p:cNvPicPr/>
          <p:nvPr/>
        </p:nvPicPr>
        <p:blipFill>
          <a:blip r:embed="rId2"/>
          <a:stretch/>
        </p:blipFill>
        <p:spPr>
          <a:xfrm>
            <a:off x="428760" y="435780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C:\Documents and Settings\Hernan Donoso\My Documents\Mis archivos recibidos\Nueva carpeta\IMG_2636.JPG"/>
          <p:cNvPicPr/>
          <p:nvPr/>
        </p:nvPicPr>
        <p:blipFill>
          <a:blip r:embed="rId3"/>
          <a:stretch/>
        </p:blipFill>
        <p:spPr>
          <a:xfrm>
            <a:off x="2214720" y="2643120"/>
            <a:ext cx="49291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58000" y="58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12969 -0.17592 E">
                                      <p:cBhvr>
                                        <p:cTn id="19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lus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2 CuadroTexto"/>
          <p:cNvSpPr/>
          <p:nvPr/>
        </p:nvSpPr>
        <p:spPr>
          <a:xfrm>
            <a:off x="811080" y="1857240"/>
            <a:ext cx="77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o que respecta de construcción y montaje del proyecto el grupo ve esta eta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Volviendo al objetivo primordial que es sustentar a la comunidad universi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un dispositivo que permita cargar sus celulares de una manera segura el grup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a cumplido el objetivo , además se le da el plus de ser atractivo a la v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 mencionar la posible influencia que tenga sobre la comunidad estudiantil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cho de ocupar energía sol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olar Charger representa más que un dispositivo donde la gente puede car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celular ,puede ser visto como un símbolo que nos dice que hay energía 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as veces no se considera ,que no le sacamos todo el provecho que está pue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nos ,especialmente en tiempos donde se habla mucho del ahorro energétic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5" name="Picture 2" descr="C:\Documents and Settings\Hernan Donoso\My Documents\Mis archivos recibidos\Nueva carpeta\IMG_2668.JPG"/>
          <p:cNvPicPr/>
          <p:nvPr/>
        </p:nvPicPr>
        <p:blipFill>
          <a:blip r:embed="rId1"/>
          <a:stretch/>
        </p:blipFill>
        <p:spPr>
          <a:xfrm>
            <a:off x="0" y="1643040"/>
            <a:ext cx="3214800" cy="4286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C:\Documents and Settings\Hernan Donoso\My Documents\My Pictures\SC\IMG_0217.jpg"/>
          <p:cNvPicPr/>
          <p:nvPr/>
        </p:nvPicPr>
        <p:blipFill>
          <a:blip r:embed="rId2"/>
          <a:stretch/>
        </p:blipFill>
        <p:spPr>
          <a:xfrm>
            <a:off x="5857920" y="1571760"/>
            <a:ext cx="3286080" cy="438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Hernan Donoso\My Documents\My Pictures\SC\IMG_0214.jpg"/>
          <p:cNvPicPr/>
          <p:nvPr/>
        </p:nvPicPr>
        <p:blipFill>
          <a:blip r:embed="rId3"/>
          <a:stretch/>
        </p:blipFill>
        <p:spPr>
          <a:xfrm>
            <a:off x="3000240" y="1643040"/>
            <a:ext cx="3214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3:41:57Z</dcterms:created>
  <dc:creator>hdonoso</dc:creator>
  <dc:description/>
  <dc:language>en-US</dc:language>
  <cp:lastModifiedBy>Wendler</cp:lastModifiedBy>
  <dcterms:modified xsi:type="dcterms:W3CDTF">2008-07-09T08:55:45Z</dcterms:modified>
  <cp:revision>28</cp:revision>
  <dc:subject/>
  <dc:title> asaas</dc:title>
</cp:coreProperties>
</file>