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FBB-DE84-447F-A9A3-D2D29AF4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A05-9B86-4F83-89D6-45C0BE1E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B83-C097-439F-B7BB-3D4AD340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E23-B60A-4992-BB2C-27ADCAA0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FA7-F779-49B7-9B73-4FE93715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FD4-8DBF-4B86-808F-BA512E32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9379-3FC8-4949-8EB5-06F479F4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B00-2FCA-4F2A-8C9C-C1B7C717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8A9-299E-4584-97CF-6E0E8616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3F5-F95B-4F2E-AA31-BB3E7ECE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6409-7677-4673-A262-39903A66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919-6EAA-47A4-B60A-B26F976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27B2-4EFF-41BD-ABEE-947C693D9A3F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EB34-DCDD-481E-A07B-EDA57EC0CD1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Proyecto: Corral de New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0000"/>
                </a:solidFill>
                <a:latin typeface="Calibri"/>
              </a:rPr>
              <a:t>Luis Argomedo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898989"/>
                </a:solidFill>
                <a:latin typeface="Calibri"/>
              </a:rPr>
              <a:t>Ingeniero Civil en Materiales, FCFM, profesor de estado en Física y Ciencias Naturales, Coordinador Área de Ciencias, Colegio Compañía de María Apoquind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0000"/>
                </a:solidFill>
                <a:latin typeface="Calibri"/>
              </a:rPr>
              <a:t>Nelson Zamora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898989"/>
                </a:solidFill>
                <a:latin typeface="Calibri"/>
              </a:rPr>
              <a:t>Académico Departamento de Física, FCFM, Universidad de Chile, Director Escuela de Verano para estudiantes de Enseñanza Med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logo1"/>
          <p:cNvPicPr/>
          <p:nvPr/>
        </p:nvPicPr>
        <p:blipFill>
          <a:blip r:embed="rId1"/>
          <a:stretch/>
        </p:blipFill>
        <p:spPr>
          <a:xfrm>
            <a:off x="6848640" y="0"/>
            <a:ext cx="2295360" cy="457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cfm"/>
          <p:cNvPicPr/>
          <p:nvPr/>
        </p:nvPicPr>
        <p:blipFill>
          <a:blip r:embed="rId2"/>
          <a:stretch/>
        </p:blipFill>
        <p:spPr>
          <a:xfrm>
            <a:off x="38160" y="46080"/>
            <a:ext cx="1962000" cy="647640"/>
          </a:xfrm>
          <a:prstGeom prst="rect">
            <a:avLst/>
          </a:prstGeom>
          <a:ln w="0">
            <a:noFill/>
          </a:ln>
        </p:spPr>
      </p:pic>
      <p:sp>
        <p:nvSpPr>
          <p:cNvPr id="45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28800" y="581040"/>
            <a:ext cx="72864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76320" y="600120"/>
            <a:ext cx="719136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142920" y="184680"/>
            <a:ext cx="757224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DESCRIPCIÓN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urante el último año hemos utilizado una estructura, que denominamos </a:t>
            </a:r>
            <a:r>
              <a:rPr b="0" i="1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rral de Newton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y que consiste en una estructura similar a la que aparece en la figura para ilustrar conceptos físicos.  Por 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scilaciones ( péndu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orque ( palan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hoques (carri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vimientos( carri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DSC02035"/>
          <p:cNvPicPr/>
          <p:nvPr/>
        </p:nvPicPr>
        <p:blipFill>
          <a:blip r:embed="rId1"/>
          <a:stretch/>
        </p:blipFill>
        <p:spPr>
          <a:xfrm>
            <a:off x="928800" y="25002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4857840" y="2857680"/>
            <a:ext cx="20365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SC00172"/>
          <p:cNvPicPr/>
          <p:nvPr/>
        </p:nvPicPr>
        <p:blipFill>
          <a:blip r:embed="rId1"/>
          <a:stretch/>
        </p:blipFill>
        <p:spPr>
          <a:xfrm>
            <a:off x="642960" y="500040"/>
            <a:ext cx="2928960" cy="401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572000" y="5000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largomed\Desktop\Desktop\FotosLab\P1000984.JPG"/>
          <p:cNvPicPr/>
          <p:nvPr/>
        </p:nvPicPr>
        <p:blipFill>
          <a:blip r:embed="rId3"/>
          <a:stretch/>
        </p:blipFill>
        <p:spPr>
          <a:xfrm>
            <a:off x="5072040" y="3786120"/>
            <a:ext cx="30002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 flipV="1" rot="10800000">
            <a:off x="500040" y="1258200"/>
            <a:ext cx="85010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1.-  Mejorar la estructura. </a:t>
            </a:r>
            <a:r>
              <a:rPr b="0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(Equipo de Taller Escuela de Dise</a:t>
            </a:r>
            <a:r>
              <a:rPr b="0" lang="es-ES" sz="1100" spc="-1" strike="noStrike">
                <a:solidFill>
                  <a:srgbClr val="336699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o, Facultad de Arquitectura y Urbanismo, Universidad de Chile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be ser f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il de armar y guardar: Esto para optimizar el tiempo en la clase. Simult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eamente debe mantener esa fase de trabajo en grupo, para crear la necesidad de conversar y exponer sus puntos de vist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Uniones: Algunas de estas deben ser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das de modo que sea algo a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í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como instalar y apretar con un 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ó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 gi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herramientas: Las llaves que se usan deben ser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das exclusivamente para este aparato, para evitar p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didas de herramientas y se adapten a la mano de los niñ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. Creatividad: La estructura misma podr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í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 ser m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 creativa, con colores y formas llamativ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. Costos: Los elementos para realizar los experimentos, no pueden ser caros y deben ser f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ilmente reemplazabl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 flipV="1" rot="10800000">
            <a:off x="214200" y="298440"/>
            <a:ext cx="680256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2.- Dise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ñ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ar un par de Gu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í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as auto-contenidas que acompa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ñ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en al corral con los siguientes te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 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Choqu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- Péndul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2920" y="3340800"/>
            <a:ext cx="581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3.- Probar el  nuevo diseño y las guías auto-contenidas en  al menos dos colegi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419960" cy="560052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2232720" y="14292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racterísticas  técnic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14480" y="676440"/>
            <a:ext cx="711504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14480" y="657360"/>
            <a:ext cx="71150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4280" y="785880"/>
            <a:ext cx="66106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3:45:34Z</dcterms:created>
  <dc:creator>largomed</dc:creator>
  <dc:description/>
  <dc:language>en-US</dc:language>
  <cp:lastModifiedBy>largomed</cp:lastModifiedBy>
  <dcterms:modified xsi:type="dcterms:W3CDTF">2008-07-28T18:39:20Z</dcterms:modified>
  <cp:revision>20</cp:revision>
  <dc:subject/>
  <dc:title>Proyecto: Corral de Newton</dc:title>
</cp:coreProperties>
</file>