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C6A-3B4A-4021-90D0-84445D2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575-D135-4EDC-A0DF-BF49A03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187-936A-4E34-B8B9-3C6AD380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FD3-04CC-40C8-ABAB-79497B29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315B-63B9-4DDD-BABE-CA21B674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4BD1-483B-49F2-8BDB-6877DA82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5A0A-3FD4-4BAD-BF67-31A8FFB1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6503-E553-45A7-817A-B4B4A64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423-F9C2-40F8-8C59-8595EAC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D0A-9BE8-4E45-B344-42123A35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21A-FE56-4740-9639-E19FEEB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5A4-800A-437C-A715-3B17742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50B-7C9F-4E51-A87A-9F76942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A4F7-D0A6-452E-9252-625FAA3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087D-0418-4837-AF7B-D42611E5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3658-E495-49B6-B84A-F97165A4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53D-6622-4AAD-B166-6C92E71C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228-3593-4E67-B0AF-423059E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FE4-ECB3-42BB-A912-DDFBB57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E3B-ED58-43C0-A411-C6A38422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6B4-5D3B-4217-A3DC-087D242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C75-20A5-4BA6-AD40-365376C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565-3D6E-41AE-AD21-187B1AE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923-BEE9-40B0-8AA7-C24C58F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A769-FC18-47A9-A2FF-CEBCA515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066-93EA-46F6-B7FE-15E03521A69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23888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servo mo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ic a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el control de  los servos del curso se utilizará un pic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6F873A  dip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ar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la próxima semana programen el movimiento en 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area individ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391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a a utiliz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08200" y="2017800"/>
            <a:ext cx="672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 de pul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movimiento de un motor servo depende del ancho de un pulso que se le envía al 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eriodo  de este pulso de manera estándar es 20ms  pero el ancho del pulso puede variar desde 1ms a 2ms o desde 0.5ms a 2.5ms dependiendo del mo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uls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571644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información para controlar la placa se envía en bits, cuyos valores van desde 0 a 25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rograma recibe 3 tipos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síncro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Número de 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- Posición dese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íncron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7172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un numero fijo, estándar para todo 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Numero de motor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o una placa de control de un servomotor  puede controlar hasta 8 motores simultáneamente, por lo que el numero a enviar esta entre 0 y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7929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sición deseada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pende del rango del mot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±45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pulso entre 1ms y 2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±90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  pulso entre 0.5ms y 2.5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envía un numero entre 0 y 254, que represente el ángulo deseado según el rango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9:44:10Z</dcterms:created>
  <dc:creator>usuario</dc:creator>
  <dc:description/>
  <dc:language>en-US</dc:language>
  <cp:lastModifiedBy>WinuE</cp:lastModifiedBy>
  <dcterms:modified xsi:type="dcterms:W3CDTF">2008-08-19T21:48:10Z</dcterms:modified>
  <cp:revision>14</cp:revision>
  <dc:subject/>
  <dc:title>Modelo Mano antropomórfica  de dos articulaciones</dc:title>
</cp:coreProperties>
</file>