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6F7B-8D0F-40FD-92E6-604FBE07C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2DFF-8771-4DEF-8D9E-049874C3A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0EAB-2392-4DDD-9BFD-4A46890EA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F3A2-FEF5-4892-991E-43B88E057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DCCC-94B0-4B05-8019-4CF1C2E88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D49D-90EE-4B47-A98A-284B17C60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15AC-6473-435C-AC17-C2036DCAD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4904-CEFF-44D7-A753-CD19203FF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5CC2-23B9-4D4E-9288-5C83D0F6D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E8A1-A990-4FAB-8E0D-3F503153C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860E-BE01-4749-8FFE-65BE462B9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E53F-956E-436E-A510-43799745F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6390C-4894-4225-9AC3-06D58394B6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7777080" cy="540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400800" y="5867280"/>
            <a:ext cx="172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os Aproxim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7400" y="5867280"/>
            <a:ext cx="358128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= 75 [mm], se puede cortar  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= 8[mm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20720" y="333360"/>
            <a:ext cx="9036000" cy="61466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 flipH="1">
            <a:off x="826920" y="3213000"/>
            <a:ext cx="649440" cy="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6T03:10:09Z</dcterms:created>
  <dc:creator>Uchile</dc:creator>
  <dc:description/>
  <dc:language>en-US</dc:language>
  <cp:lastModifiedBy>LI2</cp:lastModifiedBy>
  <dcterms:modified xsi:type="dcterms:W3CDTF">2008-10-10T14:55:23Z</dcterms:modified>
  <cp:revision>2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546354963</vt:r8>
  </property>
  <property fmtid="{D5CDD505-2E9C-101B-9397-08002B2CF9AE}" pid="3" name="_AuthorEmail">
    <vt:lpwstr>hagusto@ing.uchile.cl</vt:lpwstr>
  </property>
  <property fmtid="{D5CDD505-2E9C-101B-9397-08002B2CF9AE}" pid="4" name="_AuthorEmailDisplayName">
    <vt:lpwstr>Héctor Agusto</vt:lpwstr>
  </property>
  <property fmtid="{D5CDD505-2E9C-101B-9397-08002B2CF9AE}" pid="5" name="_EmailSubject">
    <vt:lpwstr>Clase</vt:lpwstr>
  </property>
</Properties>
</file>