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8DD-34F0-459B-B3AB-57FFAA25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F167-3F2A-404B-BA57-2E1CFDB9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803-0A66-473D-8AB4-E1D18710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FA7-E1E8-4A7C-AAF1-6CACCFA7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7B1-00F3-45FA-AC7C-38D826AB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D6D-E4C1-4AEE-B329-66BB750D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365-17D8-4765-B7F8-529A12A2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FE7-7AC9-447B-86C5-C0B6B9A1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DCB-DB53-4E6B-ABC4-9F5D1652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18F-1835-45CB-BEF6-E0467DA0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C91-FAF9-4007-B13D-58240EBC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981-9DA6-4AFA-BA88-8EE7E190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183B-AB9A-46BE-9B5F-A44A95AE0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7777080" cy="540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00800" y="586728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s Aproxi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5867280"/>
            <a:ext cx="3581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75 [mm], se puede cortar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8[m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0720" y="333360"/>
            <a:ext cx="9036000" cy="6146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826920" y="32130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3:10:09Z</dcterms:created>
  <dc:creator>Uchile</dc:creator>
  <dc:description/>
  <dc:language>en-US</dc:language>
  <cp:lastModifiedBy>LI2</cp:lastModifiedBy>
  <dcterms:modified xsi:type="dcterms:W3CDTF">2008-10-10T14:55:23Z</dcterms:modified>
  <cp:revision>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46354963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</vt:lpwstr>
  </property>
</Properties>
</file>