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73A5-20BE-4989-90EA-99993F466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2C82-1889-4D78-AFDE-44B654EE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291D-C60F-4799-BCC0-0BEE98F46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F702-D441-435F-A11F-92A6E0C6C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65AE-3A2F-4B3C-9F61-C0DD4B7A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872A-F88C-4410-A90F-F0108657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D4D8-FD4A-4FF9-94C2-4C8ADDFC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6D53-8E99-4886-A3E0-5BB0E2B9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FEA3-5E37-47C6-859E-52597CC4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5424-7342-49B3-8897-AA92AB06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495D-5D45-43AB-BEA7-C199B31C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7828-BEE2-4A19-A46A-9FF30B71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7ABA-BA75-4800-8284-FEF0E8BF6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7777080" cy="540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400800" y="5867280"/>
            <a:ext cx="172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os Aproxim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5867280"/>
            <a:ext cx="35812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= 75 [mm], se puede cortar 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= 8[mm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0720" y="333360"/>
            <a:ext cx="9036000" cy="6146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H="1">
            <a:off x="826920" y="3213000"/>
            <a:ext cx="64944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03:10:09Z</dcterms:created>
  <dc:creator>Uchile</dc:creator>
  <dc:description/>
  <dc:language>en-US</dc:language>
  <cp:lastModifiedBy>LI2</cp:lastModifiedBy>
  <dcterms:modified xsi:type="dcterms:W3CDTF">2008-10-10T14:55:23Z</dcterms:modified>
  <cp:revision>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46354963</vt:r8>
  </property>
  <property fmtid="{D5CDD505-2E9C-101B-9397-08002B2CF9AE}" pid="3" name="_AuthorEmail">
    <vt:lpwstr>hagusto@ing.uchile.cl</vt:lpwstr>
  </property>
  <property fmtid="{D5CDD505-2E9C-101B-9397-08002B2CF9AE}" pid="4" name="_AuthorEmailDisplayName">
    <vt:lpwstr>Héctor Agusto</vt:lpwstr>
  </property>
  <property fmtid="{D5CDD505-2E9C-101B-9397-08002B2CF9AE}" pid="5" name="_EmailSubject">
    <vt:lpwstr>Clase</vt:lpwstr>
  </property>
</Properties>
</file>