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B47-304E-4E16-AE9B-20BD2956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ABC-0E40-4E79-97EE-C344D06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6B3-DFCD-4E97-ADB3-087ADC4C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EC6-EBD3-4220-BE6B-CA632D3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1B5-A969-4300-8CF7-A06D234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8E1-4A1B-43F2-A8E2-C98B15A4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F5F-5C76-4824-87A9-C448193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6F1-4065-4172-B555-EF06E7B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F54-9FB4-46DD-81D5-4C8F23F4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A4E-131A-4077-80D5-CC074C9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B5B-688F-457D-8C57-496B372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FB8-5C39-488E-85CD-7557680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9FC5-AF88-41AB-B993-EB891DB5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00800" y="58672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867280"/>
            <a:ext cx="3581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, se puede cortar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826920" y="3213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3:10:09Z</dcterms:created>
  <dc:creator>Uchile</dc:creator>
  <dc:description/>
  <dc:language>en-US</dc:language>
  <cp:lastModifiedBy>LI2</cp:lastModifiedBy>
  <dcterms:modified xsi:type="dcterms:W3CDTF">2008-10-10T14:55:23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6354963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</vt:lpwstr>
  </property>
</Properties>
</file>