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FCA-4A6F-4DFF-A5FC-02EC7A66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B53-DE93-4D44-8AF4-5060A67D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38D-D934-421C-B902-81A34C95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E91-C55F-4ED7-8A9C-18FD392F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0DE-4AF3-4AF4-B591-BEE4A460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953-4915-4827-AB98-CF2B98B1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29D-7F72-4633-9310-1EC77136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DFF-F450-481C-A0DE-352F4EAF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63E-ED60-4FF4-BB38-99830870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172-E72F-4DF0-9182-D330FA32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817-A7BA-4143-893E-F6E49F0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E86-C68F-4EF9-882E-3ED58082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DDA1-CFC4-4CCE-BE62-822062E30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etro%20Pow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I1B2 Introducción a la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Ingeniería II - Jorge Cast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37767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 esto nuestra act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islación obliga a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200" y="952560"/>
            <a:ext cx="516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estos  casos ten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 fa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or para fami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érdidas Prod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s leg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 : 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cion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ción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áxi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5 min, 2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preguntas y 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ir ppt a U-cursos hasta 22:00 hrs de día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 p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nGxxP1-titu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3716280"/>
            <a:ext cx="729468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i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Re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 Propuesta (Obje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ción de la mej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os (positivos y nega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71640" y="453960"/>
            <a:ext cx="75610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03280" y="878040"/>
            <a:ext cx="59054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19280" y="1085760"/>
            <a:ext cx="59040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841320"/>
            <a:ext cx="60264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3560" y="581040"/>
            <a:ext cx="719316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8-14T15:07:52Z</dcterms:modified>
  <cp:revision>29</cp:revision>
  <dc:subject/>
  <dc:title>EL63A-Taller de Proyecto en Control II</dc:title>
</cp:coreProperties>
</file>