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96C-9776-4C00-BBB6-9117908A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280-A619-4246-96A7-0F18CB2D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4D4-93D4-43EB-8AC1-7A4DCF5C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D08-BEE7-4650-99DA-154F57EB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2B9-7D29-4B32-BF5E-C70F482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90C-2A54-4AB1-A87C-FEF7251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77E-6195-4A00-8551-58BFA43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EF-EF2D-4138-9305-AB03D55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BC8-81EE-4900-B5E1-464E06D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97B-C2A6-40F6-BFF8-CF4C7F9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42E-669D-4281-BF23-605685D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F1B-3029-4514-B22A-1289553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DCDD-2F63-4764-B090-271ACBCE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etro%20Pow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I1B2 Introducción a l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geniería II - Jorge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37767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 esto nuestra ac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ción obliga a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200" y="952560"/>
            <a:ext cx="516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stos  casos ten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f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or para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érdid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s leg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 : 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cio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ón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x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5 min, 2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preguntas y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ir ppt a U-cursos hasta 22:00 hrs de dí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p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nGxxP1-titu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716280"/>
            <a:ext cx="72946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 Propuesta (Obje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ción de la mej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s (positivos y neg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453960"/>
            <a:ext cx="7561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03280" y="878040"/>
            <a:ext cx="5905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085760"/>
            <a:ext cx="590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841320"/>
            <a:ext cx="6026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560" y="581040"/>
            <a:ext cx="71931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14T15:07:52Z</dcterms:modified>
  <cp:revision>29</cp:revision>
  <dc:subject/>
  <dc:title>EL63A-Taller de Proyecto en Control II</dc:title>
</cp:coreProperties>
</file>