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639-3293-4CE2-90CE-FDD38F33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674-7C58-4F8B-A36B-3BF14011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680-3E32-42DF-8C32-9788BBA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AB7-1987-4FAE-9773-7E09F25E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FD4-ACBD-493E-A74F-9E60425B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4AD-9A1E-4F6E-A3CE-24C0B0E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5D2-09F4-4EBF-8825-48B187E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06D-0277-45E3-91AB-42A17F63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FCF-7ED2-4231-A4E8-A51F706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26B-58F4-46AC-BCB7-DACF34C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AED-A895-4634-B138-D49854A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826-9D7A-4A0E-B490-00404EE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06C-2CF0-4A58-B6D5-6CE7DD299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etro%20Pow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I1B2 Introducción a l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geniería II - Jorge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37767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 esto nuestra ac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ción obliga a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200" y="952560"/>
            <a:ext cx="516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stos  casos ten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f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or para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érdid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s leg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 : 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cio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ón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x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5 min, 2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preguntas y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ir ppt a U-cursos hasta 22:00 hrs de dí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p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nGxxP1-titu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716280"/>
            <a:ext cx="72946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 Propuesta (Obje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ción de la mej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s (positivos y neg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453960"/>
            <a:ext cx="7561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03280" y="878040"/>
            <a:ext cx="5905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085760"/>
            <a:ext cx="590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841320"/>
            <a:ext cx="6026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560" y="581040"/>
            <a:ext cx="71931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14T15:07:52Z</dcterms:modified>
  <cp:revision>29</cp:revision>
  <dc:subject/>
  <dc:title>EL63A-Taller de Proyecto en Control II</dc:title>
</cp:coreProperties>
</file>