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CC2-5D22-4749-967D-B3CB07EC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49A-44A6-4DFE-97FD-683F55FD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808-DE88-49B0-AF99-6E00F615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EC6-A083-418E-8C3F-5DB14963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11E-D671-4ABB-98E2-2819E5DC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F24-FCF3-4A05-B0D7-95BD330D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6D3-309D-40F0-87A5-E261E7A6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2E8-4748-4919-A18C-FBB3973C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878-0231-44BD-A825-82F99B7C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9D68-C981-430C-B207-F3168883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DD5-9E7D-40AD-90B2-3E6779C2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B60-AD36-4D78-9861-E2BA8BB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7423-7A9D-4D84-94AD-E8B488C8A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etro%20Pow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I1B2 Introducción a la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Ingeniería II - Jorge Cast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37767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 esto nuestra act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islación obliga a 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200" y="952560"/>
            <a:ext cx="516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estos  casos ten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 fa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lor para fami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érdidas Prod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ecuencias leg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 : 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entacion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ción: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áxi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5 min, 2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preguntas y deb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bir ppt a U-cursos hasta 22:00 hrs de día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bre p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nGxxP1-titul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3716280"/>
            <a:ext cx="729468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i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álisis Re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a Propuesta (Obje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ción de la mej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os (positivos y nega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71640" y="453960"/>
            <a:ext cx="75610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03280" y="878040"/>
            <a:ext cx="59054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619280" y="1085760"/>
            <a:ext cx="59040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841320"/>
            <a:ext cx="60264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3560" y="581040"/>
            <a:ext cx="719316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8-14T15:07:52Z</dcterms:modified>
  <cp:revision>29</cp:revision>
  <dc:subject/>
  <dc:title>EL63A-Taller de Proyecto en Control II</dc:title>
</cp:coreProperties>
</file>