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28.wmf" ContentType="image/x-wmf"/>
  <Override PartName="/ppt/media/image10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3E0-D1EF-46E2-893A-8DB975DA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5E9-3D7A-484F-B4EF-4F3D9353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C38-8D68-4721-8DB9-BB659EA8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26EE-2B69-4538-8A0F-4BE9E121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33CB-3628-4002-88AB-D09E820A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B97-C119-415D-BF81-55430316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9D0-3157-4A11-AE42-C333FC37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058C-0A17-477B-872D-F4DC4E07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5E8-CAE5-4C1B-9CD1-79D3F55F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445-38DF-4188-BBE1-FACCF34D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F21-9714-46E1-B3D2-9A6F1A91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936-A11B-445D-9575-F3F3188F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61C1-DDE8-4788-ACC1-5E245D6B8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trox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88600" y="304920"/>
            <a:ext cx="447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I1B2 Introducción a la Ingenierí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rge Cast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0440" y="1197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- Dibujar per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83200" y="5300640"/>
            <a:ext cx="32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stra mar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hay aline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635280" y="1268280"/>
          <a:ext cx="4905360" cy="375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1268280"/>
                    <a:ext cx="490536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348000" y="2637000"/>
            <a:ext cx="28908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8360" y="21798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ct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508720" y="4581000"/>
            <a:ext cx="934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80000" y="1341360"/>
            <a:ext cx="5113080" cy="2211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0440" y="119700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- Dar dimen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3240" y="299736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rcar 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9800" y="3213000"/>
            <a:ext cx="358560" cy="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6400" y="292428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tancia ent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516720" y="1628280"/>
            <a:ext cx="360360" cy="15843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516720" y="2492280"/>
            <a:ext cx="863640" cy="720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351240" y="3790800"/>
            <a:ext cx="5792760" cy="306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9240" y="450864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 puede Mod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03640" y="4005360"/>
            <a:ext cx="2808360" cy="720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924360" y="1125360"/>
          <a:ext cx="3295440" cy="287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1125360"/>
                    <a:ext cx="329544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4320" y="119700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- Redondear esqu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06560" y="2060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rcar 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3573360"/>
            <a:ext cx="358560" cy="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284640"/>
            <a:ext cx="14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uer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866920" y="2349360"/>
            <a:ext cx="1513080" cy="432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587640" y="2349360"/>
            <a:ext cx="863640" cy="1150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7240" y="46530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jar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19640" y="1341000"/>
            <a:ext cx="2232000" cy="3527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132000" y="1341360"/>
          <a:ext cx="546732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341360"/>
                    <a:ext cx="54673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1080" y="119700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- Terminar Per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771640" y="1628640"/>
            <a:ext cx="360360" cy="1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560" y="184464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48000" y="2421000"/>
            <a:ext cx="557208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1440" y="119700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- Fijar Esp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1844640"/>
            <a:ext cx="107964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065320" y="1268280"/>
            <a:ext cx="7078680" cy="2743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2160" y="1197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- Va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97040" y="357336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leccionar c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564000" y="3428640"/>
            <a:ext cx="720720" cy="14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1280" y="32846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cia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588000" y="2707920"/>
            <a:ext cx="360360" cy="8650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95280" y="2781360"/>
            <a:ext cx="1944720" cy="151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2520" y="4365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JO: Se crea ent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" y="1197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- Dibujar per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492360" y="1700280"/>
          <a:ext cx="5038920" cy="42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1700280"/>
                    <a:ext cx="50389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916360" y="3502080"/>
            <a:ext cx="503280" cy="142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3213000"/>
            <a:ext cx="14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uer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0720" y="11970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- Ter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077920" y="1628640"/>
            <a:ext cx="7066080" cy="4658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V="1">
            <a:off x="1476360" y="1844280"/>
            <a:ext cx="720720" cy="14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6220080" cy="3362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240" y="119700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- Fijar Profund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77080" y="1413000"/>
            <a:ext cx="86364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8532720" cy="4740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V="1">
            <a:off x="395280" y="2204640"/>
            <a:ext cx="576360" cy="20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60" y="43657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 crea ent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2920" y="609300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UARDAR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ño Asistido por Computador (en inglé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 facilitar re-impresión y cor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un principio permitían “unir” líneas del dibujo (2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uego entienden figuras 3D y generan vistas (“modelos de alambre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algunos comprenden los materiales sólidos (análisis y simulació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03280" y="1268280"/>
          <a:ext cx="6121440" cy="274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268280"/>
                    <a:ext cx="612144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4920" y="90792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- Asistente de V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987640" y="1276200"/>
            <a:ext cx="6156360" cy="5581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>
            <a:off x="2340000" y="2924280"/>
            <a:ext cx="64764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31680" y="9079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- Seleccionar pi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6840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33120" y="907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- Seleccionar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49914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31320" y="907920"/>
            <a:ext cx="400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ón derecho propie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ustar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746440" y="1484280"/>
            <a:ext cx="63975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34560" y="9079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- Agregar C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7151760" cy="4658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71640" y="4941720"/>
            <a:ext cx="72072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835280" y="460440"/>
            <a:ext cx="717048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95280" y="836640"/>
          <a:ext cx="8424720" cy="46242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REA INDIVID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r una pieza de 40x120 mm con sus iniciales (cada letra de 40x30 mm), el espesor de cada letra debe ser alternadamente 5 y 10 mm. Todos los bordes deben estar suavizados (ver ejemplo)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r archivo de pieza, archivo de plano con 3 vistas e isométrica y pdf del plano en U-curso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r impresión del plano próxima cla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ZO 1 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708120"/>
            <a:ext cx="91090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814320"/>
            <a:ext cx="91440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Marcador de contenido"/>
          <p:cNvSpPr/>
          <p:nvPr/>
        </p:nvSpPr>
        <p:spPr>
          <a:xfrm>
            <a:off x="250920" y="1052640"/>
            <a:ext cx="8893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n sobre base de datos de entidades geométricas (puntos, líneas, arc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utoCA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 Autodesk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icros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Bentley Sistems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lliCAD (versión 2001 disponible en PC’s Zoca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work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ProEngine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y Autodesk, In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SketchUp (software gra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70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Solid Ed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Marcador de contenido"/>
          <p:cNvSpPr/>
          <p:nvPr/>
        </p:nvSpPr>
        <p:spPr>
          <a:xfrm>
            <a:off x="0" y="1484280"/>
            <a:ext cx="885672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trabajar en directamente en unidades de ingenie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 en base a piezas sólidas, la que pueden unirse en un conjunto o verse en un p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Solid Ed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contenido"/>
          <p:cNvSpPr/>
          <p:nvPr/>
        </p:nvSpPr>
        <p:spPr>
          <a:xfrm>
            <a:off x="0" y="1484280"/>
            <a:ext cx="885672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 Edge dispone de cinco tipos de document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iezas (.pa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iezas de Chapa (.p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ldaduras (.pw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juntos (.as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lanos(.df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4720" y="497196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7800" y="266688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66754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3280" y="1052640"/>
            <a:ext cx="35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arra de herramientas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4365720"/>
            <a:ext cx="35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arras de herramientas Verti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omen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65000"/>
            <a:ext cx="44658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acer Tutori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41280" y="1700280"/>
            <a:ext cx="7759800" cy="2131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492360" y="1052640"/>
            <a:ext cx="5651640" cy="5324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5580000" y="170028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508360" y="472428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422100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ásicos de Pieza y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940360" y="1125360"/>
          <a:ext cx="2305080" cy="19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125360"/>
                    <a:ext cx="230508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69720" y="119700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- Protrusión por Proy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00" y="27082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- Elegir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547640" y="3213000"/>
            <a:ext cx="7596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8-05T14:27:07Z</dcterms:modified>
  <cp:revision>30</cp:revision>
  <dc:subject/>
  <dc:title>EL63A-Taller de Proyecto en Control II</dc:title>
</cp:coreProperties>
</file>