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27.png" ContentType="image/png"/>
  <Override PartName="/ppt/media/image30.wmf" ContentType="image/x-wmf"/>
  <Override PartName="/ppt/media/image28.wmf" ContentType="image/x-wmf"/>
  <Override PartName="/ppt/media/image10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4C4B-6B35-4A04-8BFD-84145B574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D710-3500-4436-8FEE-40CF537D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293C-2104-4F4C-B9B1-1C2AB46A8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E277-4CB3-46EB-8651-D21EDE471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F714-64F8-4B35-8227-19F15F04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FE43-242E-44D4-9B9D-1080428B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4A6C-7AB5-42F2-B9D9-090C43F8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8498-B63D-4A29-8E54-C730C9A4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F08B-3A88-48F8-952C-4C82B93D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9E16-356B-4867-B532-50812435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BE29-2A21-40DB-8B24-56AA80A0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800C-C998-43B8-8699-EB981A54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1249-C802-4444-A3A8-DDF59F6B2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etrox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188600" y="304920"/>
            <a:ext cx="447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I1B2 Introducción a la Ingenierí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Jorge Cast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ación de una pie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0440" y="119700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- Dibujar perf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83200" y="5300640"/>
            <a:ext cx="320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estra mar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ndo hay aline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635280" y="1268280"/>
          <a:ext cx="4905360" cy="375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1268280"/>
                    <a:ext cx="490536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3348000" y="2637000"/>
            <a:ext cx="28908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8360" y="217980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ctáng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508720" y="4581000"/>
            <a:ext cx="934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780000" y="1341360"/>
            <a:ext cx="5113080" cy="22114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ación de una pie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0440" y="1197000"/>
            <a:ext cx="29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- Dar dimen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03240" y="299736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rcar l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49800" y="3213000"/>
            <a:ext cx="358560" cy="7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56400" y="2924280"/>
            <a:ext cx="22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stancia entr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516720" y="1628280"/>
            <a:ext cx="360360" cy="158436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516720" y="2492280"/>
            <a:ext cx="863640" cy="7207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351240" y="3790800"/>
            <a:ext cx="5792760" cy="3067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99240" y="4508640"/>
            <a:ext cx="28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 puede Modifi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203640" y="4005360"/>
            <a:ext cx="2808360" cy="7207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924360" y="1125360"/>
          <a:ext cx="3295440" cy="287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24360" y="1125360"/>
                    <a:ext cx="3295440" cy="28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ación de una pie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4320" y="119700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- Redondear esqu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06560" y="206064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rcar l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64000" y="3573360"/>
            <a:ext cx="358560" cy="7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3284640"/>
            <a:ext cx="147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cuerd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866920" y="2349360"/>
            <a:ext cx="1513080" cy="4320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6587640" y="2349360"/>
            <a:ext cx="863640" cy="11509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7240" y="465300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ijar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419640" y="1341000"/>
            <a:ext cx="2232000" cy="352764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132000" y="1341360"/>
          <a:ext cx="5467320" cy="342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2000" y="1341360"/>
                    <a:ext cx="546732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ación de una pie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1080" y="1197000"/>
            <a:ext cx="26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- Terminar Perf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771640" y="1628640"/>
            <a:ext cx="360360" cy="1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58560" y="184464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ermina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348000" y="2421000"/>
            <a:ext cx="5572080" cy="33145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ación de una pie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1440" y="119700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- Fijar Espe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40360" y="1844640"/>
            <a:ext cx="107964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065320" y="1268280"/>
            <a:ext cx="7078680" cy="2743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ación de una pie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2160" y="11970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- Vac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97040" y="3573360"/>
            <a:ext cx="24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leccionar c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564000" y="3428640"/>
            <a:ext cx="720720" cy="144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1280" y="328464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aciad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588000" y="2707920"/>
            <a:ext cx="360360" cy="8650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95280" y="2781360"/>
            <a:ext cx="1944720" cy="151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2520" y="436572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JO: Se crea ent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ación de una pie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" y="119700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- Dibujar perf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492360" y="1700280"/>
          <a:ext cx="5038920" cy="423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360" y="1700280"/>
                    <a:ext cx="503892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2916360" y="3502080"/>
            <a:ext cx="503280" cy="142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03280" y="3213000"/>
            <a:ext cx="147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cuerd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ación de una pie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0720" y="11970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- Termi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077920" y="1628640"/>
            <a:ext cx="7066080" cy="46580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 flipV="1">
            <a:off x="1476360" y="1844280"/>
            <a:ext cx="720720" cy="144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484360" y="1989000"/>
            <a:ext cx="6220080" cy="33624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ación de una pie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3240" y="119700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- Fijar Profund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77080" y="1413000"/>
            <a:ext cx="86364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ación de una pie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8532720" cy="47404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 flipV="1">
            <a:off x="395280" y="2204640"/>
            <a:ext cx="576360" cy="208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360" y="4365720"/>
            <a:ext cx="20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 crea ent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2920" y="6093000"/>
            <a:ext cx="17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UARDAR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8 Marcador de contenido"/>
          <p:cNvSpPr/>
          <p:nvPr/>
        </p:nvSpPr>
        <p:spPr>
          <a:xfrm>
            <a:off x="287280" y="1052640"/>
            <a:ext cx="885672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Diseño Asistido por Computador (en inglé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Objetivo facilitar re-impresión y corre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n un principio permitían “unir” líneas del dibujo (2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uego entienden figuras 3D y generan vistas (“modelos de alambre”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ctualmente algunos comprenden los materiales sólidos (análisis y simulación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ación de un pl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403280" y="1268280"/>
          <a:ext cx="6121440" cy="274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1268280"/>
                    <a:ext cx="6121440" cy="27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ación de un pl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4920" y="907920"/>
            <a:ext cx="32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- Asistente de V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987640" y="1276200"/>
            <a:ext cx="6156360" cy="5581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 flipV="1">
            <a:off x="2340000" y="2924280"/>
            <a:ext cx="64764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ación de un pl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31680" y="90792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- Seleccionar pi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979640" y="1557360"/>
            <a:ext cx="68403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ación de un pl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-33120" y="9079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- Seleccionar v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132000" y="1628640"/>
            <a:ext cx="499140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ación de un pl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-31320" y="907920"/>
            <a:ext cx="400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ón derecho propied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ustar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746440" y="1484280"/>
            <a:ext cx="63975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ación de un pl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-34560" y="90792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- Agregar C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763640" y="1628640"/>
            <a:ext cx="7151760" cy="4658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71640" y="4941720"/>
            <a:ext cx="720720" cy="50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835280" y="460440"/>
            <a:ext cx="717048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395280" y="836640"/>
          <a:ext cx="8424720" cy="462420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REA INDIVIDU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11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ar una pieza de 40x120 mm con sus iniciales (cada letra de 40x30 mm), el espesor de cada letra debe ser alternadamente 5 y 10 mm. Todos los bordes deben estar suavizados (ver ejemplo)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egar archivo de pieza, archivo de plano con 3 vistas e isométrica y pdf del plano en U-curso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egar impresión del plano próxima clas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ZO 1 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0" y="708120"/>
            <a:ext cx="910908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0" y="814320"/>
            <a:ext cx="914400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8 Marcador de contenido"/>
          <p:cNvSpPr/>
          <p:nvPr/>
        </p:nvSpPr>
        <p:spPr>
          <a:xfrm>
            <a:off x="250920" y="1052640"/>
            <a:ext cx="889308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rabajan sobre base de datos de entidades geométricas (puntos, líneas, arcos, etc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utoCAD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  Autodesk, In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icrost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 Bentley Sistems, In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IntelliCAD (versión 2001 disponible en PC’s Zocal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olidwork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ProEngine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y Autodesk, Inc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Goog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SketchUp (software grati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44280"/>
            <a:ext cx="9144000" cy="70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lección del Produ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-36360" y="1125360"/>
            <a:ext cx="96487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Solid Ed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8 Marcador de contenido"/>
          <p:cNvSpPr/>
          <p:nvPr/>
        </p:nvSpPr>
        <p:spPr>
          <a:xfrm>
            <a:off x="0" y="1484280"/>
            <a:ext cx="8856720" cy="29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mite trabajar en directamente en unidades de ingenierí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rabaja en base a piezas sólidas, la que pueden unirse en un conjunto o verse en un pl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Solid Ed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8 Marcador de contenido"/>
          <p:cNvSpPr/>
          <p:nvPr/>
        </p:nvSpPr>
        <p:spPr>
          <a:xfrm>
            <a:off x="0" y="1484280"/>
            <a:ext cx="8856720" cy="29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olid Edge dispone de cinco tipos de document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iezas (.pa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iezas de Chapa (.ps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oldaduras (.pw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juntos (.asm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lanos(.df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44720" y="4971960"/>
            <a:ext cx="3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17800" y="2666880"/>
            <a:ext cx="3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908000" y="1413000"/>
            <a:ext cx="667548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643280" y="1052640"/>
            <a:ext cx="35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Barra de herramientas Prin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24000" y="4365720"/>
            <a:ext cx="35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Barras de herramientas Verti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comend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765000"/>
            <a:ext cx="446580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acer Tutoria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41280" y="1700280"/>
            <a:ext cx="7759800" cy="2131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492360" y="1052640"/>
            <a:ext cx="5651640" cy="53244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H="1">
            <a:off x="5580000" y="170028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508360" y="4724280"/>
            <a:ext cx="431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422100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ásicos de Pieza y Pl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ación de una pie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940360" y="1125360"/>
          <a:ext cx="2305080" cy="194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0360" y="1125360"/>
                    <a:ext cx="230508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369720" y="1197000"/>
            <a:ext cx="412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- Protrusión por Proy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600" y="270828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- Elegir pl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547640" y="3213000"/>
            <a:ext cx="759636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LI2</cp:lastModifiedBy>
  <dcterms:modified xsi:type="dcterms:W3CDTF">2008-08-05T14:27:07Z</dcterms:modified>
  <cp:revision>30</cp:revision>
  <dc:subject/>
  <dc:title>EL63A-Taller de Proyecto en Control II</dc:title>
</cp:coreProperties>
</file>