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774F-1FDE-402F-937C-0D364FCC2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73ED-3673-4448-9F2F-1D6D0C307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FE76-05A3-45B1-950A-4671C3437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C462-D0ED-4E90-B63F-1FC6051D6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10C5-D351-4F15-AACC-997E4B015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4493-0D37-4D80-B5A8-01C33C802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BB39-9734-400E-9D27-88EED4556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1A3B-A3D6-44D1-A41E-53BE653DC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556F-E969-4136-8218-7A945EC74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84C9-C59B-43A1-8293-AC9C1652C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64B1-9B13-43DD-963A-8EE47B69B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4F3E-3DAF-4F07-888E-17BD3DDDF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2600B-DA1C-475C-B661-D7E5D5A954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I1B2 Introducción a la Ingeniería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WaterJ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LaserCutter 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-36360" y="987480"/>
            <a:ext cx="4014720" cy="4457520"/>
          </a:xfrm>
          <a:prstGeom prst="rect">
            <a:avLst/>
          </a:prstGeom>
          <a:ln w="0">
            <a:noFill/>
          </a:ln>
        </p:spPr>
      </p:pic>
      <p:sp>
        <p:nvSpPr>
          <p:cNvPr id="66" name="8 Marcador de contenido"/>
          <p:cNvSpPr/>
          <p:nvPr/>
        </p:nvSpPr>
        <p:spPr>
          <a:xfrm>
            <a:off x="4067280" y="1197000"/>
            <a:ext cx="5076720" cy="446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pilog Legend 36 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aser: CO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120 Wat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Área de trabajo:  614x909 mm (36”X24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Altura máxima del objeto: 356mm (14”, no significa que corte este espes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Modos de operación: Grabado y co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LaserCutter 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755640" y="1341360"/>
            <a:ext cx="7380360" cy="45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814920" y="2235240"/>
            <a:ext cx="6805440" cy="4289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LaserCutter 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0" y="1511280"/>
            <a:ext cx="435600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Recomendacion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8 Marcador de contenido"/>
          <p:cNvSpPr/>
          <p:nvPr/>
        </p:nvSpPr>
        <p:spPr>
          <a:xfrm>
            <a:off x="0" y="1125360"/>
            <a:ext cx="9144000" cy="7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Laser Cutter realiza cortes en “</a:t>
            </a:r>
            <a:r>
              <a:rPr b="1" lang="es-CL" sz="3600" spc="-1" strike="noStrike">
                <a:solidFill>
                  <a:srgbClr val="000000"/>
                </a:solidFill>
                <a:latin typeface="Times New Roman"/>
              </a:rPr>
              <a:t>2 dimensiones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Se puede cortar contornos de piezas, vaciados y perforaciones que estén el mismo plan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Perforaciones en otros planos con taladr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Cortes en diagonal se pueden hacer luego con sier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Recomendacion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8 Marcador de contenido"/>
          <p:cNvSpPr/>
          <p:nvPr/>
        </p:nvSpPr>
        <p:spPr>
          <a:xfrm>
            <a:off x="0" y="1125360"/>
            <a:ext cx="9144000" cy="7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Considerar espesor del materia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Se puede pegar piezas ( habrá pegamento: “gotita”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Se recomienda reforzar con guias de alambre de acero de 1.5 mm (hacer perforaciones de 1.2 mm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Se recomienda diseñar piezas con ensam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Recomendacion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303720" y="1405080"/>
            <a:ext cx="5229000" cy="44002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 flipH="1">
            <a:off x="4454640" y="2917800"/>
            <a:ext cx="503280" cy="2890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5608440" y="3565440"/>
            <a:ext cx="502920" cy="2890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6400800" y="3997440"/>
            <a:ext cx="503280" cy="28872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20" y="1341360"/>
            <a:ext cx="21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sam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24360" y="1844640"/>
            <a:ext cx="1439640" cy="1008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268360" y="1700280"/>
            <a:ext cx="1872000" cy="288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43280" y="2637000"/>
            <a:ext cx="126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í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340000" y="2997360"/>
            <a:ext cx="2232000" cy="71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Recomendacion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8 Marcador de contenido"/>
          <p:cNvSpPr/>
          <p:nvPr/>
        </p:nvSpPr>
        <p:spPr>
          <a:xfrm>
            <a:off x="0" y="1125360"/>
            <a:ext cx="9144000" cy="7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Para piezas móviles usar alambre de acero de 1.5 mm con perforaciones de 1.6 m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Reducir concentración de esfuerzos. “Redondear” esquinas intern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564000" y="3500280"/>
            <a:ext cx="5111640" cy="27752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724360" y="4508640"/>
            <a:ext cx="576360" cy="1225440"/>
          </a:xfrm>
          <a:prstGeom prst="rightArrow">
            <a:avLst>
              <a:gd name="adj1" fmla="val 50000"/>
              <a:gd name="adj2" fmla="val 5069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771640" y="2708280"/>
            <a:ext cx="3353040" cy="28573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Recomendacion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8 Marcador de contenido"/>
          <p:cNvSpPr/>
          <p:nvPr/>
        </p:nvSpPr>
        <p:spPr>
          <a:xfrm>
            <a:off x="0" y="1125360"/>
            <a:ext cx="9144000" cy="7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Buscar y reforzar “puntos débiles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40360" y="3357720"/>
            <a:ext cx="576000" cy="1225440"/>
          </a:xfrm>
          <a:prstGeom prst="rightArrow">
            <a:avLst>
              <a:gd name="adj1" fmla="val 50000"/>
              <a:gd name="adj2" fmla="val 5069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132000" y="2703600"/>
            <a:ext cx="2733840" cy="3533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Recomendacion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8 Marcador de contenido"/>
          <p:cNvSpPr/>
          <p:nvPr/>
        </p:nvSpPr>
        <p:spPr>
          <a:xfrm>
            <a:off x="0" y="1125360"/>
            <a:ext cx="9144000" cy="7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Hacer piezas ajustables, que pueden dimensionarse posteriorment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40360" y="3357720"/>
            <a:ext cx="576000" cy="1225440"/>
          </a:xfrm>
          <a:prstGeom prst="rightArrow">
            <a:avLst>
              <a:gd name="adj1" fmla="val 50000"/>
              <a:gd name="adj2" fmla="val 5069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A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8 Marcador de contenido"/>
          <p:cNvSpPr/>
          <p:nvPr/>
        </p:nvSpPr>
        <p:spPr>
          <a:xfrm>
            <a:off x="287280" y="1268280"/>
            <a:ext cx="8856720" cy="46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Manufactura Asistida por Computador (</a:t>
            </a:r>
            <a:r>
              <a:rPr b="1" i="1" lang="es-CL" sz="3600" spc="-1" strike="noStrike">
                <a:solidFill>
                  <a:srgbClr val="000000"/>
                </a:solidFill>
                <a:latin typeface="Times New Roman"/>
              </a:rPr>
              <a:t>Computer Aided Manufacturing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Uso de diversas herramientas de fabricación. Los datos creados en CAD se envían a la máquina para realizar una piez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Básicamente se define la trayectoria de la máquina respecto de la pieza (puede moverse la una, la otra o amba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720800" y="2360520"/>
            <a:ext cx="6019920" cy="42372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Recomendacion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8 Marcador de contenido"/>
          <p:cNvSpPr/>
          <p:nvPr/>
        </p:nvSpPr>
        <p:spPr>
          <a:xfrm>
            <a:off x="0" y="1125360"/>
            <a:ext cx="9144000" cy="7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Optimizar material (cuando sea factible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859280" y="3645000"/>
            <a:ext cx="576360" cy="1225440"/>
          </a:xfrm>
          <a:prstGeom prst="rightArrow">
            <a:avLst>
              <a:gd name="adj1" fmla="val 50000"/>
              <a:gd name="adj2" fmla="val 5069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Recomendacion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8 Marcador de contenido"/>
          <p:cNvSpPr/>
          <p:nvPr/>
        </p:nvSpPr>
        <p:spPr>
          <a:xfrm>
            <a:off x="0" y="1125360"/>
            <a:ext cx="8856720" cy="7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Simplificar diseñ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476360" y="1628640"/>
            <a:ext cx="7667640" cy="4113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476360" y="5734080"/>
            <a:ext cx="7740720" cy="9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Relación CAD-CA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839880" y="1050840"/>
            <a:ext cx="740412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A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8 Marcador de contenido"/>
          <p:cNvSpPr/>
          <p:nvPr/>
        </p:nvSpPr>
        <p:spPr>
          <a:xfrm>
            <a:off x="250920" y="1123920"/>
            <a:ext cx="8856720" cy="532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Objetivo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Dar uso directo a archivos CAD, minimizar la intervención de operador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Ayudar en todas las fases de la manufactura de un producto: planeación del proceso y la producción, maquinado, calendarización, administración y control de cal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Menor tiempo 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y costo de fabricación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, mayor precis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A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8 Marcador de contenido"/>
          <p:cNvSpPr/>
          <p:nvPr/>
        </p:nvSpPr>
        <p:spPr>
          <a:xfrm>
            <a:off x="1619280" y="1773360"/>
            <a:ext cx="655308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Cepillado (superfici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Torneado 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(formas cilíndrica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Taladrado (perforacion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Corte (formas 2D) </a:t>
            </a:r>
            <a:r>
              <a:rPr b="0" lang="es-CL" sz="3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Fresado (formas 3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Ensambla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Soldadu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8 Marcador de contenido"/>
          <p:cNvSpPr/>
          <p:nvPr/>
        </p:nvSpPr>
        <p:spPr>
          <a:xfrm>
            <a:off x="539640" y="1125360"/>
            <a:ext cx="6553440" cy="79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Principales aplicacion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A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8 Marcador de contenido"/>
          <p:cNvSpPr/>
          <p:nvPr/>
        </p:nvSpPr>
        <p:spPr>
          <a:xfrm>
            <a:off x="1116000" y="1773360"/>
            <a:ext cx="7632720" cy="381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Sierras (Maderas, plástico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Alambre Caliente 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(Espuma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Chorro de Agua (</a:t>
            </a:r>
            <a:r>
              <a:rPr b="0" i="1" lang="es-CL" sz="3600" spc="-1" strike="noStrike">
                <a:solidFill>
                  <a:srgbClr val="000000"/>
                </a:solidFill>
                <a:latin typeface="Times New Roman"/>
              </a:rPr>
              <a:t>WaterJet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: Metal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Laser (</a:t>
            </a:r>
            <a:r>
              <a:rPr b="0" i="1" lang="es-CL" sz="3600" spc="-1" strike="noStrike">
                <a:solidFill>
                  <a:srgbClr val="000000"/>
                </a:solidFill>
                <a:latin typeface="Times New Roman"/>
              </a:rPr>
              <a:t>Laser Cutter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: plásticos, maderas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8 Marcador de contenido"/>
          <p:cNvSpPr/>
          <p:nvPr/>
        </p:nvSpPr>
        <p:spPr>
          <a:xfrm>
            <a:off x="539640" y="1125360"/>
            <a:ext cx="6553440" cy="79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Aplicaciones de Cor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-36360" y="692280"/>
            <a:ext cx="4225680" cy="4824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211640" y="1700280"/>
            <a:ext cx="5079960" cy="34495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ier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WaterJ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752480" y="981000"/>
            <a:ext cx="7391520" cy="55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WaterJ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8-09-22T15:57:32Z</dcterms:modified>
  <cp:revision>38</cp:revision>
  <dc:subject/>
  <dc:title>EL63A-Taller de Proyecto en Control II</dc:title>
</cp:coreProperties>
</file>