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9.png" ContentType="image/png"/>
  <Override PartName="/ppt/media/image17.wmf" ContentType="image/x-wmf"/>
  <Override PartName="/ppt/media/image13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18.png" ContentType="image/png"/>
  <Override PartName="/ppt/media/image27.wmf" ContentType="image/x-wmf"/>
  <Override PartName="/ppt/media/image21.jpeg" ContentType="image/jpeg"/>
  <Override PartName="/ppt/media/image16.png" ContentType="image/png"/>
  <Override PartName="/ppt/media/image26.wmf" ContentType="image/x-wmf"/>
  <Override PartName="/ppt/media/image24.jpeg" ContentType="image/jpeg"/>
  <Override PartName="/ppt/media/image23.jpeg" ContentType="image/jpeg"/>
  <Override PartName="/ppt/media/image20.jpeg" ContentType="image/jpeg"/>
  <Override PartName="/ppt/media/image15.wmf" ContentType="image/x-wmf"/>
  <Override PartName="/ppt/media/image22.jpeg" ContentType="image/jpeg"/>
  <Override PartName="/ppt/media/image1.png" ContentType="image/png"/>
  <Override PartName="/ppt/media/image3.png" ContentType="image/png"/>
  <Override PartName="/ppt/media/image14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8B8C-7CDE-4EA8-9C12-CC250B22E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F0B6-1B14-45D2-801C-531952D87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E296-32D9-47DE-95B1-AA4325CA2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11CE-B07C-4B5A-9286-398591B9E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1E53-D5C1-4E12-A934-58ADC53D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DC20-9C7A-4BD1-BA4D-C22A9DE1F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9E04-66DC-4C70-9631-FFAFB9F1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EBC8-5A5C-4189-9E2B-A475A30D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6D02-7BE6-4633-91B3-B9CD49BA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1587-46A2-4373-B8E3-8484CA7E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F55F-28AD-473C-85D7-3B98D2D3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8989-DF9B-47B7-A25A-0B36C38F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99C7-2C15-4502-A234-2BB25D5BD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1B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19600" y="5516640"/>
            <a:ext cx="45687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acio Buldrini 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inea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1125360"/>
            <a:ext cx="85694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Relación de la variable que se desea medir, con la que efectivamente se mide, dependiendo del principio de funcionam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12720" y="3716280"/>
            <a:ext cx="1725840" cy="2016000"/>
            <a:chOff x="612720" y="3716280"/>
            <a:chExt cx="1725840" cy="2016000"/>
          </a:xfrm>
        </p:grpSpPr>
        <p:sp>
          <p:nvSpPr>
            <p:cNvPr id="97" name=""/>
            <p:cNvSpPr/>
            <p:nvPr/>
          </p:nvSpPr>
          <p:spPr>
            <a:xfrm>
              <a:off x="1401840" y="5300640"/>
              <a:ext cx="64764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63640" y="3860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1546200" y="4147920"/>
              <a:ext cx="2160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1546200" y="4292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1546200" y="4435200"/>
              <a:ext cx="2160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1546200" y="457956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1546200" y="472284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1546200" y="486684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762200" y="50115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024200" y="408924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200" y="385920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3840" y="3716280"/>
              <a:ext cx="215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96984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18584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40184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161928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1834920" y="3716280"/>
              <a:ext cx="215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05092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14560" y="4940280"/>
              <a:ext cx="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041120" y="4940280"/>
              <a:ext cx="14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2720" y="45799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419640" y="2492280"/>
            <a:ext cx="5505120" cy="4000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rot="2238600">
            <a:off x="4858920" y="3933360"/>
            <a:ext cx="345960" cy="2232000"/>
          </a:xfrm>
          <a:custGeom>
            <a:avLst/>
            <a:gdLst>
              <a:gd name="textAreaLeft" fmla="*/ 0 w 345960"/>
              <a:gd name="textAreaRight" fmla="*/ 124920 w 34596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932360" y="52293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ona Lineal (elás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4855200">
            <a:off x="6984000" y="2386800"/>
            <a:ext cx="345960" cy="3024000"/>
          </a:xfrm>
          <a:custGeom>
            <a:avLst/>
            <a:gdLst>
              <a:gd name="textAreaLeft" fmla="*/ 0 w 345960"/>
              <a:gd name="textAreaRight" fmla="*/ 124920 w 345960"/>
              <a:gd name="textAreaTop" fmla="*/ 78840 h 3024000"/>
              <a:gd name="textAreaBottom" fmla="*/ 2945160 h 30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73800" y="4156200"/>
            <a:ext cx="20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Zona No Lineal (plás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2637000"/>
            <a:ext cx="26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j. Medir masa con deformación de un res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ango de med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9000"/>
          </a:bodyPr>
          <a:p>
            <a:pPr marL="99360" indent="-99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Valores mínimo y máximo donde se asegura una buena medi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ependen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Principio de funcion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Line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9360" indent="-99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i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Mínima medida po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268360" y="2492280"/>
            <a:ext cx="399132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actit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Cercanía a valor 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2421000"/>
            <a:ext cx="8569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Ej. Se puede medir distancia con una regla graduada en décimas de milímetro (muy sensible), pero con problemas en la ubicación del cero, lo que dará consistentemente medidas inexac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produci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Capacidad de obtener la misma medida, de un mismo valor, en condiciones o instantes disti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851280" y="2054160"/>
            <a:ext cx="497520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stru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6560" y="306864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Resultado: mueren 70 personas (31 chilen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1341360"/>
            <a:ext cx="82090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alla puede ser muy grave: hasta la mue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249228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echa: Octubre de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6560" y="3645000"/>
            <a:ext cx="820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Lugar: Lima, Per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422100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uceso: Accidente AeroPeru vuelo 6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479736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Causa basal: Falla de un sensor del av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El Av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190600" y="1862280"/>
            <a:ext cx="4762800" cy="31334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132000" y="5373720"/>
            <a:ext cx="511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Boing 757-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070520" y="6524640"/>
            <a:ext cx="5038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8080"/>
                </a:solidFill>
                <a:latin typeface="Arial"/>
              </a:rPr>
              <a:t>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6191280"/>
            <a:ext cx="2050920" cy="666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1042920" y="888840"/>
            <a:ext cx="4140360" cy="50803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940360" y="3284640"/>
            <a:ext cx="248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ver vide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Caja “negra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547640" y="1484280"/>
            <a:ext cx="640908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5280" y="328464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Uso de material inadecuado. Se usó cinta color aluminio y  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ebió usarse cinta color naranja fosforescente que d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REMOVE BEFORE FLIGH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9640" y="1701720"/>
            <a:ext cx="8604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Diseño inadecuado que puede ser usado 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Después fue modificado colocando una tap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852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Mantención realizada 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5280" y="4292640"/>
            <a:ext cx="842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No se quitó la ci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4724280"/>
            <a:ext cx="84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Entregar a operaciones con la cinta pu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515772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No seguir los procedimientos estable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865840" y="189000"/>
          <a:ext cx="3278160" cy="191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5840" y="189000"/>
                    <a:ext cx="32781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7020000" y="3500280"/>
          <a:ext cx="2009880" cy="2638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20000" y="3500280"/>
                    <a:ext cx="200988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1765080" cy="35290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250920" y="4076640"/>
            <a:ext cx="2898720" cy="19684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4500720" y="2708280"/>
            <a:ext cx="863280" cy="19400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rot="1287600">
            <a:off x="5724000" y="4149360"/>
            <a:ext cx="1008360" cy="360360"/>
          </a:xfrm>
          <a:prstGeom prst="leftRightArrow">
            <a:avLst>
              <a:gd name="adj1" fmla="val 50000"/>
              <a:gd name="adj2" fmla="val 557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9057200">
            <a:off x="4859280" y="1699920"/>
            <a:ext cx="1008000" cy="360360"/>
          </a:xfrm>
          <a:prstGeom prst="leftRightArrow">
            <a:avLst>
              <a:gd name="adj1" fmla="val 50000"/>
              <a:gd name="adj2" fmla="val 556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rot="19834200">
            <a:off x="3203640" y="4292280"/>
            <a:ext cx="1008000" cy="360360"/>
          </a:xfrm>
          <a:prstGeom prst="leftRightArrow">
            <a:avLst>
              <a:gd name="adj1" fmla="val 50000"/>
              <a:gd name="adj2" fmla="val 556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2665800">
            <a:off x="2771280" y="2276640"/>
            <a:ext cx="1008360" cy="360360"/>
          </a:xfrm>
          <a:prstGeom prst="leftRightArrow">
            <a:avLst>
              <a:gd name="adj1" fmla="val 50000"/>
              <a:gd name="adj2" fmla="val 557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87640" y="2133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148360" y="1628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19640" y="421812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12000" y="39290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059280" y="4724280"/>
            <a:ext cx="388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¿Cómo interactuamos con estos sistem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633744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619280" y="1557360"/>
            <a:ext cx="61722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547640" y="1484280"/>
            <a:ext cx="640908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403280" y="1557360"/>
            <a:ext cx="655344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328464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Debió detectar que sucedía algo anormal cuando d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simultáneamente 2 alarmas que son contradictor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velocidad excesiva y velocidad muy b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1701720"/>
            <a:ext cx="8604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Revisión inadecuada de la máquina antes 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espe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2852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Debilidad del sistema informático a bor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458136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No seguir los procedimientos estable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5013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Se pudo haber desconectado la computadora de a bo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y haber volado con instrumentos análo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8360" y="3860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No haber trabajado en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155736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No aplicar el sentido comú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1916280"/>
            <a:ext cx="82803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ebió mantenerse la potencia e inclinación natural 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avión de acuerdo a la forma acostumbrada de vol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Por ningún motivo apagar motores ni aplicar fre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Es preferible excederse en altura que volar demas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422100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El piloto y el copiloto tenían criterios dispares y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trabajaron en forma colabora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Resumen de Err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8360" y="213192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Mant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8360" y="155736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8360" y="443700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Trabajo en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3860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Sentido Comú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328464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Procedim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6560" y="270828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- Progra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73200" y="487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sultado: 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ACCIDEN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7777080" cy="54072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724360" y="5877000"/>
            <a:ext cx="172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os Aproxim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0360" y="5950080"/>
            <a:ext cx="172728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= 75 [mm]  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= 8[mm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720720" y="333360"/>
            <a:ext cx="9036000" cy="6146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flipH="1">
            <a:off x="826920" y="3429000"/>
            <a:ext cx="649440" cy="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87280" y="3716280"/>
            <a:ext cx="5329440" cy="7923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916360" y="4508640"/>
            <a:ext cx="43923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óxima semana: se define el diseño, Deben entregar planos definitivos (hasta 24hrs después de la cl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stru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39640" y="1833480"/>
            <a:ext cx="3662640" cy="2133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39640" y="1844640"/>
            <a:ext cx="3672000" cy="2138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843280" y="1628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ens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340000" y="414972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Actu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700360" y="2133720"/>
            <a:ext cx="503280" cy="5745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700360" y="3571920"/>
            <a:ext cx="503280" cy="7207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932360" y="4437000"/>
            <a:ext cx="4010040" cy="18144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142040" y="3065400"/>
            <a:ext cx="1143000" cy="96192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sp>
        <p:nvSpPr>
          <p:cNvPr id="68" name=""/>
          <p:cNvSpPr/>
          <p:nvPr/>
        </p:nvSpPr>
        <p:spPr>
          <a:xfrm flipH="1" flipV="1">
            <a:off x="7903800" y="4055760"/>
            <a:ext cx="304920" cy="76212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412416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ansm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020000" y="4508640"/>
            <a:ext cx="576360" cy="5745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360" y="3213000"/>
            <a:ext cx="644364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Variable Análoga (p.ej. Termómetr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De Estatus (luz piloto) (Nivel alto – Nivel Baj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Interruptores (si toman ac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51640" y="1674720"/>
            <a:ext cx="183672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3"/>
          <a:stretch/>
        </p:blipFill>
        <p:spPr>
          <a:xfrm>
            <a:off x="5508720" y="4071960"/>
            <a:ext cx="3673440" cy="25257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50920" y="1341360"/>
            <a:ext cx="56894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74520" indent="-74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ispositivo que transforma variable física en 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520" indent="-74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Contador de bol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nsmis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7280" y="3068280"/>
            <a:ext cx="771552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Hidrául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léctricos (Corriente, Voltaj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Por comunicac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(Foundation Fielbus, Profibus, H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1844640"/>
            <a:ext cx="77151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Envía información del sensor a indicador remoto o sistema d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Actu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-360" y="3213000"/>
            <a:ext cx="644364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Discreto ( Calefactor: prendido/apagado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Análogo ( Válvula: </a:t>
            </a:r>
            <a:r>
              <a:rPr b="1" i="1" lang="es-ES" sz="28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% abier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1341360"/>
            <a:ext cx="62658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74520" indent="-74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ispositivo que permite provocar un efecto en el proc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520" indent="-74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(Aviso de Listo, lo actúa el gatill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343560" y="2924280"/>
          <a:ext cx="2765520" cy="363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43560" y="2924280"/>
                    <a:ext cx="2765520" cy="36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7156440" y="123840"/>
            <a:ext cx="180828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racterísticas de un instru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Principio de Funcion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Respuesta Diná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Line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Rango de med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Sen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Exactit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Reproduc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incipio de Funcion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2421000"/>
            <a:ext cx="728352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Ej: Sensores de niv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Capaci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Conduc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ot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Vibrato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Boyas 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Boyas late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859280" y="3006720"/>
            <a:ext cx="3814920" cy="30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Magné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Miniflo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Neumá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Mecá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Por pre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a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Ultrasó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1268280"/>
            <a:ext cx="72835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enómeno físico, químico, eléctrico, etc. que permite medi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spuest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Forma en el tiempo de la respue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258920" y="2133720"/>
            <a:ext cx="576108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/>
  <dc:description/>
  <dc:language>en-US</dc:language>
  <cp:lastModifiedBy>Uchile</cp:lastModifiedBy>
  <dcterms:modified xsi:type="dcterms:W3CDTF">2008-10-07T13:44:49Z</dcterms:modified>
  <cp:revision>55</cp:revision>
  <dc:subject/>
  <dc:title>EI1B2 Introducción a la Ingeneiría II</dc:title>
</cp:coreProperties>
</file>