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9DAF-4855-4F0E-BA3C-2D0F8E3C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D26-1596-4567-9D00-9E1A9FCF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C503-341D-475C-A146-08077571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F8E1-E63C-4E56-87B8-AA4BC4351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9F3E-A045-4170-9605-9B871B69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CF56-8D55-4DF4-8EDA-7361C2B9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1520-1A7C-46CF-B6D0-6F4A522C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0700-37EE-4B05-BFB0-B505CE26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0CA9-998E-4CA3-A709-C33DB3EC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38FD-58E7-46F2-AFC9-B4158BD8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C17C-06A6-4166-9FAC-ADCB4FFB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5553-A607-4EBE-984F-1540287B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32376-965A-4B6A-B3A3-0D45B157F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B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-36360" y="987480"/>
            <a:ext cx="4014720" cy="4457520"/>
          </a:xfrm>
          <a:prstGeom prst="rect">
            <a:avLst/>
          </a:prstGeom>
          <a:ln w="0">
            <a:noFill/>
          </a:ln>
        </p:spPr>
      </p:pic>
      <p:sp>
        <p:nvSpPr>
          <p:cNvPr id="66" name="8 Marcador de contenido"/>
          <p:cNvSpPr/>
          <p:nvPr/>
        </p:nvSpPr>
        <p:spPr>
          <a:xfrm>
            <a:off x="4067280" y="1197000"/>
            <a:ext cx="5076720" cy="44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pilog Legend 36 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ser: CO</a:t>
            </a:r>
            <a:r>
              <a:rPr b="0" lang="es-CL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 120 Wat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Área de trabajo:  614x909 mm (36”X24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ltura máxima del objeto: 356mm (14”, no significa que corte este espe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odos de operación: Grabado y co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1341360"/>
            <a:ext cx="73803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14920" y="2235240"/>
            <a:ext cx="6805440" cy="4289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LaserCutter 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0" y="1511280"/>
            <a:ext cx="4356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Cutter realiza cortes en “</a:t>
            </a:r>
            <a:r>
              <a:rPr b="1" lang="es-CL" sz="3600" spc="-1" strike="noStrike">
                <a:solidFill>
                  <a:srgbClr val="000000"/>
                </a:solidFill>
                <a:latin typeface="Times New Roman"/>
              </a:rPr>
              <a:t>2 dimensiones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cortar contornos de piezas, vaciados y perforaciones que estén el mismo pl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erforaciones en otros planos con taladr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s en diagonal se pueden hacer luego con sier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nsiderar espesor del mater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puede pegar piezas ( habrá pegamento: “gotita”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reforzar con guias de alambre de acero de 1.5 mm (hacer perforaciones de 1.2 mm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e recomienda diseñar piezas con ensam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303720" y="1405080"/>
            <a:ext cx="5229000" cy="4400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 flipH="1">
            <a:off x="4454640" y="2917800"/>
            <a:ext cx="50328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5608440" y="3565440"/>
            <a:ext cx="502920" cy="2890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400800" y="3997440"/>
            <a:ext cx="503280" cy="28872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20" y="13413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am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24360" y="1844640"/>
            <a:ext cx="1439640" cy="1008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68360" y="1700280"/>
            <a:ext cx="1872000" cy="28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3280" y="2637000"/>
            <a:ext cx="126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í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40000" y="2997360"/>
            <a:ext cx="2232000" cy="7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ara piezas móviles usar alambre de acero de 1.5 mm con perforaciones de 1.6 m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Reducir concentración de esfuerzos. “Redondear” esquinas intern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5111640" cy="2775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724360" y="450864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771640" y="2708280"/>
            <a:ext cx="3353040" cy="2857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uscar y reforzar “puntos débile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132000" y="2703600"/>
            <a:ext cx="2733840" cy="3533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Hacer piezas ajustables, que pueden dimensionarse posteriorment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40360" y="3357720"/>
            <a:ext cx="57600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8 Marcador de contenido"/>
          <p:cNvSpPr/>
          <p:nvPr/>
        </p:nvSpPr>
        <p:spPr>
          <a:xfrm>
            <a:off x="287280" y="1268280"/>
            <a:ext cx="885672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anufactura Asistida por Computador (</a:t>
            </a:r>
            <a:r>
              <a:rPr b="1" i="1" lang="es-CL" sz="3600" spc="-1" strike="noStrike">
                <a:solidFill>
                  <a:srgbClr val="000000"/>
                </a:solidFill>
                <a:latin typeface="Times New Roman"/>
              </a:rPr>
              <a:t>Computer Aided Manufacturing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Uso de diversas herramientas de fabricación. Los datos creados en CAD se envían a la máquina para realizar una piez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Básicamente se define la trayectoria de la máquina respecto de la pieza (puede moverse la una, la otra o amb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720800" y="2360520"/>
            <a:ext cx="6019920" cy="42372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8 Marcador de contenido"/>
          <p:cNvSpPr/>
          <p:nvPr/>
        </p:nvSpPr>
        <p:spPr>
          <a:xfrm>
            <a:off x="0" y="1125360"/>
            <a:ext cx="914400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ptimizar material (cuando sea factible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59280" y="3645000"/>
            <a:ext cx="576360" cy="1225440"/>
          </a:xfrm>
          <a:prstGeom prst="rightArrow">
            <a:avLst>
              <a:gd name="adj1" fmla="val 50000"/>
              <a:gd name="adj2" fmla="val 5069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comendacion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8 Marcador de contenido"/>
          <p:cNvSpPr/>
          <p:nvPr/>
        </p:nvSpPr>
        <p:spPr>
          <a:xfrm>
            <a:off x="0" y="1125360"/>
            <a:ext cx="8856720" cy="7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mplificar diseñ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76360" y="1628640"/>
            <a:ext cx="7667640" cy="4113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476360" y="5734080"/>
            <a:ext cx="774072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Relación CAD-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39880" y="1050840"/>
            <a:ext cx="740412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Marcador de contenido"/>
          <p:cNvSpPr/>
          <p:nvPr/>
        </p:nvSpPr>
        <p:spPr>
          <a:xfrm>
            <a:off x="250920" y="1123920"/>
            <a:ext cx="885672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Objetiv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Dar uso directo a archivos CAD, minimizar la intervención de operado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yudar en todas las fases de la manufactura de un producto: planeación del proceso y la producción, maquinado, calendarización, administración y control de ca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Menor tiempo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y costo de fabricación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, mayor precis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8 Marcador de contenido"/>
          <p:cNvSpPr/>
          <p:nvPr/>
        </p:nvSpPr>
        <p:spPr>
          <a:xfrm>
            <a:off x="1619280" y="1773360"/>
            <a:ext cx="65530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epillado (superfici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orneado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formas cilíndric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Taladrado (perforacion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orte (formas 2D) </a:t>
            </a:r>
            <a:r>
              <a:rPr b="0" lang="es-CL" sz="3600" spc="-1" strike="noStrike">
                <a:solidFill>
                  <a:srgbClr val="ff0000"/>
                </a:solidFill>
                <a:latin typeface="Times New Roman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Fresado (formas 3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Ensambla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oldad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Principales aplicac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8 Marcador de contenido"/>
          <p:cNvSpPr/>
          <p:nvPr/>
        </p:nvSpPr>
        <p:spPr>
          <a:xfrm>
            <a:off x="1116000" y="1773360"/>
            <a:ext cx="7632720" cy="381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Sierras (Maderas, plástico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lambre Caliente </a:t>
            </a: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(Espuma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Chorro de Agua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WaterJet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Metale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Laser (</a:t>
            </a:r>
            <a:r>
              <a:rPr b="0" i="1" lang="es-CL" sz="3600" spc="-1" strike="noStrike">
                <a:solidFill>
                  <a:srgbClr val="000000"/>
                </a:solidFill>
                <a:latin typeface="Times New Roman"/>
              </a:rPr>
              <a:t>Laser Cutter</a:t>
            </a: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: plásticos, madera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8 Marcador de contenido"/>
          <p:cNvSpPr/>
          <p:nvPr/>
        </p:nvSpPr>
        <p:spPr>
          <a:xfrm>
            <a:off x="539640" y="1125360"/>
            <a:ext cx="6553440" cy="79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Times New Roman"/>
              </a:rPr>
              <a:t>Aplicaciones de Cor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-36360" y="692280"/>
            <a:ext cx="4225680" cy="482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211640" y="1700280"/>
            <a:ext cx="507996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er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752480" y="981000"/>
            <a:ext cx="73915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WaterJ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8-09-22T15:57:32Z</dcterms:modified>
  <cp:revision>38</cp:revision>
  <dc:subject/>
  <dc:title>EL63A-Taller de Proyecto en Control II</dc:title>
</cp:coreProperties>
</file>