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44A6-ECE3-4F4D-BC4F-37BC4D72A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EDF3-E836-4A32-8F01-66FCCC37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5E85-C490-4903-98EC-550BFBDA5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52C5-184C-48BA-85BB-4C24895F3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EC07-8CC5-4D98-9B1D-B9DC5276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EC2E-B11C-4346-A55E-59F5BE3B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2B4A-833E-4BD3-B2D4-CD861B19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0A0E-7681-44DD-9C74-BE002DBE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6BC1-7791-4F7F-8709-C301F5F8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01B7-5163-4E5B-BF0D-11F25555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C957-E5A0-4115-AE02-6CEB1A5A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4A4F-51BD-420F-B7DD-5D1BDE91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6156-CB72-4507-B88B-FDB87643C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B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ater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aserCutter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-36360" y="987480"/>
            <a:ext cx="4014720" cy="4457520"/>
          </a:xfrm>
          <a:prstGeom prst="rect">
            <a:avLst/>
          </a:prstGeom>
          <a:ln w="0">
            <a:noFill/>
          </a:ln>
        </p:spPr>
      </p:pic>
      <p:sp>
        <p:nvSpPr>
          <p:cNvPr id="66" name="8 Marcador de contenido"/>
          <p:cNvSpPr/>
          <p:nvPr/>
        </p:nvSpPr>
        <p:spPr>
          <a:xfrm>
            <a:off x="4067280" y="1197000"/>
            <a:ext cx="5076720" cy="44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pilog Legend 36 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ser: CO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120 Wat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Área de trabajo:  614x909 mm (36”X24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ltura máxima del objeto: 356mm (14”, no significa que corte este espes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odos de operación: Grabado y c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aserCutter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738036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814920" y="2235240"/>
            <a:ext cx="6805440" cy="4289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aserCutter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1511280"/>
            <a:ext cx="43560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aser Cutter realiza cortes en “</a:t>
            </a: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2 dimensiones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puede cortar contornos de piezas, vaciados y perforaciones que estén el mismo plan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foraciones en otros planos con taladr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rtes en diagonal se pueden hacer luego con sier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nsiderar espesor del materi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puede pegar piezas ( habrá pegamento: “gotita”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recomienda reforzar con guias de alambre de acero de 1.5 mm (hacer perforaciones de 1.2 mm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recomienda diseñar piezas con ensam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303720" y="1405080"/>
            <a:ext cx="5229000" cy="4400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H="1">
            <a:off x="4454640" y="2917800"/>
            <a:ext cx="503280" cy="2890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608440" y="3565440"/>
            <a:ext cx="502920" cy="2890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400800" y="3997440"/>
            <a:ext cx="503280" cy="2887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0" y="1341360"/>
            <a:ext cx="21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am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24360" y="1844640"/>
            <a:ext cx="1439640" cy="1008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68360" y="1700280"/>
            <a:ext cx="1872000" cy="28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43280" y="263700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40000" y="2997360"/>
            <a:ext cx="2232000" cy="7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ara piezas móviles usar alambre de acero de 1.5 mm con perforaciones de 1.6 m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Reducir concentración de esfuerzos. “Redondear” esquinas inter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564000" y="3500280"/>
            <a:ext cx="5111640" cy="2775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24360" y="4508640"/>
            <a:ext cx="576360" cy="1225440"/>
          </a:xfrm>
          <a:prstGeom prst="rightArrow">
            <a:avLst>
              <a:gd name="adj1" fmla="val 50000"/>
              <a:gd name="adj2" fmla="val 506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771640" y="2708280"/>
            <a:ext cx="3353040" cy="28573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Buscar y reforzar “puntos débile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3357720"/>
            <a:ext cx="576000" cy="1225440"/>
          </a:xfrm>
          <a:prstGeom prst="rightArrow">
            <a:avLst>
              <a:gd name="adj1" fmla="val 50000"/>
              <a:gd name="adj2" fmla="val 506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132000" y="2703600"/>
            <a:ext cx="2733840" cy="3533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Hacer piezas ajustables, que pueden dimensionarse posteriormen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40360" y="3357720"/>
            <a:ext cx="576000" cy="1225440"/>
          </a:xfrm>
          <a:prstGeom prst="rightArrow">
            <a:avLst>
              <a:gd name="adj1" fmla="val 50000"/>
              <a:gd name="adj2" fmla="val 506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8 Marcador de contenido"/>
          <p:cNvSpPr/>
          <p:nvPr/>
        </p:nvSpPr>
        <p:spPr>
          <a:xfrm>
            <a:off x="287280" y="1268280"/>
            <a:ext cx="8856720" cy="46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anufactura Asistida por Computador (</a:t>
            </a:r>
            <a:r>
              <a:rPr b="1" i="1" lang="es-CL" sz="3600" spc="-1" strike="noStrike">
                <a:solidFill>
                  <a:srgbClr val="000000"/>
                </a:solidFill>
                <a:latin typeface="Times New Roman"/>
              </a:rPr>
              <a:t>Computer Aided Manufacturing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Uso de diversas herramientas de fabricación. Los datos creados en CAD se envían a la máquina para realizar una piez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Básicamente se define la trayectoria de la máquina respecto de la pieza (puede moverse la una, la otra o amb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20800" y="2360520"/>
            <a:ext cx="6019920" cy="42372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ptimizar material (cuando sea factible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59280" y="3645000"/>
            <a:ext cx="576360" cy="1225440"/>
          </a:xfrm>
          <a:prstGeom prst="rightArrow">
            <a:avLst>
              <a:gd name="adj1" fmla="val 50000"/>
              <a:gd name="adj2" fmla="val 506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8 Marcador de contenido"/>
          <p:cNvSpPr/>
          <p:nvPr/>
        </p:nvSpPr>
        <p:spPr>
          <a:xfrm>
            <a:off x="0" y="1125360"/>
            <a:ext cx="885672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implificar diseñ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76360" y="1628640"/>
            <a:ext cx="7667640" cy="4113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476360" y="5734080"/>
            <a:ext cx="774072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lación CAD-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9880" y="1050840"/>
            <a:ext cx="740412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8 Marcador de contenido"/>
          <p:cNvSpPr/>
          <p:nvPr/>
        </p:nvSpPr>
        <p:spPr>
          <a:xfrm>
            <a:off x="250920" y="1123920"/>
            <a:ext cx="8856720" cy="532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bjetiv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ar uso directo a archivos CAD, minimizar la intervención de operador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yudar en todas las fases de la manufactura de un producto: planeación del proceso y la producción, maquinado, calendarización, administración y control de c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enor tiempo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y costo de fabricación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, mayor preci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8 Marcador de contenido"/>
          <p:cNvSpPr/>
          <p:nvPr/>
        </p:nvSpPr>
        <p:spPr>
          <a:xfrm>
            <a:off x="1619280" y="1773360"/>
            <a:ext cx="655308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epillado (superfici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orneado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(formas cilíndric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aladrado (perforacion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rte (formas 2D) </a:t>
            </a:r>
            <a:r>
              <a:rPr b="0" lang="es-CL" sz="3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Fresado (formas 3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sambl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oldad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8 Marcador de contenido"/>
          <p:cNvSpPr/>
          <p:nvPr/>
        </p:nvSpPr>
        <p:spPr>
          <a:xfrm>
            <a:off x="539640" y="1125360"/>
            <a:ext cx="6553440" cy="7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rincipales aplicac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8 Marcador de contenido"/>
          <p:cNvSpPr/>
          <p:nvPr/>
        </p:nvSpPr>
        <p:spPr>
          <a:xfrm>
            <a:off x="1116000" y="1773360"/>
            <a:ext cx="7632720" cy="38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ierras (Maderas, plástico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lambre Caliente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(Espum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horro de Agua (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WaterJet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: Meta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aser (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Laser Cutter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: plásticos, madera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8 Marcador de contenido"/>
          <p:cNvSpPr/>
          <p:nvPr/>
        </p:nvSpPr>
        <p:spPr>
          <a:xfrm>
            <a:off x="539640" y="1125360"/>
            <a:ext cx="6553440" cy="7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plicaciones de Cor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-36360" y="692280"/>
            <a:ext cx="4225680" cy="4824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211640" y="1700280"/>
            <a:ext cx="5079960" cy="3449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er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ater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752480" y="981000"/>
            <a:ext cx="739152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ater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9-22T15:57:32Z</dcterms:modified>
  <cp:revision>38</cp:revision>
  <dc:subject/>
  <dc:title>EL63A-Taller de Proyecto en Control II</dc:title>
</cp:coreProperties>
</file>