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689-CFC6-4D57-8BBF-795EFE1E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DED-4124-42B8-9862-449C25F7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568-8B7E-4833-8D72-B2472CB3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DF7-A40D-4041-B4E5-3ACA6BB6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BD2-D25A-46C6-9342-38AF56AB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C26-B258-4711-9884-8039D47A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E17-C72E-48D6-87FF-C58D9D71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40E-7260-4412-BD1D-5C9DE45E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259-5883-4672-8DA4-123DF334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34F-5902-4117-9EEF-A8B0B637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844-78EF-4598-B144-4FED29AD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717-20F3-4AC7-BC61-A35874B9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6604-1465-4419-95CA-AFB058A5A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36360" y="987480"/>
            <a:ext cx="4014720" cy="4457520"/>
          </a:xfrm>
          <a:prstGeom prst="rect">
            <a:avLst/>
          </a:prstGeom>
          <a:ln w="0">
            <a:noFill/>
          </a:ln>
        </p:spPr>
      </p:pic>
      <p:sp>
        <p:nvSpPr>
          <p:cNvPr id="66" name="8 Marcador de contenido"/>
          <p:cNvSpPr/>
          <p:nvPr/>
        </p:nvSpPr>
        <p:spPr>
          <a:xfrm>
            <a:off x="4067280" y="1197000"/>
            <a:ext cx="50767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pilog Legend 36 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er: CO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120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Área de trabajo:  614x909 mm (36”X24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tura máxima del objeto: 356mm (14”, no significa que corte este espes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odos de operación: Grabado y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3803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14920" y="2235240"/>
            <a:ext cx="6805440" cy="428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1511280"/>
            <a:ext cx="4356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Cutter realiza cortes en “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2 dimensiones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cortar contornos de piezas, vaciados y perforaciones que estén el mismo pl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foraciones en otros planos con talad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s en diagonal se pueden hacer luego con s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siderar espesor del mater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pegar piezas ( habrá pegamento: “gotita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reforzar con guias de alambre de acero de 1.5 mm (hacer perforaciones de 1.2 mm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diseñar piezas con ens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03720" y="1405080"/>
            <a:ext cx="5229000" cy="440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4454640" y="2917800"/>
            <a:ext cx="50328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08440" y="3565440"/>
            <a:ext cx="50292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400800" y="3997440"/>
            <a:ext cx="503280" cy="2887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" y="13413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1844640"/>
            <a:ext cx="1439640" cy="100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1700280"/>
            <a:ext cx="187200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3280" y="26370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997360"/>
            <a:ext cx="223200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ara piezas móviles usar alambre de acero de 1.5 mm con perforaciones de 1.6 m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ducir concentración de esfuerzos. “Redondear” esquinas inter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5111640" cy="2775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450864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35304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uscar y reforzar “puntos débil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32000" y="2703600"/>
            <a:ext cx="2733840" cy="3533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cer piezas ajustables, que pueden dimensionarse posteriorm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287280" y="1268280"/>
            <a:ext cx="885672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anufactura Asistida por Computador (</a:t>
            </a: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Computer Aided Manufacturing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o de diversas herramientas de fabricación. Los datos creados en CAD se envían a la máquina para realizar una piez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ásicamente se define la trayectoria de la máquina respecto de la pieza (puede moverse la una, la otra o amb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20800" y="2360520"/>
            <a:ext cx="6019920" cy="4237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ptimizar material (cuando sea factibl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364500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Marcador de contenido"/>
          <p:cNvSpPr/>
          <p:nvPr/>
        </p:nvSpPr>
        <p:spPr>
          <a:xfrm>
            <a:off x="0" y="1125360"/>
            <a:ext cx="885672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mplificar diseñ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7667640" cy="4113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76360" y="5734080"/>
            <a:ext cx="774072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lación CAD-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9880" y="1050840"/>
            <a:ext cx="74041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Marcador de contenido"/>
          <p:cNvSpPr/>
          <p:nvPr/>
        </p:nvSpPr>
        <p:spPr>
          <a:xfrm>
            <a:off x="250920" y="1123920"/>
            <a:ext cx="8856720" cy="53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ar uso directo a archivos CAD, minimizar la intervención de operado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yudar en todas las fases de la manufactura de un producto: planeación del proceso y la producción, maquinado, calendarización, administración y control de c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enor tiemp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y costo de fabricació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, mayor prec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contenido"/>
          <p:cNvSpPr/>
          <p:nvPr/>
        </p:nvSpPr>
        <p:spPr>
          <a:xfrm>
            <a:off x="1619280" y="1773360"/>
            <a:ext cx="655308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epillado (superfic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rneado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formas cilíndric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ladrado (perforac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 (formas 2D) </a:t>
            </a:r>
            <a:r>
              <a:rPr b="0" lang="es-CL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resado (formas 3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dad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incipales aplicac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1116000" y="1773360"/>
            <a:ext cx="763272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erras (Maderas, plástic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ambre Caliente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Espum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horro de Agua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WaterJe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Met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Laser Cutter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plásticos, mader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plicaciones de Cor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6360" y="692280"/>
            <a:ext cx="4225680" cy="482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507996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e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52480" y="981000"/>
            <a:ext cx="73915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9-22T15:57:32Z</dcterms:modified>
  <cp:revision>38</cp:revision>
  <dc:subject/>
  <dc:title>EL63A-Taller de Proyecto en Control II</dc:title>
</cp:coreProperties>
</file>