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LATIGO.WAV" ContentType="audio/x-wav"/>
  <Override PartName="/ppt/media/DIAPO.WAV" ContentType="audio/x-wav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3B5-BABC-4D4F-89CB-E689CA1E9EE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F04A-9B99-45EC-954A-DF8B0CED830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F93-369E-4648-8CD9-37AA00BFBD2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7F9-CD96-4473-A1E6-B6238A2238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601-F381-4394-A3B8-F0EE1771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2C0-7F57-409F-859C-0216913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953-64F1-4904-A1F4-4C4BDFF9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684-7811-4DCE-9F76-7EBFCDA1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8447-599F-4A66-A93B-8C6685CB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7C3B-B7B0-49AA-8019-26C3C93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E0A-9452-4E56-94CD-D4C573C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7BC-2DE4-4A62-913B-C5935F8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2C8C-BB73-4B8D-8D71-7F6A2E8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EC57-0076-4CE5-813A-DA3BC0FC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53F-0085-4656-82B7-E5715E50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B33-3EBD-4C47-95FA-774FBCD6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4BD-68A3-43F2-B827-98FE159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6A0-6D22-4B75-952A-6D001C5F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F00D-A44D-4313-9741-4F5BFD6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0F1D-BEDE-4DF2-8D3E-3FF65637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AAB0-05E3-41AB-B3CF-56D4F060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D3C-746D-42E3-BCEC-7FA1EAF2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329-9C95-48F2-B8A8-9F04BE46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537-BB6C-4D5D-9BFA-311AB0D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C83-5FEE-491A-B944-8B2D5F91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1A0-BF0A-4D14-90AF-CEB571A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9F9-B79D-4A3F-8FEA-2FC95F4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E78-5C0A-405C-A277-89F3625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035-897E-4EEC-A49D-EC04967D606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EF8-FBD5-44BC-A7F4-CD016222D7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1"/>
          <p:cNvSpPr/>
          <p:nvPr/>
        </p:nvSpPr>
        <p:spPr>
          <a:xfrm>
            <a:off x="250920" y="3068640"/>
            <a:ext cx="8642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APACITACIÓ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STRATEGIA Y ANALISIS F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19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692280"/>
            <a:ext cx="2771640" cy="201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2_VerticalOficialfcfm_JPG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2319120" cy="17175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5003640" y="692280"/>
            <a:ext cx="2771640" cy="2016000"/>
            <a:chOff x="5003640" y="692280"/>
            <a:chExt cx="2771640" cy="2016000"/>
          </a:xfrm>
        </p:grpSpPr>
        <p:sp>
          <p:nvSpPr>
            <p:cNvPr id="95" name=""/>
            <p:cNvSpPr/>
            <p:nvPr/>
          </p:nvSpPr>
          <p:spPr>
            <a:xfrm>
              <a:off x="5003640" y="692280"/>
              <a:ext cx="2771640" cy="20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CMS" descr=""/>
            <p:cNvPicPr/>
            <p:nvPr/>
          </p:nvPicPr>
          <p:blipFill>
            <a:blip r:embed="rId2"/>
            <a:stretch/>
          </p:blipFill>
          <p:spPr>
            <a:xfrm>
              <a:off x="5074920" y="907920"/>
              <a:ext cx="266400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9640" y="620640"/>
            <a:ext cx="78487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s-ES_tradnl" sz="4000" spc="-1" strike="noStrike">
                <a:solidFill>
                  <a:srgbClr val="ffffff"/>
                </a:solidFill>
                <a:latin typeface="Trebuchet MS"/>
              </a:rPr>
              <a:t>Misión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la declaración general respecto del “que hacer” del negocio/actividad para alcanzar el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782800" y="2583000"/>
            <a:ext cx="373392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cisiones estratégicas claves en la definición de 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4205160"/>
            <a:ext cx="3124080" cy="1008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finir el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alcance del negoci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que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termina dónde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76720" y="4149720"/>
            <a:ext cx="3657600" cy="13136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r las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etencias  únicas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asociadas al negocio, lo cual determina </a:t>
            </a: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ómo 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78000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148360" y="3789360"/>
            <a:ext cx="304560" cy="304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3208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041560" y="1098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Como construir una mi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1484280"/>
            <a:ext cx="84978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ofre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productos y beneficios que gen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necesidades satisface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A quién satisfacem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mplia descripción de los merc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Dó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(alcance de la cobertura geográfica del nego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rebuchet MS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8880" y="1635120"/>
            <a:ext cx="8166240" cy="42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Calibri"/>
              </a:rPr>
              <a:t>ANALISIS FOD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3 Marcador de contenido" descr=""/>
          <p:cNvPicPr/>
          <p:nvPr/>
        </p:nvPicPr>
        <p:blipFill>
          <a:blip r:embed="rId1"/>
          <a:stretch/>
        </p:blipFill>
        <p:spPr>
          <a:xfrm>
            <a:off x="365040" y="1822320"/>
            <a:ext cx="8425080" cy="46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1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404640"/>
              <a:ext cx="4022640" cy="61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Fortaleza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posi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cursos valiosos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Valor agreg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Habilidades y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edes de apoy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er conoc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la le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bjetivos cla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643280" y="260280"/>
            <a:ext cx="4427640" cy="6338880"/>
            <a:chOff x="4643280" y="260280"/>
            <a:chExt cx="4427640" cy="6338880"/>
          </a:xfrm>
        </p:grpSpPr>
        <p:sp>
          <p:nvSpPr>
            <p:cNvPr id="184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6200" y="476280"/>
              <a:ext cx="4032360" cy="61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Debilidad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ctores neg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u obstác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rdida va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experi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s redes de contac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Rigide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a capacidad de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Falta recurs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breendeud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Desord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1080" y="260280"/>
            <a:ext cx="4319640" cy="6337440"/>
            <a:chOff x="181080" y="260280"/>
            <a:chExt cx="4319640" cy="6337440"/>
          </a:xfrm>
        </p:grpSpPr>
        <p:sp>
          <p:nvSpPr>
            <p:cNvPr id="189" name=""/>
            <p:cNvSpPr/>
            <p:nvPr/>
          </p:nvSpPr>
          <p:spPr>
            <a:xfrm>
              <a:off x="181080" y="260280"/>
              <a:ext cx="4319640" cy="6337440"/>
            </a:xfrm>
            <a:custGeom>
              <a:avLst/>
              <a:gdLst>
                <a:gd name="textAreaLeft" fmla="*/ 210600 w 4319640"/>
                <a:gd name="textAreaRight" fmla="*/ 4109040 w 4319640"/>
                <a:gd name="textAreaTop" fmla="*/ 210600 h 6337440"/>
                <a:gd name="textAreaBottom" fmla="*/ 6126840 h 6337440"/>
              </a:gdLst>
              <a:ahLst/>
              <a:rect l="textAreaLeft" t="textAreaTop" r="textAreaRight" b="textAreaBottom"/>
              <a:pathLst>
                <a:path w="21600" h="31689">
                  <a:moveTo>
                    <a:pt x="3600" y="0"/>
                  </a:moveTo>
                  <a:arcTo wR="3600" hR="3600" stAng="16200000" swAng="-5400000"/>
                  <a:lnTo>
                    <a:pt x="0" y="28089"/>
                  </a:lnTo>
                  <a:arcTo wR="3600" hR="3600" stAng="10800000" swAng="-5400000"/>
                  <a:lnTo>
                    <a:pt x="18000" y="316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04640"/>
              <a:ext cx="4022640" cy="61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Oportun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lementos aprovechables del ento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rec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mplio 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Oportunidad financi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Apoyo organiza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Nuevas tecnologí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ubsi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643280" y="260280"/>
            <a:ext cx="4427640" cy="6404400"/>
            <a:chOff x="4643280" y="260280"/>
            <a:chExt cx="4427640" cy="6404400"/>
          </a:xfrm>
        </p:grpSpPr>
        <p:sp>
          <p:nvSpPr>
            <p:cNvPr id="192" name=""/>
            <p:cNvSpPr/>
            <p:nvPr/>
          </p:nvSpPr>
          <p:spPr>
            <a:xfrm>
              <a:off x="4643280" y="260280"/>
              <a:ext cx="4427640" cy="6337440"/>
            </a:xfrm>
            <a:custGeom>
              <a:avLst/>
              <a:gdLst>
                <a:gd name="textAreaLeft" fmla="*/ 216000 w 4427640"/>
                <a:gd name="textAreaRight" fmla="*/ 4211640 w 4427640"/>
                <a:gd name="textAreaTop" fmla="*/ 216000 h 6337440"/>
                <a:gd name="textAreaBottom" fmla="*/ 6121440 h 6337440"/>
              </a:gdLst>
              <a:ahLst/>
              <a:rect l="textAreaLeft" t="textAreaTop" r="textAreaRight" b="textAreaBottom"/>
              <a:pathLst>
                <a:path w="21600" h="30916">
                  <a:moveTo>
                    <a:pt x="3600" y="0"/>
                  </a:moveTo>
                  <a:arcTo wR="3600" hR="3600" stAng="16200000" swAng="-5400000"/>
                  <a:lnTo>
                    <a:pt x="0" y="27316"/>
                  </a:lnTo>
                  <a:arcTo wR="3600" hR="3600" stAng="10800000" swAng="-5400000"/>
                  <a:lnTo>
                    <a:pt x="18000" y="30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86200" y="476280"/>
              <a:ext cx="4032360" cy="61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mena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Barreras en el amb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eligro para el logro de los 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Sociales, económicos, políticos y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Ejemplo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ercado colaps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Impuestos especi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Much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Poco acceso a recu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Clientes y/o proveedores con mucho po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rebuchet MS"/>
              </a:rPr>
              <a:t>ANALISIS EXTER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rebuchet MS"/>
              </a:rPr>
              <a:t>5 fuerzas de 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Intensidad rivalidad de los competidores act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entrada de nuevos 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prov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rebuchet MS"/>
              </a:rPr>
              <a:t>Poder de negociación de los comp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Rivalidad competidores act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1.- Cuantos competidores teng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rebuchet MS"/>
              </a:rPr>
              <a:t>2.- Cómo es la intensidad de rivalidad entre todos los competido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068640"/>
            <a:ext cx="8136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357720"/>
            <a:ext cx="79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fijos a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costos de salida son muy altos (barreras emocionales o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88000" y="3284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596360" y="386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797360"/>
            <a:ext cx="8136000" cy="20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5013360"/>
            <a:ext cx="6146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crec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quilibrio entre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osto cambio de los compradores e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86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6720" y="5300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609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580536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nuevos participa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557360"/>
            <a:ext cx="7705800" cy="194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844640"/>
            <a:ext cx="70581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los productos son estandarizados (poca diferenci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 producto fácilmente cop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se requiere de baj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596360" y="1773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32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4292640"/>
            <a:ext cx="6147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identificación con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negocio necesita acceso a ultim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22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472428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5229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571680"/>
            <a:ext cx="82468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aprenderemos ho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50920" y="1557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Misión y Visión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se define una 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las oportunidades y amenazas del mercado (análisis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Como descubrir nuestras fortalezas y debilidades (análisis in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Amenaza de productos sustit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48428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989000"/>
            <a:ext cx="7058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disponibilidad de sustitutos cer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a agresividad de los productores de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un alta relación valor-precio su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24400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4072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407664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4437000"/>
            <a:ext cx="61470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cambio del comp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l cliente esta acostumbrado a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3657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157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40720" y="30682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compr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557360"/>
            <a:ext cx="770580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69840" y="1989000"/>
            <a:ext cx="70581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compra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muchos sustitutos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comprador se puede integrar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451640" y="191592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4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4149720"/>
            <a:ext cx="7705800" cy="21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17720" y="4359240"/>
            <a:ext cx="6146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alto costo cambio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ducto influye en la calidad de los productos de los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77080" y="4292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885080" y="2852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51640" y="566100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rebuchet MS"/>
              </a:rPr>
              <a:t>Poder negociación de los provee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/>
          <p:nvPr/>
        </p:nvSpPr>
        <p:spPr>
          <a:xfrm>
            <a:off x="826920" y="1773360"/>
            <a:ext cx="77058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54a954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4560" y="1989000"/>
            <a:ext cx="70578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hay pocos proveedores d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 proveedor se puede integrar hacia ade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un alto costo de cambio de mis proveedores ac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mis proveedores influyen mucho en la calidad de mi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380360" y="184464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380360" y="242064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00000" y="4724280"/>
            <a:ext cx="77058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6c6c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4869000"/>
            <a:ext cx="6147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existe disponibilidad de sustitutos para los productos de mis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rebuchet MS"/>
              </a:rPr>
              <a:t>Si tengo posibilidades de integrarme hacia at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08720" y="573408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941720"/>
            <a:ext cx="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308720" y="314136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44000" y="3789000"/>
            <a:ext cx="0" cy="43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DATOS IMPORTAN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3640" y="1557000"/>
            <a:ext cx="861516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as las fuerzas son igualmente importantes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No todos los factores son igualmente importantes, ni todos están en la lis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tener en cuenta las tendencias futur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rebuchet MS"/>
              </a:rPr>
              <a:t>Hay que ver que muchas veces es mejor crear alianzas que compe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Análisis Interno: </a:t>
            </a: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Calibri"/>
              </a:rPr>
              <a:t>Cadena de Val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primaria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4000" y="162828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In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recepción, almacenaje, manejo de materiales, inventario, devolución a proveed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Operacione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Logística externa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distribución del producto terminado. Almacenaje de productos terminados, procesamiento y programación de pedi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Marketing y Ventas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ducir y facilitar el proceso de compra. Diseño de producto, canales de distribución, determinación de precios, apoyo publicitario, cotizaciones, política de descuentos y despach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Servicio: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valor agregado a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rebuchet MS"/>
              </a:rPr>
              <a:t>Actividades de apoy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1341000"/>
            <a:ext cx="868824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dquisicione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arrollo y uso de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conocimiento experto, procedimientos e insumos tecnológ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nejo de Recursos Humanos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lección, promoción y colocación; evaluación, recompensas, desarrollo administrativo y relación  emplea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fraestructura de la Firma: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989000"/>
            <a:ext cx="8642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idea es buscar una ventaja competitiva, que se traduce en un nivel de rentabilidad por sobre el promedio de l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 identifican tres estrategias genéricas (categorías de estrategias) para alcanzar una ventaja competitiva sos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rebuchet MS"/>
              </a:rPr>
              <a:t>ESTRATEGIAS COMPETITIVAS GEN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71280" y="1790640"/>
            <a:ext cx="889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Liderazgo general en costos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requiere funcionamiento eficiente, reducción de costos en producción y gastos generales, equipo de ventas, publicidad; muchos clientes etc. El margen se obtiene reduciendo el c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Diferenci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Trebuchet MS"/>
              </a:rPr>
              <a:t>Focalización:</a:t>
            </a:r>
            <a:r>
              <a:rPr b="0" lang="es-ES_tradnl" sz="2200" spc="-1" strike="noStrike">
                <a:solidFill>
                  <a:srgbClr val="ffffff"/>
                </a:solidFill>
                <a:latin typeface="Trebuchet MS"/>
              </a:rPr>
              <a:t> concentrarse en un grupo particular de compradores (segmento de mercado) o ámbito geográfico. Hay focalización tanto en diferenciación como en liderazgo en co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333360"/>
            <a:ext cx="84643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499"/>
              </a:spcBef>
              <a:spcAft>
                <a:spcPts val="54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rebuchet MS"/>
              </a:rPr>
              <a:t>Que hace que algunos negocios tengan éxito y otro fracas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50920" y="1989000"/>
            <a:ext cx="83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industrial donde se desarro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ontexto Global y Social: País, sus características y recur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rebuchet MS"/>
              </a:rPr>
              <a:t>Capacidades y Estrategias de la Propia Compañ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192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rebuchet MS"/>
                <a:ea typeface="Arial"/>
              </a:rPr>
              <a:t>Estrategia abarca el propósito general de una Organ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971640" y="765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620640"/>
            <a:ext cx="4176720" cy="1656000"/>
            <a:chOff x="324000" y="620640"/>
            <a:chExt cx="4176720" cy="1656000"/>
          </a:xfrm>
        </p:grpSpPr>
        <p:sp>
          <p:nvSpPr>
            <p:cNvPr id="105" name=""/>
            <p:cNvSpPr/>
            <p:nvPr/>
          </p:nvSpPr>
          <p:spPr>
            <a:xfrm>
              <a:off x="32400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6560" y="65232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atrón coherente, unificador e integrativo que apoya la Toma de Decision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24000" y="2565360"/>
            <a:ext cx="4176720" cy="1655640"/>
            <a:chOff x="324000" y="2565360"/>
            <a:chExt cx="4176720" cy="1655640"/>
          </a:xfrm>
        </p:grpSpPr>
        <p:sp>
          <p:nvSpPr>
            <p:cNvPr id="108" name=""/>
            <p:cNvSpPr/>
            <p:nvPr/>
          </p:nvSpPr>
          <p:spPr>
            <a:xfrm>
              <a:off x="32400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dc5454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60" y="2637000"/>
              <a:ext cx="3889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identificar y determinar el propósito de nuestro negocio (objetivos, prioridades)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4000" y="4437000"/>
            <a:ext cx="4176720" cy="1656000"/>
            <a:chOff x="324000" y="4437000"/>
            <a:chExt cx="4176720" cy="1656000"/>
          </a:xfrm>
        </p:grpSpPr>
        <p:sp>
          <p:nvSpPr>
            <p:cNvPr id="111" name=""/>
            <p:cNvSpPr/>
            <p:nvPr/>
          </p:nvSpPr>
          <p:spPr>
            <a:xfrm>
              <a:off x="32400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465300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yuda a seleccionar los negocios/actividades en que va a estar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716360" y="620640"/>
            <a:ext cx="4176720" cy="1656000"/>
            <a:chOff x="4716360" y="620640"/>
            <a:chExt cx="4176720" cy="1656000"/>
          </a:xfrm>
        </p:grpSpPr>
        <p:sp>
          <p:nvSpPr>
            <p:cNvPr id="114" name=""/>
            <p:cNvSpPr/>
            <p:nvPr/>
          </p:nvSpPr>
          <p:spPr>
            <a:xfrm>
              <a:off x="4716360" y="62064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934c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9280" y="907920"/>
              <a:ext cx="381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Abarca todos los niveles jerárquicos y funcionales</a:t>
              </a:r>
              <a:r>
                <a:rPr b="0" lang="es-MX" sz="2400" spc="-1" strike="noStrike">
                  <a:solidFill>
                    <a:srgbClr val="ffffff"/>
                  </a:solidFill>
                  <a:latin typeface="Trebuchet MS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16360" y="2565360"/>
            <a:ext cx="4176720" cy="1994400"/>
            <a:chOff x="4716360" y="2565360"/>
            <a:chExt cx="4176720" cy="1994400"/>
          </a:xfrm>
        </p:grpSpPr>
        <p:sp>
          <p:nvSpPr>
            <p:cNvPr id="117" name=""/>
            <p:cNvSpPr/>
            <p:nvPr/>
          </p:nvSpPr>
          <p:spPr>
            <a:xfrm>
              <a:off x="4716360" y="2565360"/>
              <a:ext cx="417672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66"/>
                </a:gs>
                <a:gs pos="50000">
                  <a:srgbClr val="934c93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88000" y="2637000"/>
              <a:ext cx="4033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Puede asegurar la continuidad del negocio en el tiempo adaptándose al medio cambi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4437000"/>
            <a:ext cx="4176720" cy="1656000"/>
            <a:chOff x="4716360" y="4437000"/>
            <a:chExt cx="4176720" cy="1656000"/>
          </a:xfrm>
        </p:grpSpPr>
        <p:sp>
          <p:nvSpPr>
            <p:cNvPr id="120" name=""/>
            <p:cNvSpPr/>
            <p:nvPr/>
          </p:nvSpPr>
          <p:spPr>
            <a:xfrm>
              <a:off x="4716360" y="4437000"/>
              <a:ext cx="4176720" cy="165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6cc3c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653000"/>
              <a:ext cx="403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rebuchet MS"/>
                </a:rPr>
                <a:t>Su esencia es lograr ventajas competitivas en el nego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865160" y="59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56320" y="24922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rebuchet MS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35520" y="2276640"/>
            <a:ext cx="4158000" cy="1922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eutralizar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rregir de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be0e3"/>
              </a:buClr>
              <a:buSzPct val="11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xplotar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410364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uscar oportunidades que puedan posicionar la empresa con una ventaja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492360" y="2803680"/>
            <a:ext cx="1295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79640" y="2997360"/>
            <a:ext cx="0" cy="838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956920" y="479736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CREA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4859280" y="5013360"/>
            <a:ext cx="9144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96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755640" y="40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tenta lograr una </a:t>
            </a: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ventaja sostenible a largo plazo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en cada uno de sus negocios/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1979640" y="1703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301932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916280"/>
            <a:ext cx="829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rebuchet MS"/>
              </a:rPr>
              <a:t>¿</a:t>
            </a:r>
            <a:r>
              <a:rPr b="0" lang="es-ES_tradnl" sz="4400" spc="-1" strike="noStrike">
                <a:solidFill>
                  <a:srgbClr val="ffffff"/>
                </a:solidFill>
                <a:latin typeface="Trebuchet MS"/>
              </a:rPr>
              <a:t>Cuáles son los grupos de factores que son centrales para decidir como abordar el nego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84360" y="119700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42920" y="549360"/>
            <a:ext cx="7272360" cy="1800000"/>
            <a:chOff x="1042920" y="549360"/>
            <a:chExt cx="7272360" cy="1800000"/>
          </a:xfrm>
        </p:grpSpPr>
        <p:sp>
          <p:nvSpPr>
            <p:cNvPr id="137" name=""/>
            <p:cNvSpPr/>
            <p:nvPr/>
          </p:nvSpPr>
          <p:spPr>
            <a:xfrm>
              <a:off x="1042920" y="549360"/>
              <a:ext cx="7272360" cy="180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ff"/>
                </a:gs>
                <a:gs pos="50000">
                  <a:srgbClr val="6c6cfe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8920" y="693360"/>
              <a:ext cx="676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Internos:            Fortalezas (que hago bien) Debilidades (que hago mal)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0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708280"/>
            <a:ext cx="7272360" cy="1800360"/>
            <a:chOff x="1042920" y="2708280"/>
            <a:chExt cx="7272360" cy="1800360"/>
          </a:xfrm>
        </p:grpSpPr>
        <p:sp>
          <p:nvSpPr>
            <p:cNvPr id="143" name=""/>
            <p:cNvSpPr/>
            <p:nvPr/>
          </p:nvSpPr>
          <p:spPr>
            <a:xfrm>
              <a:off x="1042920" y="2708280"/>
              <a:ext cx="7272360" cy="180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54a954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58920" y="2811600"/>
              <a:ext cx="69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ffffff"/>
                  </a:solidFill>
                  <a:latin typeface="Trebuchet MS"/>
                </a:rPr>
                <a:t>Factores Externos:              Atractivo de la industria, comportamiento competidores, etc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892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lanificación Estratégica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40080" y="990720"/>
            <a:ext cx="4952880" cy="11430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44840" y="990720"/>
            <a:ext cx="47718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Misión del Nego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ámbitos: de producto, de mercado y geográf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-identificación de las competencias distin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modo de conseguir un liderazgo competitiv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11280" y="2209680"/>
            <a:ext cx="365760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839880" y="2286000"/>
            <a:ext cx="33242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In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in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ríticos para lograr una ventaj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mpeti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Fortalezas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bil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106960" y="2209680"/>
            <a:ext cx="3505320" cy="1905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28804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Análisis Exter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(Desempeño pasado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proyecciones futura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dentificación de factores 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que contribuyen al atractiv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finición de Oportun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y Amenaz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20960" y="4343400"/>
            <a:ext cx="3733920" cy="990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201840" y="4419720"/>
            <a:ext cx="314352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Formulación de la Estrate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Verdana"/>
              </a:rPr>
              <a:t>de Negoc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Conjunto de programas gener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500" spc="-1" strike="noStrike">
                <a:solidFill>
                  <a:srgbClr val="ffffff"/>
                </a:solidFill>
                <a:latin typeface="Verdana"/>
              </a:rPr>
              <a:t>de acción a lo largo del añ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973240" y="5335560"/>
            <a:ext cx="3504960" cy="912960"/>
            <a:chOff x="2973240" y="5335560"/>
            <a:chExt cx="3504960" cy="912960"/>
          </a:xfrm>
        </p:grpSpPr>
        <p:sp>
          <p:nvSpPr>
            <p:cNvPr id="155" name="Rectangle 12"/>
            <p:cNvSpPr/>
            <p:nvPr/>
          </p:nvSpPr>
          <p:spPr>
            <a:xfrm>
              <a:off x="2973240" y="5410080"/>
              <a:ext cx="3504960" cy="8384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Verdana"/>
                </a:rPr>
                <a:t>Programación Estratégic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Definición y evaluación 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ffffff"/>
                  </a:solidFill>
                  <a:latin typeface="Verdana"/>
                </a:rPr>
                <a:t>programas específicos de a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725720" y="5335560"/>
              <a:ext cx="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4"/>
          <p:cNvGrpSpPr/>
          <p:nvPr/>
        </p:nvGrpSpPr>
        <p:grpSpPr>
          <a:xfrm>
            <a:off x="3049560" y="6248520"/>
            <a:ext cx="3352680" cy="379440"/>
            <a:chOff x="3049560" y="6248520"/>
            <a:chExt cx="3352680" cy="379440"/>
          </a:xfrm>
        </p:grpSpPr>
        <p:sp>
          <p:nvSpPr>
            <p:cNvPr id="158" name="Rectangle 15"/>
            <p:cNvSpPr/>
            <p:nvPr/>
          </p:nvSpPr>
          <p:spPr>
            <a:xfrm>
              <a:off x="3049560" y="6301080"/>
              <a:ext cx="3352680" cy="3268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Verdana"/>
                </a:rPr>
                <a:t>Presupuesto y Control de Ge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4725720" y="6248520"/>
              <a:ext cx="0" cy="5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2593800" y="2135160"/>
            <a:ext cx="4417920" cy="2208240"/>
            <a:chOff x="2593800" y="2135160"/>
            <a:chExt cx="4417920" cy="2208240"/>
          </a:xfrm>
        </p:grpSpPr>
        <p:sp>
          <p:nvSpPr>
            <p:cNvPr id="161" name="Line 18"/>
            <p:cNvSpPr/>
            <p:nvPr/>
          </p:nvSpPr>
          <p:spPr>
            <a:xfrm>
              <a:off x="4725720" y="2135160"/>
              <a:ext cx="0" cy="2208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>
              <a:off x="2593800" y="4116240"/>
              <a:ext cx="205560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4803480" y="4116240"/>
              <a:ext cx="2208240" cy="1508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6-06T21:20:59Z</dcterms:modified>
  <cp:revision>514</cp:revision>
  <dc:subject/>
  <dc:title>Presentación de PowerPoint</dc:title>
</cp:coreProperties>
</file>