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LATIGO.WAV" ContentType="audio/x-wav"/>
  <Override PartName="/ppt/media/DIAPO.WAV" ContentType="audio/x-wav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E6E6-41DA-47EF-9B23-8FC6A06794B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16BD-6A54-4E60-AC91-4ED7EF953BB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D4DD-E51C-4BB6-884A-2FCDD10887A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ED2F-87DF-49CD-B894-E835FE56D27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4CE-844E-4931-8169-E84356C5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029F-B53C-4062-B098-B85E4CC2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417E-13F1-4737-A265-423E4D9C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8C3-4E75-47F3-A037-7459C25B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EC72-1071-498A-9755-5D845A71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9E55-466A-46AC-AFF4-6EC112C5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FC5E-70AD-4ED5-8D6D-613434D8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DF29-A5CB-4217-94ED-670DC001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2CD6-414D-4055-AC6F-9799709E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E2BF-6B02-482B-808A-D6837055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AE7D-C06A-4236-8F92-B8D31951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383F-F173-42D8-8992-F5022DED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AA13-6628-4584-B40A-FD562BD8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683C-FC56-485A-9E2F-28D196E7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715C-90CE-465E-8B50-DCCEB4BB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2317-B895-449D-B291-3553D1C0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25A1-EDF5-4EA8-B865-3D8DA553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D59-F8E1-4C91-9EC4-41374082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3193-D370-48D6-8A77-50F5224C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9F36-C01A-40BE-B5DB-5E5F3885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F16D-C145-4CEF-804A-8F824B32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3FAB-4439-411A-9377-0A9A55F2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9F9-49DE-4DCE-96EF-536699C2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B0A9-CCBD-46E6-A7B1-94544BF1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FE76-9905-4786-9F27-B7A71D8E927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6C61-58B7-492E-BE46-39E0FE662B9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1"/>
          <p:cNvSpPr/>
          <p:nvPr/>
        </p:nvSpPr>
        <p:spPr>
          <a:xfrm>
            <a:off x="250920" y="3068640"/>
            <a:ext cx="8642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APACITACIÓ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ESTRATEGIA Y ANALISIS F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7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4192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692280"/>
            <a:ext cx="2771640" cy="20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logo2_VerticalOficialfcfm_JPG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2319120" cy="171756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5003640" y="692280"/>
            <a:ext cx="2771640" cy="2016000"/>
            <a:chOff x="5003640" y="692280"/>
            <a:chExt cx="2771640" cy="2016000"/>
          </a:xfrm>
        </p:grpSpPr>
        <p:sp>
          <p:nvSpPr>
            <p:cNvPr id="95" name=""/>
            <p:cNvSpPr/>
            <p:nvPr/>
          </p:nvSpPr>
          <p:spPr>
            <a:xfrm>
              <a:off x="5003640" y="692280"/>
              <a:ext cx="2771640" cy="20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CMS" descr=""/>
            <p:cNvPicPr/>
            <p:nvPr/>
          </p:nvPicPr>
          <p:blipFill>
            <a:blip r:embed="rId2"/>
            <a:stretch/>
          </p:blipFill>
          <p:spPr>
            <a:xfrm>
              <a:off x="5074920" y="907920"/>
              <a:ext cx="2664000" cy="1495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539640" y="620640"/>
            <a:ext cx="784872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1" lang="es-ES_tradnl" sz="4000" spc="-1" strike="noStrike">
                <a:solidFill>
                  <a:srgbClr val="ffffff"/>
                </a:solidFill>
                <a:latin typeface="Trebuchet MS"/>
              </a:rPr>
              <a:t>Misión de Nego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s la declaración general respecto del “que hacer” del negocio/actividad para alcanzar el obje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782800" y="2583000"/>
            <a:ext cx="3733920" cy="1008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Decisiones estratégicas claves en la definición de 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990720" y="4205160"/>
            <a:ext cx="3124080" cy="1008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finir el 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alcance del negocio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que 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determina dónde comp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5076720" y="4149720"/>
            <a:ext cx="3657600" cy="13136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sarrollar las 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ompetencias  únicas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asociadas al negocio, lo cual determina 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ómo comp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 flipH="1">
            <a:off x="3780000" y="3789360"/>
            <a:ext cx="304560" cy="3049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5148360" y="3789360"/>
            <a:ext cx="304560" cy="3049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432080" y="1098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041560" y="1098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95280" y="260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Como construir una mi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1484280"/>
            <a:ext cx="849780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ofrecemo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(amplia descripción de los productos y beneficios que gen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Qué necesidades satisfacem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A quién satisfacemo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(amplia descripción de los merc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Dónd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(alcance de la cobertura geográfica del negoc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ff"/>
                </a:solidFill>
                <a:latin typeface="Trebuchet MS"/>
              </a:rPr>
              <a:t>ANALISIS FO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8880" y="1635120"/>
            <a:ext cx="8166240" cy="424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ff"/>
                </a:solidFill>
                <a:latin typeface="Calibri"/>
              </a:rPr>
              <a:t>ANALISIS FOD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3 Marcador de contenido" descr=""/>
          <p:cNvPicPr/>
          <p:nvPr/>
        </p:nvPicPr>
        <p:blipFill>
          <a:blip r:embed="rId1"/>
          <a:stretch/>
        </p:blipFill>
        <p:spPr>
          <a:xfrm>
            <a:off x="365040" y="1822320"/>
            <a:ext cx="8425080" cy="463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971640" y="76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81080" y="260280"/>
            <a:ext cx="4319640" cy="6337440"/>
            <a:chOff x="181080" y="260280"/>
            <a:chExt cx="4319640" cy="6337440"/>
          </a:xfrm>
        </p:grpSpPr>
        <p:sp>
          <p:nvSpPr>
            <p:cNvPr id="181" name=""/>
            <p:cNvSpPr/>
            <p:nvPr/>
          </p:nvSpPr>
          <p:spPr>
            <a:xfrm>
              <a:off x="181080" y="260280"/>
              <a:ext cx="4319640" cy="6337440"/>
            </a:xfrm>
            <a:custGeom>
              <a:avLst/>
              <a:gdLst>
                <a:gd name="textAreaLeft" fmla="*/ 210600 w 4319640"/>
                <a:gd name="textAreaRight" fmla="*/ 4109040 w 4319640"/>
                <a:gd name="textAreaTop" fmla="*/ 210600 h 6337440"/>
                <a:gd name="textAreaBottom" fmla="*/ 6126840 h 6337440"/>
              </a:gdLst>
              <a:ahLst/>
              <a:rect l="textAreaLeft" t="textAreaTop" r="textAreaRight" b="textAreaBottom"/>
              <a:pathLst>
                <a:path w="21600" h="31689">
                  <a:moveTo>
                    <a:pt x="3600" y="0"/>
                  </a:moveTo>
                  <a:arcTo wR="3600" hR="3600" stAng="16200000" swAng="-5400000"/>
                  <a:lnTo>
                    <a:pt x="0" y="28089"/>
                  </a:lnTo>
                  <a:arcTo wR="3600" hR="3600" stAng="10800000" swAng="-5400000"/>
                  <a:lnTo>
                    <a:pt x="18000" y="316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50000">
                  <a:srgbClr val="6c6cfe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4000" y="404640"/>
              <a:ext cx="4022640" cy="61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Fortaleza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lementos posi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ecursos valiosos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Valor agreg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Habilidades y Experi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edes de contac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edes de apoy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er conoci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Clientela le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Objetivos cla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643280" y="260280"/>
            <a:ext cx="4427640" cy="6338880"/>
            <a:chOff x="4643280" y="260280"/>
            <a:chExt cx="4427640" cy="6338880"/>
          </a:xfrm>
        </p:grpSpPr>
        <p:sp>
          <p:nvSpPr>
            <p:cNvPr id="184" name=""/>
            <p:cNvSpPr/>
            <p:nvPr/>
          </p:nvSpPr>
          <p:spPr>
            <a:xfrm>
              <a:off x="4643280" y="260280"/>
              <a:ext cx="4427640" cy="6337440"/>
            </a:xfrm>
            <a:custGeom>
              <a:avLst/>
              <a:gdLst>
                <a:gd name="textAreaLeft" fmla="*/ 216000 w 4427640"/>
                <a:gd name="textAreaRight" fmla="*/ 4211640 w 4427640"/>
                <a:gd name="textAreaTop" fmla="*/ 216000 h 6337440"/>
                <a:gd name="textAreaBottom" fmla="*/ 6121440 h 6337440"/>
              </a:gdLst>
              <a:ahLst/>
              <a:rect l="textAreaLeft" t="textAreaTop" r="textAreaRight" b="textAreaBottom"/>
              <a:pathLst>
                <a:path w="21600" h="30916">
                  <a:moveTo>
                    <a:pt x="3600" y="0"/>
                  </a:moveTo>
                  <a:arcTo wR="3600" hR="3600" stAng="16200000" swAng="-5400000"/>
                  <a:lnTo>
                    <a:pt x="0" y="27316"/>
                  </a:lnTo>
                  <a:arcTo wR="3600" hR="3600" stAng="10800000" swAng="-5400000"/>
                  <a:lnTo>
                    <a:pt x="18000" y="309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50000">
                  <a:srgbClr val="dc5454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86200" y="476280"/>
              <a:ext cx="4032360" cy="61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Debilidade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Factores nega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Barreras u obstácu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erdida val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a experi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as redes de contac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igide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a capacidad de produc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Falta recurs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obreendeudami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Desord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971640" y="76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81080" y="260280"/>
            <a:ext cx="4319640" cy="6337440"/>
            <a:chOff x="181080" y="260280"/>
            <a:chExt cx="4319640" cy="6337440"/>
          </a:xfrm>
        </p:grpSpPr>
        <p:sp>
          <p:nvSpPr>
            <p:cNvPr id="189" name=""/>
            <p:cNvSpPr/>
            <p:nvPr/>
          </p:nvSpPr>
          <p:spPr>
            <a:xfrm>
              <a:off x="181080" y="260280"/>
              <a:ext cx="4319640" cy="6337440"/>
            </a:xfrm>
            <a:custGeom>
              <a:avLst/>
              <a:gdLst>
                <a:gd name="textAreaLeft" fmla="*/ 210600 w 4319640"/>
                <a:gd name="textAreaRight" fmla="*/ 4109040 w 4319640"/>
                <a:gd name="textAreaTop" fmla="*/ 210600 h 6337440"/>
                <a:gd name="textAreaBottom" fmla="*/ 6126840 h 6337440"/>
              </a:gdLst>
              <a:ahLst/>
              <a:rect l="textAreaLeft" t="textAreaTop" r="textAreaRight" b="textAreaBottom"/>
              <a:pathLst>
                <a:path w="21600" h="31689">
                  <a:moveTo>
                    <a:pt x="3600" y="0"/>
                  </a:moveTo>
                  <a:arcTo wR="3600" hR="3600" stAng="16200000" swAng="-5400000"/>
                  <a:lnTo>
                    <a:pt x="0" y="28089"/>
                  </a:lnTo>
                  <a:arcTo wR="3600" hR="3600" stAng="10800000" swAng="-5400000"/>
                  <a:lnTo>
                    <a:pt x="18000" y="316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50000">
                  <a:srgbClr val="6c6cfe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000" y="404640"/>
              <a:ext cx="4022640" cy="61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Oportunida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lementos aprovechables del entor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ociales, económicos, políticos y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Mercado creci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Amplio merc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Oportunidad financiami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Apoyo organiza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Nuevas tecnologí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ubsid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643280" y="260280"/>
            <a:ext cx="4427640" cy="6404400"/>
            <a:chOff x="4643280" y="260280"/>
            <a:chExt cx="4427640" cy="6404400"/>
          </a:xfrm>
        </p:grpSpPr>
        <p:sp>
          <p:nvSpPr>
            <p:cNvPr id="192" name=""/>
            <p:cNvSpPr/>
            <p:nvPr/>
          </p:nvSpPr>
          <p:spPr>
            <a:xfrm>
              <a:off x="4643280" y="260280"/>
              <a:ext cx="4427640" cy="6337440"/>
            </a:xfrm>
            <a:custGeom>
              <a:avLst/>
              <a:gdLst>
                <a:gd name="textAreaLeft" fmla="*/ 216000 w 4427640"/>
                <a:gd name="textAreaRight" fmla="*/ 4211640 w 4427640"/>
                <a:gd name="textAreaTop" fmla="*/ 216000 h 6337440"/>
                <a:gd name="textAreaBottom" fmla="*/ 6121440 h 6337440"/>
              </a:gdLst>
              <a:ahLst/>
              <a:rect l="textAreaLeft" t="textAreaTop" r="textAreaRight" b="textAreaBottom"/>
              <a:pathLst>
                <a:path w="21600" h="30916">
                  <a:moveTo>
                    <a:pt x="3600" y="0"/>
                  </a:moveTo>
                  <a:arcTo wR="3600" hR="3600" stAng="16200000" swAng="-5400000"/>
                  <a:lnTo>
                    <a:pt x="0" y="27316"/>
                  </a:lnTo>
                  <a:arcTo wR="3600" hR="3600" stAng="10800000" swAng="-5400000"/>
                  <a:lnTo>
                    <a:pt x="18000" y="309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50000">
                  <a:srgbClr val="dc5454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86200" y="476280"/>
              <a:ext cx="4032360" cy="61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menaz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Barreras en el ambi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eligro para el logro de los obje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ociales, económicos, políticos y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Mercado colaps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Impuestos especi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Mucha 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o acceso a recur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Clientes y/o proveedores con mucho po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Trebuchet MS"/>
              </a:rPr>
              <a:t>ANALISIS EXTERN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rebuchet MS"/>
              </a:rPr>
              <a:t>5 fuerzas de Po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Intensidad rivalidad de los competidores act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Amenaza de entrada de nuevos particip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Amenaza de productos sustitu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Poder de negociación de los provee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Poder de negociación de los compra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Rivalidad competidores actua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1.- Cuantos competidores teng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2.- Cómo es la intensidad de rivalidad entre todos los competidor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3068640"/>
            <a:ext cx="8136000" cy="15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4a954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3357720"/>
            <a:ext cx="792144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s costos fijos al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s costos de salida son muy altos (barreras emocionales o gubernament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788000" y="328428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596360" y="3860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4797360"/>
            <a:ext cx="8136000" cy="206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c6c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5013360"/>
            <a:ext cx="614664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crece la ind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diferenciación de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equilibrio entre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costo cambio de los compradores es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4869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16720" y="5300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6093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27640" y="580536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Amenaza de nuevos participan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826920" y="1557360"/>
            <a:ext cx="7705800" cy="19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4a954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42920" y="1844640"/>
            <a:ext cx="705816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los productos son estandarizados (poca diferenci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 producto fácilmente cop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se requiere de baja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596360" y="1773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732720" y="2420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5640" y="4076640"/>
            <a:ext cx="770580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c6c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42920" y="4292640"/>
            <a:ext cx="614700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economías de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a identificación con la m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negocio necesita acceso a ultima 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64000" y="422100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472428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20000" y="522936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156360" y="29239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68360" y="571680"/>
            <a:ext cx="82468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499"/>
              </a:spcBef>
              <a:spcAft>
                <a:spcPts val="5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rebuchet MS"/>
              </a:rPr>
              <a:t>Que aprenderemos ho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250920" y="155736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Misión y Visión d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Como se define una 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Como descubrir las oportunidades y amenazas del mercado (análisis exter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Como descubrir nuestras fortalezas y debilidades (análisis inter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Amenaza de productos sustitu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/>
          <p:nvPr/>
        </p:nvSpPr>
        <p:spPr>
          <a:xfrm>
            <a:off x="900000" y="1484280"/>
            <a:ext cx="7705800" cy="22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4a954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1989000"/>
            <a:ext cx="705816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a disponibilidad de sustitutos cer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a agresividad de los productores de sustit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un alta relación valor-precio sustit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8244000" y="19159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740720" y="2420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6920" y="4076640"/>
            <a:ext cx="770580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c6c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42920" y="4437000"/>
            <a:ext cx="614700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un alto costo cambio del comp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cliente esta acostumbrado a mi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72360" y="43657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48360" y="515772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740720" y="306828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Poder negociación de los comprad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1557360"/>
            <a:ext cx="7705800" cy="22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4a954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69840" y="1989000"/>
            <a:ext cx="705816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pocos compradores de impor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muchos sustitutos de mi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 comprador se puede integrar hacia at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7451640" y="19159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164360" y="2420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5640" y="4149720"/>
            <a:ext cx="7705800" cy="21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c6c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17720" y="4359240"/>
            <a:ext cx="614664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o costo cambio de los comp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 producto influye en la calidad de los productos de los comp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tengo posibilidades de integrarme hacia ade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77080" y="4292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494172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885080" y="2852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51640" y="566100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Poder negociación de los proveed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/>
          <p:nvPr/>
        </p:nvSpPr>
        <p:spPr>
          <a:xfrm>
            <a:off x="826920" y="1773360"/>
            <a:ext cx="770580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4a954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14560" y="1989000"/>
            <a:ext cx="705780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pocos proveedores de impor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 proveedor se puede integrar hacia ade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un alto costo de cambio de mis proveedores act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s proveedores influyen mucho en la calidad de mi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380360" y="1844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380360" y="2420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0000" y="4724280"/>
            <a:ext cx="770580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c6c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4869000"/>
            <a:ext cx="61470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disponibilidad de sustitutos para los productos de mis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tengo posibilidades de integrarme hacia at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308720" y="573408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67640" y="494172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308720" y="314136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244000" y="3789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Trebuchet MS"/>
              </a:rPr>
              <a:t>DATOS IMPORTANT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23640" y="1557000"/>
            <a:ext cx="861516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No todas las fuerzas son igualmente importantes</a:t>
            </a: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No todos los factores son igualmente importantes, ni todos están en la lis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Hay que tener en cuenta las tendencias futur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Hay que ver que muchas veces es mejor crear alianzas que compet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920" y="2420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Calibri"/>
              </a:rPr>
              <a:t>Análisis Interno: </a:t>
            </a:r>
            <a:br>
              <a:rPr sz="4800"/>
            </a:br>
            <a:r>
              <a:rPr b="0" lang="es-CL" sz="4800" spc="-1" strike="noStrike">
                <a:solidFill>
                  <a:srgbClr val="ffffff"/>
                </a:solidFill>
                <a:latin typeface="Calibri"/>
              </a:rPr>
              <a:t>Cadena de Val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Trebuchet MS"/>
              </a:rPr>
              <a:t>Actividades primari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24000" y="1628280"/>
            <a:ext cx="868824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Logística Interna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recepción, almacenaje, manejo de materiales, inventario, devolución a proveedor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Operaciones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transformación de los insumos en el producto/servicio final. Producción, embalaje, montaje, mantenimiento, control de calidad, reemplazo de equip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Logística externa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distribución del producto terminado. Almacenaje de productos terminados, procesamiento y programación de pedi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Marketing y Ventas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nducir y facilitar el proceso de compra. Diseño de producto, canales de distribución, determinación de precios, apoyo publicitario, cotizaciones, política de descuentos y despach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Servicio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valor agregado al cli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Trebuchet MS"/>
              </a:rPr>
              <a:t>Actividades de apoy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50920" y="1341000"/>
            <a:ext cx="868824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Adquisiciones: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compra de materias primas, suministros y otros íte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Desarrollo y uso de Tecnología: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conocimiento experto, procedimientos e insumos tecnológ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Manejo de Recursos Humanos: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selección, promoción y colocación; evaluación, recompensas, desarrollo administrativo y relación  emplea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Infraestructura de la Firma: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gestión general, planificación, finanzas, manejo contable, legal, asuntos de gobierno y gestión de calid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rebuchet MS"/>
              </a:rPr>
              <a:t>ESTRATEGIAS COMPETITIVAS GENER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1989000"/>
            <a:ext cx="86421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l atractivo de la industria (análisis externo) y la evaluación de las capacidades competitivas (análisis interno) tienen como objetivo la definición de la posición del negocio dentro de la indu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La idea es buscar una ventaja competitiva, que se traduce en un nivel de rentabilidad por sobre el promedio de la indu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Se identifican tres estrategias genéricas (categorías de estrategias) para alcanzar una ventaja competitiva sosten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rebuchet MS"/>
              </a:rPr>
              <a:t>ESTRATEGIAS COMPETITIVAS GENER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/>
          <p:nvPr/>
        </p:nvSpPr>
        <p:spPr>
          <a:xfrm>
            <a:off x="71280" y="1790640"/>
            <a:ext cx="8893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Liderazgo general en costos:</a:t>
            </a:r>
            <a:r>
              <a:rPr b="0" lang="es-ES_tradnl" sz="2200" spc="-1" strike="noStrike">
                <a:solidFill>
                  <a:srgbClr val="ffffff"/>
                </a:solidFill>
                <a:latin typeface="Trebuchet MS"/>
              </a:rPr>
              <a:t> requiere funcionamiento eficiente, reducción de costos en producción y gastos generales, equipo de ventas, publicidad; muchos clientes etc. El margen se obtiene reduciendo el cos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Diferenciación:</a:t>
            </a:r>
            <a:r>
              <a:rPr b="0" lang="es-ES_tradnl" sz="2200" spc="-1" strike="noStrike">
                <a:solidFill>
                  <a:srgbClr val="ffffff"/>
                </a:solidFill>
                <a:latin typeface="Trebuchet MS"/>
              </a:rPr>
              <a:t> exige la creación de algo que sea percibido como singular a través de toda la industria. Diseño de producto, imagen de marca, tecnología, servicio al cliente, cobertura, etc. El margen se obtiene aumentando el pre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Focalización:</a:t>
            </a:r>
            <a:r>
              <a:rPr b="0" lang="es-ES_tradnl" sz="2200" spc="-1" strike="noStrike">
                <a:solidFill>
                  <a:srgbClr val="ffffff"/>
                </a:solidFill>
                <a:latin typeface="Trebuchet MS"/>
              </a:rPr>
              <a:t> concentrarse en un grupo particular de compradores (segmento de mercado) o ámbito geográfico. Hay focalización tanto en diferenciación como en liderazgo en cos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50920" y="333360"/>
            <a:ext cx="84643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499"/>
              </a:spcBef>
              <a:spcAft>
                <a:spcPts val="5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rebuchet MS"/>
              </a:rPr>
              <a:t>Que hace que algunos negocios tengan éxito y otro fracas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250920" y="1989000"/>
            <a:ext cx="83534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Contexto industrial donde se desarro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Contexto Global y Social: País, sus características y recur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Capacidades y Estrategias de la Propia Compañ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0040" y="1857240"/>
            <a:ext cx="8229600" cy="192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  <a:ea typeface="Arial"/>
              </a:rPr>
              <a:t>Estrategia abarca el propósito general de una Organiz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971640" y="76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24000" y="620640"/>
            <a:ext cx="4176720" cy="1656000"/>
            <a:chOff x="324000" y="620640"/>
            <a:chExt cx="4176720" cy="1656000"/>
          </a:xfrm>
        </p:grpSpPr>
        <p:sp>
          <p:nvSpPr>
            <p:cNvPr id="105" name=""/>
            <p:cNvSpPr/>
            <p:nvPr/>
          </p:nvSpPr>
          <p:spPr>
            <a:xfrm>
              <a:off x="324000" y="62064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/>
                </a:gs>
                <a:gs pos="50000">
                  <a:srgbClr val="6c6cfe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6560" y="652320"/>
              <a:ext cx="3889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Patrón coherente, unificador e integrativo que apoya la Toma de Decisione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24000" y="2565360"/>
            <a:ext cx="4176720" cy="1655640"/>
            <a:chOff x="324000" y="2565360"/>
            <a:chExt cx="4176720" cy="1655640"/>
          </a:xfrm>
        </p:grpSpPr>
        <p:sp>
          <p:nvSpPr>
            <p:cNvPr id="108" name=""/>
            <p:cNvSpPr/>
            <p:nvPr/>
          </p:nvSpPr>
          <p:spPr>
            <a:xfrm>
              <a:off x="324000" y="2565360"/>
              <a:ext cx="417672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dc5454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8360" y="2637000"/>
              <a:ext cx="3889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yuda a identificar y determinar el propósito de nuestro negocio (objetivos, prioridades)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24000" y="4437000"/>
            <a:ext cx="4176720" cy="1656000"/>
            <a:chOff x="324000" y="4437000"/>
            <a:chExt cx="4176720" cy="1656000"/>
          </a:xfrm>
        </p:grpSpPr>
        <p:sp>
          <p:nvSpPr>
            <p:cNvPr id="111" name=""/>
            <p:cNvSpPr/>
            <p:nvPr/>
          </p:nvSpPr>
          <p:spPr>
            <a:xfrm>
              <a:off x="324000" y="443700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4a954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5280" y="465300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yuda a seleccionar los negocios/actividades en que va a estar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716360" y="620640"/>
            <a:ext cx="4176720" cy="1656000"/>
            <a:chOff x="4716360" y="620640"/>
            <a:chExt cx="4176720" cy="1656000"/>
          </a:xfrm>
        </p:grpSpPr>
        <p:sp>
          <p:nvSpPr>
            <p:cNvPr id="114" name=""/>
            <p:cNvSpPr/>
            <p:nvPr/>
          </p:nvSpPr>
          <p:spPr>
            <a:xfrm>
              <a:off x="4716360" y="62064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934c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59280" y="907920"/>
              <a:ext cx="3818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barca todos los niveles jerárquicos y funcionale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716360" y="2565360"/>
            <a:ext cx="4176720" cy="1994400"/>
            <a:chOff x="4716360" y="2565360"/>
            <a:chExt cx="4176720" cy="1994400"/>
          </a:xfrm>
        </p:grpSpPr>
        <p:sp>
          <p:nvSpPr>
            <p:cNvPr id="117" name=""/>
            <p:cNvSpPr/>
            <p:nvPr/>
          </p:nvSpPr>
          <p:spPr>
            <a:xfrm>
              <a:off x="4716360" y="2565360"/>
              <a:ext cx="417672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66"/>
                </a:gs>
                <a:gs pos="50000">
                  <a:srgbClr val="934c93"/>
                </a:gs>
                <a:gs pos="100000">
                  <a:srgbClr val="66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88000" y="2637000"/>
              <a:ext cx="4033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Puede asegurar la continuidad del negocio en el tiempo adaptándose al medio cambi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716360" y="4437000"/>
            <a:ext cx="4176720" cy="1656000"/>
            <a:chOff x="4716360" y="4437000"/>
            <a:chExt cx="4176720" cy="1656000"/>
          </a:xfrm>
        </p:grpSpPr>
        <p:sp>
          <p:nvSpPr>
            <p:cNvPr id="120" name=""/>
            <p:cNvSpPr/>
            <p:nvPr/>
          </p:nvSpPr>
          <p:spPr>
            <a:xfrm>
              <a:off x="4716360" y="443700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6cc3c3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16360" y="4653000"/>
              <a:ext cx="403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Su esencia es lograr ventajas competitivas en el negoc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865160" y="59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156320" y="24922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rebuchet MS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835520" y="2276640"/>
            <a:ext cx="4158000" cy="1922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Respond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e0e3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Neutralizar 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e0e3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Corregir 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e0e3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Aprovechar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e0e3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xplotar 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68360" y="410364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Buscar oportunidades que puedan posicionar la empresa con una ventaja competi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492360" y="2803680"/>
            <a:ext cx="1295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1979640" y="2997360"/>
            <a:ext cx="0" cy="838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5956920" y="479736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CREAR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4859280" y="5013360"/>
            <a:ext cx="9144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332000" y="9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755640" y="404640"/>
            <a:ext cx="81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Intenta lograr una </a:t>
            </a:r>
            <a:r>
              <a:rPr b="1" lang="es-ES_tradnl" sz="2800" spc="-1" strike="noStrike">
                <a:solidFill>
                  <a:srgbClr val="ffffff"/>
                </a:solidFill>
                <a:latin typeface="Trebuchet MS"/>
              </a:rPr>
              <a:t>ventaja sostenible a largo plazo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 en cada uno de sus negocios/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 flipV="1">
            <a:off x="1979640" y="170316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1979640" y="3019320"/>
            <a:ext cx="0" cy="838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24000" y="1916280"/>
            <a:ext cx="8291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¿</a:t>
            </a:r>
            <a:r>
              <a:rPr b="0" lang="es-ES_tradnl" sz="4400" spc="-1" strike="noStrike">
                <a:solidFill>
                  <a:srgbClr val="ffffff"/>
                </a:solidFill>
                <a:latin typeface="Trebuchet MS"/>
              </a:rPr>
              <a:t>Cuáles son los grupos de factores que son centrales para decidir como abordar el negoc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042920" y="549360"/>
            <a:ext cx="7272360" cy="1800000"/>
            <a:chOff x="1042920" y="549360"/>
            <a:chExt cx="7272360" cy="1800000"/>
          </a:xfrm>
        </p:grpSpPr>
        <p:sp>
          <p:nvSpPr>
            <p:cNvPr id="137" name=""/>
            <p:cNvSpPr/>
            <p:nvPr/>
          </p:nvSpPr>
          <p:spPr>
            <a:xfrm>
              <a:off x="1042920" y="549360"/>
              <a:ext cx="7272360" cy="180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/>
                </a:gs>
                <a:gs pos="50000">
                  <a:srgbClr val="6c6cfe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58920" y="693360"/>
              <a:ext cx="6769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ffffff"/>
                  </a:solidFill>
                  <a:latin typeface="Trebuchet MS"/>
                </a:rPr>
                <a:t>Factores Internos:            Fortalezas (que hago bien) Debilidades (que hago mal)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042920" y="2708280"/>
            <a:ext cx="7272360" cy="1800360"/>
            <a:chOff x="1042920" y="2708280"/>
            <a:chExt cx="7272360" cy="1800360"/>
          </a:xfrm>
        </p:grpSpPr>
        <p:sp>
          <p:nvSpPr>
            <p:cNvPr id="140" name=""/>
            <p:cNvSpPr/>
            <p:nvPr/>
          </p:nvSpPr>
          <p:spPr>
            <a:xfrm>
              <a:off x="1042920" y="2708280"/>
              <a:ext cx="7272360" cy="180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4a954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58920" y="2811600"/>
              <a:ext cx="691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ffffff"/>
                  </a:solidFill>
                  <a:latin typeface="Trebuchet MS"/>
                </a:rPr>
                <a:t>Factores Externos:              Atractivo de la industria, comportamiento competidores, etc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042920" y="2708280"/>
            <a:ext cx="7272360" cy="1800360"/>
            <a:chOff x="1042920" y="2708280"/>
            <a:chExt cx="7272360" cy="1800360"/>
          </a:xfrm>
        </p:grpSpPr>
        <p:sp>
          <p:nvSpPr>
            <p:cNvPr id="143" name=""/>
            <p:cNvSpPr/>
            <p:nvPr/>
          </p:nvSpPr>
          <p:spPr>
            <a:xfrm>
              <a:off x="1042920" y="2708280"/>
              <a:ext cx="7272360" cy="180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4a954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58920" y="2811600"/>
              <a:ext cx="691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ffffff"/>
                  </a:solidFill>
                  <a:latin typeface="Trebuchet MS"/>
                </a:rPr>
                <a:t>Factores Externos:              Atractivo de la industria, comportamiento competidores, etc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892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Planificación Estratégica de Neg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440080" y="990720"/>
            <a:ext cx="4952880" cy="11430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544840" y="990720"/>
            <a:ext cx="47718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Misión del Negoc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-ámbitos: de producto, de mercado y geográf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-identificación de las competencias distintiv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modo de conseguir un liderazgo competitiv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11280" y="2209680"/>
            <a:ext cx="3657600" cy="19051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839880" y="2286000"/>
            <a:ext cx="332424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Análisis Inter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dentificación de factores in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ríticos para lograr una ventaj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ompetiti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finición de Fortalezas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bil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5106960" y="2209680"/>
            <a:ext cx="3505320" cy="19051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5288040" y="226836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Análisis Exter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dentificación de factores ex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que contribuyen al atractivo de 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ndust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finición de Oportun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y Amenaz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20960" y="4343400"/>
            <a:ext cx="3733920" cy="9907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201840" y="4419720"/>
            <a:ext cx="314352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Formulación de la Estrateg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 Negoc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onjunto de programas gener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de acción a lo largo del añ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1"/>
          <p:cNvGrpSpPr/>
          <p:nvPr/>
        </p:nvGrpSpPr>
        <p:grpSpPr>
          <a:xfrm>
            <a:off x="2973240" y="5335560"/>
            <a:ext cx="3504960" cy="912960"/>
            <a:chOff x="2973240" y="5335560"/>
            <a:chExt cx="3504960" cy="912960"/>
          </a:xfrm>
        </p:grpSpPr>
        <p:sp>
          <p:nvSpPr>
            <p:cNvPr id="155" name="Rectangle 12"/>
            <p:cNvSpPr/>
            <p:nvPr/>
          </p:nvSpPr>
          <p:spPr>
            <a:xfrm>
              <a:off x="2973240" y="5410080"/>
              <a:ext cx="3504960" cy="8384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Verdana"/>
                </a:rPr>
                <a:t>Programación Estratégic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ffffff"/>
                  </a:solidFill>
                  <a:latin typeface="Verdana"/>
                </a:rPr>
                <a:t>Definición y evaluación 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ffffff"/>
                  </a:solidFill>
                  <a:latin typeface="Verdana"/>
                </a:rPr>
                <a:t>programas específicos de acc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3"/>
            <p:cNvSpPr/>
            <p:nvPr/>
          </p:nvSpPr>
          <p:spPr>
            <a:xfrm>
              <a:off x="4725720" y="5335560"/>
              <a:ext cx="0" cy="74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4"/>
          <p:cNvGrpSpPr/>
          <p:nvPr/>
        </p:nvGrpSpPr>
        <p:grpSpPr>
          <a:xfrm>
            <a:off x="3049560" y="6248520"/>
            <a:ext cx="3352680" cy="379440"/>
            <a:chOff x="3049560" y="6248520"/>
            <a:chExt cx="3352680" cy="379440"/>
          </a:xfrm>
        </p:grpSpPr>
        <p:sp>
          <p:nvSpPr>
            <p:cNvPr id="158" name="Rectangle 15"/>
            <p:cNvSpPr/>
            <p:nvPr/>
          </p:nvSpPr>
          <p:spPr>
            <a:xfrm>
              <a:off x="3049560" y="6301080"/>
              <a:ext cx="3352680" cy="3268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Verdana"/>
                </a:rPr>
                <a:t>Presupuesto y Control de Gest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6"/>
            <p:cNvSpPr/>
            <p:nvPr/>
          </p:nvSpPr>
          <p:spPr>
            <a:xfrm>
              <a:off x="4725720" y="6248520"/>
              <a:ext cx="0" cy="52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7"/>
          <p:cNvGrpSpPr/>
          <p:nvPr/>
        </p:nvGrpSpPr>
        <p:grpSpPr>
          <a:xfrm>
            <a:off x="2593800" y="2135160"/>
            <a:ext cx="4417920" cy="2208240"/>
            <a:chOff x="2593800" y="2135160"/>
            <a:chExt cx="4417920" cy="2208240"/>
          </a:xfrm>
        </p:grpSpPr>
        <p:sp>
          <p:nvSpPr>
            <p:cNvPr id="161" name="Line 18"/>
            <p:cNvSpPr/>
            <p:nvPr/>
          </p:nvSpPr>
          <p:spPr>
            <a:xfrm>
              <a:off x="4725720" y="2135160"/>
              <a:ext cx="0" cy="2208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9"/>
            <p:cNvSpPr/>
            <p:nvPr/>
          </p:nvSpPr>
          <p:spPr>
            <a:xfrm>
              <a:off x="2593800" y="4116240"/>
              <a:ext cx="2055600" cy="150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0"/>
            <p:cNvSpPr/>
            <p:nvPr/>
          </p:nvSpPr>
          <p:spPr>
            <a:xfrm flipH="1">
              <a:off x="4803480" y="4116240"/>
              <a:ext cx="2208240" cy="150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Solsire</cp:lastModifiedBy>
  <cp:lastPrinted>2004-06-01T23:06:04Z</cp:lastPrinted>
  <dcterms:modified xsi:type="dcterms:W3CDTF">2008-06-06T21:20:59Z</dcterms:modified>
  <cp:revision>514</cp:revision>
  <dc:subject/>
  <dc:title>Presentación de PowerPoint</dc:title>
</cp:coreProperties>
</file>