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LATIGO.WAV" ContentType="audio/x-wav"/>
  <Override PartName="/ppt/media/DIAPO.WAV" ContentType="audio/x-wav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8924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89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98440" y="669960"/>
            <a:ext cx="4461120" cy="334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238280"/>
            <a:ext cx="5486400" cy="40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47692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47692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CD8CB-3E35-4EBF-9E41-A52552C955A9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98440" y="669960"/>
            <a:ext cx="4462560" cy="33465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238280"/>
            <a:ext cx="5486400" cy="40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3 Marcador de número de diapositiva"/>
          <p:cNvSpPr/>
          <p:nvPr/>
        </p:nvSpPr>
        <p:spPr>
          <a:xfrm>
            <a:off x="3884760" y="8477280"/>
            <a:ext cx="2971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45405-B5A8-4C51-86D8-30A22DFED825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98440" y="669960"/>
            <a:ext cx="4462560" cy="33465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238280"/>
            <a:ext cx="5486400" cy="40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3 Marcador de número de diapositiva"/>
          <p:cNvSpPr/>
          <p:nvPr/>
        </p:nvSpPr>
        <p:spPr>
          <a:xfrm>
            <a:off x="3884760" y="8477280"/>
            <a:ext cx="2971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00896-E774-4F8B-81C4-1933E0835AE3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98440" y="669960"/>
            <a:ext cx="4462560" cy="33465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238280"/>
            <a:ext cx="5486400" cy="40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3 Marcador de número de diapositiva"/>
          <p:cNvSpPr/>
          <p:nvPr/>
        </p:nvSpPr>
        <p:spPr>
          <a:xfrm>
            <a:off x="3884760" y="8477280"/>
            <a:ext cx="2971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70BA2-94F1-43D1-B0BC-59B8CFEEFC17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8E90-2C3B-4CD9-B637-404848D06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D45F-0A22-4992-AF7E-8E207526A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C788-028B-48EB-A693-A28A3DB12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D3C1-E503-4EF3-A14E-2CC70A3F4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4BF51-C54A-4B1E-8E89-282787BCF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46912-1E34-458C-A7A7-8A2F5566B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E0933-1210-40D8-AB4D-0E9118265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CA340-F40B-4B4B-B83A-DE4C3A474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12693-FB61-4AD1-85C9-AAC1207D0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0A0D3-5E04-422D-A6C0-AE012F577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59DBC-EF42-49BB-88E9-6D1339D2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63AE-8230-407C-8334-3798EBB72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660B8-31B4-4255-B568-B4A48216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9BE01-835A-446E-9DDD-BC02405C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1C958-A1ED-4514-975F-3701FE36B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97084-124D-4ECF-A94C-44D2323D0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F1E72-2C8D-4404-85E3-202221F20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90A5-7C25-47E1-913A-0FADFA6EA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EA1B-DD2F-43AB-A9A0-EDE04A163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0DDF-EC5F-4474-ABA3-A8F967AEC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08DC-DE59-4B8C-91BA-9408E2659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5C41-99A7-4412-AF98-23A49970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87DA-896D-49DF-A596-1608BE26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6FF3-1457-473A-999A-D1EC6189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9A149-835B-4DB8-BC96-99990C28923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3073-C163-4459-A11D-513ED1B51F9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DIAPO.WAV"/><Relationship Id="rId3" Type="http://schemas.openxmlformats.org/officeDocument/2006/relationships/audio" Target="../media/DIAPO.WAV"/><Relationship Id="rId4" Type="http://schemas.openxmlformats.org/officeDocument/2006/relationships/audio" Target="../media/DIAPO.WAV"/><Relationship Id="rId5" Type="http://schemas.openxmlformats.org/officeDocument/2006/relationships/audio" Target="../media/DIAPO.WAV"/><Relationship Id="rId6" Type="http://schemas.openxmlformats.org/officeDocument/2006/relationships/audio" Target="../media/DIAPO.WAV"/><Relationship Id="rId7" Type="http://schemas.openxmlformats.org/officeDocument/2006/relationships/audio" Target="../media/DIAPO.WAV"/><Relationship Id="rId8" Type="http://schemas.openxmlformats.org/officeDocument/2006/relationships/audio" Target="../media/DIAPO.WAV"/><Relationship Id="rId9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1"/>
          <p:cNvSpPr/>
          <p:nvPr/>
        </p:nvSpPr>
        <p:spPr>
          <a:xfrm>
            <a:off x="250920" y="3068640"/>
            <a:ext cx="86421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CAPACITACIÓ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ESTRATEGIA Y ANALISIS FO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270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24192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76360" y="692280"/>
            <a:ext cx="2771640" cy="20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logo2_VerticalOficialfcfm_JPG" descr=""/>
          <p:cNvPicPr/>
          <p:nvPr/>
        </p:nvPicPr>
        <p:blipFill>
          <a:blip r:embed="rId1"/>
          <a:stretch/>
        </p:blipFill>
        <p:spPr>
          <a:xfrm>
            <a:off x="1692360" y="836640"/>
            <a:ext cx="2319120" cy="1717560"/>
          </a:xfrm>
          <a:prstGeom prst="rect">
            <a:avLst/>
          </a:prstGeom>
          <a:ln w="0">
            <a:noFill/>
          </a:ln>
        </p:spPr>
      </p:pic>
      <p:grpSp>
        <p:nvGrpSpPr>
          <p:cNvPr id="94" name=""/>
          <p:cNvGrpSpPr/>
          <p:nvPr/>
        </p:nvGrpSpPr>
        <p:grpSpPr>
          <a:xfrm>
            <a:off x="5003640" y="692280"/>
            <a:ext cx="2771640" cy="2016000"/>
            <a:chOff x="5003640" y="692280"/>
            <a:chExt cx="2771640" cy="2016000"/>
          </a:xfrm>
        </p:grpSpPr>
        <p:sp>
          <p:nvSpPr>
            <p:cNvPr id="95" name=""/>
            <p:cNvSpPr/>
            <p:nvPr/>
          </p:nvSpPr>
          <p:spPr>
            <a:xfrm>
              <a:off x="5003640" y="692280"/>
              <a:ext cx="2771640" cy="2016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CMS" descr=""/>
            <p:cNvPicPr/>
            <p:nvPr/>
          </p:nvPicPr>
          <p:blipFill>
            <a:blip r:embed="rId2"/>
            <a:stretch/>
          </p:blipFill>
          <p:spPr>
            <a:xfrm>
              <a:off x="5074920" y="907920"/>
              <a:ext cx="2664000" cy="1495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539640" y="620640"/>
            <a:ext cx="7848720" cy="20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     </a:t>
            </a:r>
            <a:r>
              <a:rPr b="1" lang="es-ES_tradnl" sz="4000" spc="-1" strike="noStrike">
                <a:solidFill>
                  <a:srgbClr val="ffffff"/>
                </a:solidFill>
                <a:latin typeface="Trebuchet MS"/>
              </a:rPr>
              <a:t>Misión de Negoc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Es la declaración general respecto del “que hacer” del negocio/actividad para alcanzar el obje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2782800" y="2583000"/>
            <a:ext cx="3733920" cy="100872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Decisiones estratégicas claves en la definición de m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990720" y="4205160"/>
            <a:ext cx="3124080" cy="100872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Definir el </a:t>
            </a: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alcance del negocio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 que </a:t>
            </a: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determina dónde compet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5076720" y="4149720"/>
            <a:ext cx="3657600" cy="131364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Desarrollar las </a:t>
            </a: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competencias  únicas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 asociadas al negocio, lo cual determina </a:t>
            </a: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cómo compet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7"/>
          <p:cNvSpPr/>
          <p:nvPr/>
        </p:nvSpPr>
        <p:spPr>
          <a:xfrm flipH="1">
            <a:off x="3780000" y="3789360"/>
            <a:ext cx="304560" cy="3049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8"/>
          <p:cNvSpPr/>
          <p:nvPr/>
        </p:nvSpPr>
        <p:spPr>
          <a:xfrm>
            <a:off x="5148360" y="3789360"/>
            <a:ext cx="304560" cy="3049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1432080" y="1098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2041560" y="1098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395280" y="26028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Trebuchet MS"/>
              </a:rPr>
              <a:t>Como construir una mi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395280" y="1484280"/>
            <a:ext cx="8497800" cy="46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¿Qué ofrecemo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(amplia descripción de los productos y beneficios que gene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¿Qué necesidades satisfacem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¿A quién satisfacemo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(amplia descripción de los mercad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¿Dónd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(alcance de la cobertura geográfica del negoci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1 Título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ffffff"/>
                </a:solidFill>
                <a:latin typeface="Trebuchet MS"/>
              </a:rPr>
              <a:t>ANALISIS FOD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88880" y="1635120"/>
            <a:ext cx="8166240" cy="4241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ffffff"/>
                </a:solidFill>
                <a:latin typeface="Calibri"/>
              </a:rPr>
              <a:t>ANALISIS FODA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3 Marcador de contenido" descr=""/>
          <p:cNvPicPr/>
          <p:nvPr/>
        </p:nvPicPr>
        <p:blipFill>
          <a:blip r:embed="rId1"/>
          <a:stretch/>
        </p:blipFill>
        <p:spPr>
          <a:xfrm>
            <a:off x="365040" y="1822320"/>
            <a:ext cx="8425080" cy="4633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3"/>
          <p:cNvSpPr/>
          <p:nvPr/>
        </p:nvSpPr>
        <p:spPr>
          <a:xfrm>
            <a:off x="971640" y="765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484360" y="1197000"/>
            <a:ext cx="4680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81080" y="260280"/>
            <a:ext cx="4319640" cy="6337440"/>
            <a:chOff x="181080" y="260280"/>
            <a:chExt cx="4319640" cy="6337440"/>
          </a:xfrm>
        </p:grpSpPr>
        <p:sp>
          <p:nvSpPr>
            <p:cNvPr id="181" name=""/>
            <p:cNvSpPr/>
            <p:nvPr/>
          </p:nvSpPr>
          <p:spPr>
            <a:xfrm>
              <a:off x="181080" y="260280"/>
              <a:ext cx="4319640" cy="6337440"/>
            </a:xfrm>
            <a:custGeom>
              <a:avLst/>
              <a:gdLst>
                <a:gd name="textAreaLeft" fmla="*/ 210600 w 4319640"/>
                <a:gd name="textAreaRight" fmla="*/ 4109040 w 4319640"/>
                <a:gd name="textAreaTop" fmla="*/ 210600 h 6337440"/>
                <a:gd name="textAreaBottom" fmla="*/ 6126840 h 6337440"/>
              </a:gdLst>
              <a:ahLst/>
              <a:rect l="textAreaLeft" t="textAreaTop" r="textAreaRight" b="textAreaBottom"/>
              <a:pathLst>
                <a:path w="21600" h="31689">
                  <a:moveTo>
                    <a:pt x="3600" y="0"/>
                  </a:moveTo>
                  <a:arcTo wR="3600" hR="3600" stAng="16200000" swAng="-5400000"/>
                  <a:lnTo>
                    <a:pt x="0" y="28089"/>
                  </a:lnTo>
                  <a:arcTo wR="3600" hR="3600" stAng="10800000" swAng="-5400000"/>
                  <a:lnTo>
                    <a:pt x="18000" y="316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50000">
                  <a:srgbClr val="6c6cfe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24000" y="404640"/>
              <a:ext cx="4022640" cy="618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rebuchet MS"/>
                </a:rPr>
                <a:t>Fortalezas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Elementos posit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Recursos valiosos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Valor agrega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Ejemplo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Habilidades y Experien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Redes de contac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Redes de apoy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Ser conocid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Clientela le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Objetivos cla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4643280" y="260280"/>
            <a:ext cx="4427640" cy="6338880"/>
            <a:chOff x="4643280" y="260280"/>
            <a:chExt cx="4427640" cy="6338880"/>
          </a:xfrm>
        </p:grpSpPr>
        <p:sp>
          <p:nvSpPr>
            <p:cNvPr id="184" name=""/>
            <p:cNvSpPr/>
            <p:nvPr/>
          </p:nvSpPr>
          <p:spPr>
            <a:xfrm>
              <a:off x="4643280" y="260280"/>
              <a:ext cx="4427640" cy="6337440"/>
            </a:xfrm>
            <a:custGeom>
              <a:avLst/>
              <a:gdLst>
                <a:gd name="textAreaLeft" fmla="*/ 216000 w 4427640"/>
                <a:gd name="textAreaRight" fmla="*/ 4211640 w 4427640"/>
                <a:gd name="textAreaTop" fmla="*/ 216000 h 6337440"/>
                <a:gd name="textAreaBottom" fmla="*/ 6121440 h 6337440"/>
              </a:gdLst>
              <a:ahLst/>
              <a:rect l="textAreaLeft" t="textAreaTop" r="textAreaRight" b="textAreaBottom"/>
              <a:pathLst>
                <a:path w="21600" h="30916">
                  <a:moveTo>
                    <a:pt x="3600" y="0"/>
                  </a:moveTo>
                  <a:arcTo wR="3600" hR="3600" stAng="16200000" swAng="-5400000"/>
                  <a:lnTo>
                    <a:pt x="0" y="27316"/>
                  </a:lnTo>
                  <a:arcTo wR="3600" hR="3600" stAng="10800000" swAng="-5400000"/>
                  <a:lnTo>
                    <a:pt x="18000" y="309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50000">
                  <a:srgbClr val="dc5454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786200" y="476280"/>
              <a:ext cx="4032360" cy="61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rebuchet MS"/>
                </a:rPr>
                <a:t>Debilidades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Factores negat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Barreras u obstácu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Perdida val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Ejemplo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Poca experien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Pocas redes de contac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Rigide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Poca capacidad de produc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Falta recurso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Sobreendeudamien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Desord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3"/>
          <p:cNvSpPr/>
          <p:nvPr/>
        </p:nvSpPr>
        <p:spPr>
          <a:xfrm>
            <a:off x="971640" y="765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84360" y="1197000"/>
            <a:ext cx="4680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81080" y="260280"/>
            <a:ext cx="4319640" cy="6337440"/>
            <a:chOff x="181080" y="260280"/>
            <a:chExt cx="4319640" cy="6337440"/>
          </a:xfrm>
        </p:grpSpPr>
        <p:sp>
          <p:nvSpPr>
            <p:cNvPr id="189" name=""/>
            <p:cNvSpPr/>
            <p:nvPr/>
          </p:nvSpPr>
          <p:spPr>
            <a:xfrm>
              <a:off x="181080" y="260280"/>
              <a:ext cx="4319640" cy="6337440"/>
            </a:xfrm>
            <a:custGeom>
              <a:avLst/>
              <a:gdLst>
                <a:gd name="textAreaLeft" fmla="*/ 210600 w 4319640"/>
                <a:gd name="textAreaRight" fmla="*/ 4109040 w 4319640"/>
                <a:gd name="textAreaTop" fmla="*/ 210600 h 6337440"/>
                <a:gd name="textAreaBottom" fmla="*/ 6126840 h 6337440"/>
              </a:gdLst>
              <a:ahLst/>
              <a:rect l="textAreaLeft" t="textAreaTop" r="textAreaRight" b="textAreaBottom"/>
              <a:pathLst>
                <a:path w="21600" h="31689">
                  <a:moveTo>
                    <a:pt x="3600" y="0"/>
                  </a:moveTo>
                  <a:arcTo wR="3600" hR="3600" stAng="16200000" swAng="-5400000"/>
                  <a:lnTo>
                    <a:pt x="0" y="28089"/>
                  </a:lnTo>
                  <a:arcTo wR="3600" hR="3600" stAng="10800000" swAng="-5400000"/>
                  <a:lnTo>
                    <a:pt x="18000" y="316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50000">
                  <a:srgbClr val="6c6cfe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24000" y="404640"/>
              <a:ext cx="4022640" cy="613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rebuchet MS"/>
                </a:rPr>
                <a:t>Oportunidad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Elementos aprovechables del entorn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Sociales, económicos, políticos y tecnológic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Ejemplo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Mercado crecien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Amplio merca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Oportunidad financiamien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Apoyo organizacion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Nuevas tecnologí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Subsidi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etc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4643280" y="260280"/>
            <a:ext cx="4427640" cy="6404400"/>
            <a:chOff x="4643280" y="260280"/>
            <a:chExt cx="4427640" cy="6404400"/>
          </a:xfrm>
        </p:grpSpPr>
        <p:sp>
          <p:nvSpPr>
            <p:cNvPr id="192" name=""/>
            <p:cNvSpPr/>
            <p:nvPr/>
          </p:nvSpPr>
          <p:spPr>
            <a:xfrm>
              <a:off x="4643280" y="260280"/>
              <a:ext cx="4427640" cy="6337440"/>
            </a:xfrm>
            <a:custGeom>
              <a:avLst/>
              <a:gdLst>
                <a:gd name="textAreaLeft" fmla="*/ 216000 w 4427640"/>
                <a:gd name="textAreaRight" fmla="*/ 4211640 w 4427640"/>
                <a:gd name="textAreaTop" fmla="*/ 216000 h 6337440"/>
                <a:gd name="textAreaBottom" fmla="*/ 6121440 h 6337440"/>
              </a:gdLst>
              <a:ahLst/>
              <a:rect l="textAreaLeft" t="textAreaTop" r="textAreaRight" b="textAreaBottom"/>
              <a:pathLst>
                <a:path w="21600" h="30916">
                  <a:moveTo>
                    <a:pt x="3600" y="0"/>
                  </a:moveTo>
                  <a:arcTo wR="3600" hR="3600" stAng="16200000" swAng="-5400000"/>
                  <a:lnTo>
                    <a:pt x="0" y="27316"/>
                  </a:lnTo>
                  <a:arcTo wR="3600" hR="3600" stAng="10800000" swAng="-5400000"/>
                  <a:lnTo>
                    <a:pt x="18000" y="309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50000">
                  <a:srgbClr val="dc5454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86200" y="476280"/>
              <a:ext cx="4032360" cy="618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rebuchet MS"/>
                </a:rPr>
                <a:t>Amenaz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Barreras en el ambien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Peligro para el logro de los objet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Sociales, económicos, políticos y tecnológic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Ejemplo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Mercado colapsa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Impuestos especia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Mucha competen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Poco acceso a recurs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Clientes y/o proveedores con mucho pod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5280" y="227628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Trebuchet MS"/>
              </a:rPr>
              <a:t>ANALISIS EXTERN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rebuchet MS"/>
              </a:rPr>
              <a:t>5 fuerzas de Por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497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rebuchet MS"/>
              </a:rPr>
              <a:t>Intensidad rivalidad de los competidores actu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rebuchet MS"/>
              </a:rPr>
              <a:t>Amenaza de entrada de nuevos participan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rebuchet MS"/>
              </a:rPr>
              <a:t>Amenaza de productos sustitu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rebuchet MS"/>
              </a:rPr>
              <a:t>Poder de negociación de los proveedo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rebuchet MS"/>
              </a:rPr>
              <a:t>Poder de negociación de los comprado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rebuchet MS"/>
              </a:rPr>
              <a:t>Rivalidad competidores actua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497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rebuchet MS"/>
              </a:rPr>
              <a:t>1.- Cuantos competidores tengo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rebuchet MS"/>
              </a:rPr>
              <a:t>2.- Cómo es la intensidad de rivalidad entre todos los competidor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3068640"/>
            <a:ext cx="8136000" cy="1582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00"/>
              </a:gs>
              <a:gs pos="50000">
                <a:srgbClr val="54a954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11280" y="3357720"/>
            <a:ext cx="792144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mis costos fijos al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mis costos de salida son muy altos (barreras emocionales o gubernament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788000" y="328428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7596360" y="3860640"/>
            <a:ext cx="0" cy="4320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8360" y="4797360"/>
            <a:ext cx="8136000" cy="2060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ff"/>
              </a:gs>
              <a:gs pos="50000">
                <a:srgbClr val="6c6cfe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1280" y="5013360"/>
            <a:ext cx="6146640" cy="19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crece la indust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existe diferenciación de produ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hay equilibrio entre competi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el costo cambio de los compradores es al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867280" y="486900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16720" y="5300640"/>
            <a:ext cx="0" cy="4320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093080" y="609300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227640" y="5805360"/>
            <a:ext cx="0" cy="4320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rebuchet MS"/>
              </a:rPr>
              <a:t>Amenaza de nuevos participan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/>
          <p:nvPr/>
        </p:nvSpPr>
        <p:spPr>
          <a:xfrm>
            <a:off x="826920" y="1557360"/>
            <a:ext cx="7705800" cy="194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00"/>
              </a:gs>
              <a:gs pos="50000">
                <a:srgbClr val="54a954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042920" y="1844640"/>
            <a:ext cx="705816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los productos son estandarizados (poca diferencia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el  producto fácilmente cop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se requiere de baja inver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7596360" y="177300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732720" y="242064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55640" y="4076640"/>
            <a:ext cx="7705800" cy="180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ff"/>
              </a:gs>
              <a:gs pos="50000">
                <a:srgbClr val="6c6cfe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42920" y="4292640"/>
            <a:ext cx="6147000" cy="19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hay economías de esc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hay alta identificación con la mar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el negocio necesita acceso a ultima tecnolo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64000" y="4221000"/>
            <a:ext cx="0" cy="4320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77080" y="4724280"/>
            <a:ext cx="0" cy="4320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020000" y="522936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6156360" y="292392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468360" y="571680"/>
            <a:ext cx="824688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ctr">
              <a:lnSpc>
                <a:spcPts val="4000"/>
              </a:lnSpc>
              <a:spcBef>
                <a:spcPts val="5499"/>
              </a:spcBef>
              <a:spcAft>
                <a:spcPts val="5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rebuchet MS"/>
              </a:rPr>
              <a:t>Que aprenderemos ho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3"/>
          <p:cNvSpPr/>
          <p:nvPr/>
        </p:nvSpPr>
        <p:spPr>
          <a:xfrm>
            <a:off x="250920" y="1557360"/>
            <a:ext cx="85690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rebuchet MS"/>
              </a:rPr>
              <a:t>Misión y Visión del nego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rebuchet MS"/>
              </a:rPr>
              <a:t>Como se define una estrateg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rebuchet MS"/>
              </a:rPr>
              <a:t>Como descubrir las oportunidades y amenazas del mercado (análisis extern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rebuchet MS"/>
              </a:rPr>
              <a:t>Como descubrir nuestras fortalezas y debilidades (análisis intern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rebuchet MS"/>
              </a:rPr>
              <a:t>Amenaza de productos sustitut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/>
          <p:nvPr/>
        </p:nvSpPr>
        <p:spPr>
          <a:xfrm>
            <a:off x="900000" y="1484280"/>
            <a:ext cx="7705800" cy="22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00"/>
              </a:gs>
              <a:gs pos="50000">
                <a:srgbClr val="54a954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42920" y="1989000"/>
            <a:ext cx="7058160" cy="17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hay alta disponibilidad de sustitutos cerc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hay alta agresividad de los productores de sustit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hay un alta relación valor-precio sustit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8244000" y="191592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7740720" y="242064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26920" y="4076640"/>
            <a:ext cx="7705800" cy="180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ff"/>
              </a:gs>
              <a:gs pos="50000">
                <a:srgbClr val="6c6cfe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042920" y="4437000"/>
            <a:ext cx="6147000" cy="17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existe un alto costo cambio del compr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el cliente esta acostumbrado a mi produ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372360" y="436572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948360" y="5157720"/>
            <a:ext cx="0" cy="4320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7740720" y="306828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rebuchet MS"/>
              </a:rPr>
              <a:t>Poder negociación de los comprado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/>
          <p:nvPr/>
        </p:nvSpPr>
        <p:spPr>
          <a:xfrm>
            <a:off x="755640" y="1557360"/>
            <a:ext cx="7705800" cy="22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00"/>
              </a:gs>
              <a:gs pos="50000">
                <a:srgbClr val="54a954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69840" y="1989000"/>
            <a:ext cx="705816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hay pocos compradores de importa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hay muchos sustitutos de mi produ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mi comprador se puede integrar hacia atr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7451640" y="191592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7164360" y="242064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55640" y="4149720"/>
            <a:ext cx="7705800" cy="215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ff"/>
              </a:gs>
              <a:gs pos="50000">
                <a:srgbClr val="6c6cfe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017720" y="4359240"/>
            <a:ext cx="6146640" cy="20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hay alto costo cambio de los compr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mi producto influye en la calidad de los productos de los compr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tengo posibilidades de integrarme hacia adel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877080" y="429264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236000" y="4941720"/>
            <a:ext cx="0" cy="4320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7885080" y="2852640"/>
            <a:ext cx="0" cy="4320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451640" y="5661000"/>
            <a:ext cx="0" cy="4320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rebuchet MS"/>
              </a:rPr>
              <a:t>Poder negociación de los proveedo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/>
          <p:nvPr/>
        </p:nvSpPr>
        <p:spPr>
          <a:xfrm>
            <a:off x="826920" y="1773360"/>
            <a:ext cx="7705800" cy="25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00"/>
              </a:gs>
              <a:gs pos="50000">
                <a:srgbClr val="54a954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114560" y="1989000"/>
            <a:ext cx="705780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hay pocos proveedores de importa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mi proveedor se puede integrar hacia adel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existe un alto costo de cambio de mis proveedores actu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mis proveedores influyen mucho en la calidad de mi produ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7380360" y="1844640"/>
            <a:ext cx="0" cy="4320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7380360" y="242064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00000" y="4724280"/>
            <a:ext cx="7705800" cy="180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ff"/>
              </a:gs>
              <a:gs pos="50000">
                <a:srgbClr val="6c6cfe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187280" y="4869000"/>
            <a:ext cx="614700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existe disponibilidad de sustitutos para los productos de mis provee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tengo posibilidades de integrarme hacia atr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308720" y="573408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667640" y="4941720"/>
            <a:ext cx="0" cy="4320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7308720" y="314136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8244000" y="378900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95280" y="1249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ffffff"/>
                </a:solidFill>
                <a:latin typeface="Trebuchet MS"/>
              </a:rPr>
              <a:t>DATOS IMPORTANT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23640" y="1557000"/>
            <a:ext cx="8615160" cy="39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75000"/>
              </a:lnSpc>
              <a:spcBef>
                <a:spcPts val="9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rebuchet MS"/>
              </a:rPr>
              <a:t>No todas las fuerzas son igualmente importantes</a:t>
            </a:r>
            <a:br>
              <a:rPr sz="3600"/>
            </a:br>
            <a:r>
              <a:rPr b="0" lang="es-ES_tradnl" sz="36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75000"/>
              </a:lnSpc>
              <a:spcBef>
                <a:spcPts val="9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rebuchet MS"/>
              </a:rPr>
              <a:t>No todos los factores son igualmente importantes, ni todos están en la list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75000"/>
              </a:lnSpc>
              <a:spcBef>
                <a:spcPts val="9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75000"/>
              </a:lnSpc>
              <a:spcBef>
                <a:spcPts val="9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rebuchet MS"/>
              </a:rPr>
              <a:t>Hay que tener en cuenta las tendencias futur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7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75000"/>
              </a:lnSpc>
              <a:spcBef>
                <a:spcPts val="9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ES_tradnl" sz="3600" spc="-1" strike="noStrike">
                <a:solidFill>
                  <a:srgbClr val="ffffff"/>
                </a:solidFill>
                <a:latin typeface="Trebuchet MS"/>
              </a:rPr>
              <a:t>Hay que ver que muchas veces es mejor crear alianzas que competi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50920" y="242064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ffffff"/>
                </a:solidFill>
                <a:latin typeface="Calibri"/>
              </a:rPr>
              <a:t>Análisis Interno: </a:t>
            </a:r>
            <a:br>
              <a:rPr sz="4800"/>
            </a:br>
            <a:r>
              <a:rPr b="0" lang="es-CL" sz="4800" spc="-1" strike="noStrike">
                <a:solidFill>
                  <a:srgbClr val="ffffff"/>
                </a:solidFill>
                <a:latin typeface="Calibri"/>
              </a:rPr>
              <a:t>Cadena de Val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95280" y="1249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ffffff"/>
                </a:solidFill>
                <a:latin typeface="Trebuchet MS"/>
              </a:rPr>
              <a:t>Actividades primaria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24000" y="1628280"/>
            <a:ext cx="8688240" cy="39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rebuchet MS"/>
              </a:rPr>
              <a:t>Logística Interna:</a:t>
            </a: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recepción, almacenaje, manejo de materiales, inventario, devolución a proveedor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rebuchet MS"/>
              </a:rPr>
              <a:t>Operaciones:</a:t>
            </a: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transformación de los insumos en el producto/servicio final. Producción, embalaje, montaje, mantenimiento, control de calidad, reemplazo de equip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rebuchet MS"/>
              </a:rPr>
              <a:t>Logística externa:</a:t>
            </a: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distribución del producto terminado. Almacenaje de productos terminados, procesamiento y programación de pedido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rebuchet MS"/>
              </a:rPr>
              <a:t>Marketing y Ventas:</a:t>
            </a: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inducir y facilitar el proceso de compra. Diseño de producto, canales de distribución, determinación de precios, apoyo publicitario, cotizaciones, política de descuentos y despach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rebuchet MS"/>
              </a:rPr>
              <a:t>Servicio:</a:t>
            </a: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valor agregado al clien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95280" y="1249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ffffff"/>
                </a:solidFill>
                <a:latin typeface="Trebuchet MS"/>
              </a:rPr>
              <a:t>Actividades de apoy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250920" y="1341000"/>
            <a:ext cx="8688240" cy="39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5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Adquisiciones: 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compra de materias primas, suministros y otros ítem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5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5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Desarrollo y uso de Tecnología: 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conocimiento experto, procedimientos e insumos tecnológic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5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Manejo de Recursos Humanos: 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selección, promoción y colocación; evaluación, recompensas, desarrollo administrativo y relación  emplead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5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5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Infraestructura de la Firma: 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gestión general, planificación, finanzas, manejo contable, legal, asuntos de gobierno y gestión de calida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rebuchet MS"/>
              </a:rPr>
              <a:t>ESTRATEGIAS COMPETITIVAS GENERIC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/>
          <p:nvPr/>
        </p:nvSpPr>
        <p:spPr>
          <a:xfrm>
            <a:off x="250920" y="1989000"/>
            <a:ext cx="864216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El atractivo de la industria (análisis externo) y la evaluación de las capacidades competitivas (análisis interno) tienen como objetivo la definición de la posición del negocio dentro de la indust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La idea es buscar una ventaja competitiva, que se traduce en un nivel de rentabilidad por sobre el promedio de la indust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Se identifican tres estrategias genéricas (categorías de estrategias) para alcanzar una ventaja competitiva sosteni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rebuchet MS"/>
              </a:rPr>
              <a:t>ESTRATEGIAS COMPETITIVAS GENERIC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/>
          <p:nvPr/>
        </p:nvSpPr>
        <p:spPr>
          <a:xfrm>
            <a:off x="71280" y="1790640"/>
            <a:ext cx="88934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s-ES_tradnl" sz="2200" spc="-1" strike="noStrike">
                <a:solidFill>
                  <a:srgbClr val="ffffff"/>
                </a:solidFill>
                <a:latin typeface="Trebuchet MS"/>
              </a:rPr>
              <a:t>Liderazgo general en costos:</a:t>
            </a:r>
            <a:r>
              <a:rPr b="0" lang="es-ES_tradnl" sz="2200" spc="-1" strike="noStrike">
                <a:solidFill>
                  <a:srgbClr val="ffffff"/>
                </a:solidFill>
                <a:latin typeface="Trebuchet MS"/>
              </a:rPr>
              <a:t> requiere funcionamiento eficiente, reducción de costos en producción y gastos generales, equipo de ventas, publicidad; muchos clientes etc. El margen se obtiene reduciendo el cos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s-ES_tradnl" sz="2200" spc="-1" strike="noStrike">
                <a:solidFill>
                  <a:srgbClr val="ffffff"/>
                </a:solidFill>
                <a:latin typeface="Trebuchet MS"/>
              </a:rPr>
              <a:t>Diferenciación:</a:t>
            </a:r>
            <a:r>
              <a:rPr b="0" lang="es-ES_tradnl" sz="2200" spc="-1" strike="noStrike">
                <a:solidFill>
                  <a:srgbClr val="ffffff"/>
                </a:solidFill>
                <a:latin typeface="Trebuchet MS"/>
              </a:rPr>
              <a:t> exige la creación de algo que sea percibido como singular a través de toda la industria. Diseño de producto, imagen de marca, tecnología, servicio al cliente, cobertura, etc. El margen se obtiene aumentando el prec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s-ES_tradnl" sz="2200" spc="-1" strike="noStrike">
                <a:solidFill>
                  <a:srgbClr val="ffffff"/>
                </a:solidFill>
                <a:latin typeface="Trebuchet MS"/>
              </a:rPr>
              <a:t>Focalización:</a:t>
            </a:r>
            <a:r>
              <a:rPr b="0" lang="es-ES_tradnl" sz="2200" spc="-1" strike="noStrike">
                <a:solidFill>
                  <a:srgbClr val="ffffff"/>
                </a:solidFill>
                <a:latin typeface="Trebuchet MS"/>
              </a:rPr>
              <a:t> concentrarse en un grupo particular de compradores (segmento de mercado) o ámbito geográfico. Hay focalización tanto en diferenciación como en liderazgo en cost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250920" y="333360"/>
            <a:ext cx="8464320" cy="16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499"/>
              </a:spcBef>
              <a:spcAft>
                <a:spcPts val="5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rebuchet MS"/>
              </a:rPr>
              <a:t>Que hace que algunos negocios tengan éxito y otro fracas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3"/>
          <p:cNvSpPr/>
          <p:nvPr/>
        </p:nvSpPr>
        <p:spPr>
          <a:xfrm>
            <a:off x="250920" y="1989000"/>
            <a:ext cx="835344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rebuchet MS"/>
              </a:rPr>
              <a:t>Contexto industrial donde se desarro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rebuchet MS"/>
              </a:rPr>
              <a:t>Contexto Global y Social: País, sus características y recurs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rebuchet MS"/>
              </a:rPr>
              <a:t>Capacidades y Estrategias de la Propia Compañ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0040" y="1857240"/>
            <a:ext cx="8229600" cy="192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rebuchet MS"/>
                <a:ea typeface="Arial"/>
              </a:rPr>
              <a:t>Estrategia abarca el propósito general de una Organiza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3"/>
          <p:cNvSpPr/>
          <p:nvPr/>
        </p:nvSpPr>
        <p:spPr>
          <a:xfrm>
            <a:off x="971640" y="765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84360" y="1197000"/>
            <a:ext cx="4680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24000" y="620640"/>
            <a:ext cx="4176720" cy="1656000"/>
            <a:chOff x="324000" y="620640"/>
            <a:chExt cx="4176720" cy="1656000"/>
          </a:xfrm>
        </p:grpSpPr>
        <p:sp>
          <p:nvSpPr>
            <p:cNvPr id="105" name=""/>
            <p:cNvSpPr/>
            <p:nvPr/>
          </p:nvSpPr>
          <p:spPr>
            <a:xfrm>
              <a:off x="324000" y="620640"/>
              <a:ext cx="4176720" cy="1656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ff"/>
                </a:gs>
                <a:gs pos="50000">
                  <a:srgbClr val="6c6cfe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66560" y="652320"/>
              <a:ext cx="38894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rebuchet MS"/>
                </a:rPr>
                <a:t>Patrón coherente, unificador e integrativo que apoya la Toma de Decisiones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324000" y="2565360"/>
            <a:ext cx="4176720" cy="1655640"/>
            <a:chOff x="324000" y="2565360"/>
            <a:chExt cx="4176720" cy="1655640"/>
          </a:xfrm>
        </p:grpSpPr>
        <p:sp>
          <p:nvSpPr>
            <p:cNvPr id="108" name=""/>
            <p:cNvSpPr/>
            <p:nvPr/>
          </p:nvSpPr>
          <p:spPr>
            <a:xfrm>
              <a:off x="324000" y="2565360"/>
              <a:ext cx="4176720" cy="165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0000"/>
                </a:gs>
                <a:gs pos="50000">
                  <a:srgbClr val="dc5454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68360" y="2637000"/>
              <a:ext cx="38894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rebuchet MS"/>
                </a:rPr>
                <a:t>Ayuda a identificar y determinar el propósito de nuestro negocio (objetivos, prioridades)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24000" y="4437000"/>
            <a:ext cx="4176720" cy="1656000"/>
            <a:chOff x="324000" y="4437000"/>
            <a:chExt cx="4176720" cy="1656000"/>
          </a:xfrm>
        </p:grpSpPr>
        <p:sp>
          <p:nvSpPr>
            <p:cNvPr id="111" name=""/>
            <p:cNvSpPr/>
            <p:nvPr/>
          </p:nvSpPr>
          <p:spPr>
            <a:xfrm>
              <a:off x="324000" y="4437000"/>
              <a:ext cx="4176720" cy="1656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54a954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95280" y="4653000"/>
              <a:ext cx="3960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rebuchet MS"/>
                </a:rPr>
                <a:t>Ayuda a seleccionar los negocios/actividades en que va a estar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4716360" y="620640"/>
            <a:ext cx="4176720" cy="1656000"/>
            <a:chOff x="4716360" y="620640"/>
            <a:chExt cx="4176720" cy="1656000"/>
          </a:xfrm>
        </p:grpSpPr>
        <p:sp>
          <p:nvSpPr>
            <p:cNvPr id="114" name=""/>
            <p:cNvSpPr/>
            <p:nvPr/>
          </p:nvSpPr>
          <p:spPr>
            <a:xfrm>
              <a:off x="4716360" y="620640"/>
              <a:ext cx="4176720" cy="1656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50000">
                  <a:srgbClr val="fe934c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59280" y="907920"/>
              <a:ext cx="3818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rebuchet MS"/>
                </a:rPr>
                <a:t>Abarca todos los niveles jerárquicos y funcionales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4716360" y="2565360"/>
            <a:ext cx="4176720" cy="1994400"/>
            <a:chOff x="4716360" y="2565360"/>
            <a:chExt cx="4176720" cy="1994400"/>
          </a:xfrm>
        </p:grpSpPr>
        <p:sp>
          <p:nvSpPr>
            <p:cNvPr id="117" name=""/>
            <p:cNvSpPr/>
            <p:nvPr/>
          </p:nvSpPr>
          <p:spPr>
            <a:xfrm>
              <a:off x="4716360" y="2565360"/>
              <a:ext cx="4176720" cy="165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0066"/>
                </a:gs>
                <a:gs pos="50000">
                  <a:srgbClr val="934c93"/>
                </a:gs>
                <a:gs pos="100000">
                  <a:srgbClr val="66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88000" y="2637000"/>
              <a:ext cx="40338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rebuchet MS"/>
                </a:rPr>
                <a:t>Puede asegurar la continuidad del negocio en el tiempo adaptándose al medio cambian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716360" y="4437000"/>
            <a:ext cx="4176720" cy="1656000"/>
            <a:chOff x="4716360" y="4437000"/>
            <a:chExt cx="4176720" cy="1656000"/>
          </a:xfrm>
        </p:grpSpPr>
        <p:sp>
          <p:nvSpPr>
            <p:cNvPr id="120" name=""/>
            <p:cNvSpPr/>
            <p:nvPr/>
          </p:nvSpPr>
          <p:spPr>
            <a:xfrm>
              <a:off x="4716360" y="4437000"/>
              <a:ext cx="4176720" cy="1656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6cc3c3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16360" y="4653000"/>
              <a:ext cx="4033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rebuchet MS"/>
                </a:rPr>
                <a:t>Su esencia es lograr ventajas competitivas en el negoci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1865160" y="598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1156320" y="2492280"/>
            <a:ext cx="18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rebuchet MS"/>
              </a:rPr>
              <a:t>ESTRATE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4835520" y="2276640"/>
            <a:ext cx="4158000" cy="19227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Respond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bbe0e3"/>
              </a:buClr>
              <a:buSzPct val="11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Neutralizar amenaz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bbe0e3"/>
              </a:buClr>
              <a:buSzPct val="11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Corregir debil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bbe0e3"/>
              </a:buClr>
              <a:buSzPct val="11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Aprovechar oportun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bbe0e3"/>
              </a:buClr>
              <a:buSzPct val="11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Explotar fortalez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468360" y="4103640"/>
            <a:ext cx="424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Objetiv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Buscar oportunidades que puedan posicionar la empresa con una ventaja competi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6"/>
          <p:cNvSpPr/>
          <p:nvPr/>
        </p:nvSpPr>
        <p:spPr>
          <a:xfrm>
            <a:off x="3492360" y="2803680"/>
            <a:ext cx="129564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7"/>
          <p:cNvSpPr/>
          <p:nvPr/>
        </p:nvSpPr>
        <p:spPr>
          <a:xfrm>
            <a:off x="1979640" y="2997360"/>
            <a:ext cx="0" cy="838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5956920" y="4797360"/>
            <a:ext cx="22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rebuchet MS"/>
              </a:rPr>
              <a:t>CREAR VA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9"/>
          <p:cNvSpPr/>
          <p:nvPr/>
        </p:nvSpPr>
        <p:spPr>
          <a:xfrm>
            <a:off x="4859280" y="5013360"/>
            <a:ext cx="9144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1332000" y="96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755640" y="404640"/>
            <a:ext cx="81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Intenta lograr una </a:t>
            </a:r>
            <a:r>
              <a:rPr b="1" lang="es-ES_tradnl" sz="2800" spc="-1" strike="noStrike">
                <a:solidFill>
                  <a:srgbClr val="ffffff"/>
                </a:solidFill>
                <a:latin typeface="Trebuchet MS"/>
              </a:rPr>
              <a:t>ventaja sostenible a largo plazo</a:t>
            </a: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 en cada uno de sus negocios/activ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2"/>
          <p:cNvSpPr/>
          <p:nvPr/>
        </p:nvSpPr>
        <p:spPr>
          <a:xfrm flipV="1">
            <a:off x="1979640" y="1703160"/>
            <a:ext cx="0" cy="6858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7"/>
          <p:cNvSpPr/>
          <p:nvPr/>
        </p:nvSpPr>
        <p:spPr>
          <a:xfrm>
            <a:off x="1979640" y="3019320"/>
            <a:ext cx="0" cy="8384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324000" y="1916280"/>
            <a:ext cx="8291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80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Trebuchet MS"/>
              </a:rPr>
              <a:t>¿</a:t>
            </a:r>
            <a:r>
              <a:rPr b="0" lang="es-ES_tradnl" sz="4400" spc="-1" strike="noStrike">
                <a:solidFill>
                  <a:srgbClr val="ffffff"/>
                </a:solidFill>
                <a:latin typeface="Trebuchet MS"/>
              </a:rPr>
              <a:t>Cuáles son los grupos de factores que son centrales para decidir como abordar el negoci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484360" y="1197000"/>
            <a:ext cx="4680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042920" y="549360"/>
            <a:ext cx="7272360" cy="1800000"/>
            <a:chOff x="1042920" y="549360"/>
            <a:chExt cx="7272360" cy="1800000"/>
          </a:xfrm>
        </p:grpSpPr>
        <p:sp>
          <p:nvSpPr>
            <p:cNvPr id="137" name=""/>
            <p:cNvSpPr/>
            <p:nvPr/>
          </p:nvSpPr>
          <p:spPr>
            <a:xfrm>
              <a:off x="1042920" y="549360"/>
              <a:ext cx="7272360" cy="1800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ff"/>
                </a:gs>
                <a:gs pos="50000">
                  <a:srgbClr val="6c6cfe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258920" y="693360"/>
              <a:ext cx="67690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ffffff"/>
                  </a:solidFill>
                  <a:latin typeface="Trebuchet MS"/>
                </a:rPr>
                <a:t>Factores Internos:            Fortalezas (que hago bien) Debilidades (que hago mal)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1042920" y="2708280"/>
            <a:ext cx="7272360" cy="1800360"/>
            <a:chOff x="1042920" y="2708280"/>
            <a:chExt cx="7272360" cy="1800360"/>
          </a:xfrm>
        </p:grpSpPr>
        <p:sp>
          <p:nvSpPr>
            <p:cNvPr id="140" name=""/>
            <p:cNvSpPr/>
            <p:nvPr/>
          </p:nvSpPr>
          <p:spPr>
            <a:xfrm>
              <a:off x="1042920" y="2708280"/>
              <a:ext cx="7272360" cy="1800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54a954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58920" y="2811600"/>
              <a:ext cx="6913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ffffff"/>
                  </a:solidFill>
                  <a:latin typeface="Trebuchet MS"/>
                </a:rPr>
                <a:t>Factores Externos:              Atractivo de la industria, comportamiento competidores, etc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1042920" y="2708280"/>
            <a:ext cx="7272360" cy="1800360"/>
            <a:chOff x="1042920" y="2708280"/>
            <a:chExt cx="7272360" cy="1800360"/>
          </a:xfrm>
        </p:grpSpPr>
        <p:sp>
          <p:nvSpPr>
            <p:cNvPr id="143" name=""/>
            <p:cNvSpPr/>
            <p:nvPr/>
          </p:nvSpPr>
          <p:spPr>
            <a:xfrm>
              <a:off x="1042920" y="2708280"/>
              <a:ext cx="7272360" cy="1800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54a954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58920" y="2811600"/>
              <a:ext cx="6913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ffffff"/>
                  </a:solidFill>
                  <a:latin typeface="Trebuchet MS"/>
                </a:rPr>
                <a:t>Factores Externos:              Atractivo de la industria, comportamiento competidores, etc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88920"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Verdana"/>
              </a:rPr>
              <a:t>Planificación Estratégica de Nego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2440080" y="990720"/>
            <a:ext cx="4952880" cy="114300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2544840" y="990720"/>
            <a:ext cx="477180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Misión del Negoci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-ámbitos: de producto, de mercado y geográfic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-identificación de las competencias distintiv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(modo de conseguir un liderazgo competitivo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611280" y="2209680"/>
            <a:ext cx="3657600" cy="19051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839880" y="2286000"/>
            <a:ext cx="3324240" cy="17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Análisis Intern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(Desempeño pasado 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proyecciones futura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Identificación de factores intern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críticos para lograr una ventaj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competitiv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Definición de Fortalezas 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Debilidad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5106960" y="2209680"/>
            <a:ext cx="3505320" cy="19051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5288040" y="2268360"/>
            <a:ext cx="3143160" cy="17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Análisis Extern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(Desempeño pasado 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proyecciones futura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Identificación de factores extern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que contribuyen al atractivo de l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industr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Definición de Oportunidad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y Amenaz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2820960" y="4343400"/>
            <a:ext cx="3733920" cy="9907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3201840" y="4419720"/>
            <a:ext cx="314352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Formulación de la Estrateg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de Negoci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Conjunto de programas general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de acción a lo largo del añ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11"/>
          <p:cNvGrpSpPr/>
          <p:nvPr/>
        </p:nvGrpSpPr>
        <p:grpSpPr>
          <a:xfrm>
            <a:off x="2973240" y="5335560"/>
            <a:ext cx="3504960" cy="912960"/>
            <a:chOff x="2973240" y="5335560"/>
            <a:chExt cx="3504960" cy="912960"/>
          </a:xfrm>
        </p:grpSpPr>
        <p:sp>
          <p:nvSpPr>
            <p:cNvPr id="155" name="Rectangle 12"/>
            <p:cNvSpPr/>
            <p:nvPr/>
          </p:nvSpPr>
          <p:spPr>
            <a:xfrm>
              <a:off x="2973240" y="5410080"/>
              <a:ext cx="3504960" cy="83844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ffffff"/>
                  </a:solidFill>
                  <a:latin typeface="Verdana"/>
                </a:rPr>
                <a:t>Programación Estratégic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ffffff"/>
                  </a:solidFill>
                  <a:latin typeface="Verdana"/>
                </a:rPr>
                <a:t>Definición y evaluación d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ffffff"/>
                  </a:solidFill>
                  <a:latin typeface="Verdana"/>
                </a:rPr>
                <a:t>programas específicos de acció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13"/>
            <p:cNvSpPr/>
            <p:nvPr/>
          </p:nvSpPr>
          <p:spPr>
            <a:xfrm>
              <a:off x="4725720" y="5335560"/>
              <a:ext cx="0" cy="745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14"/>
          <p:cNvGrpSpPr/>
          <p:nvPr/>
        </p:nvGrpSpPr>
        <p:grpSpPr>
          <a:xfrm>
            <a:off x="3049560" y="6248520"/>
            <a:ext cx="3352680" cy="379440"/>
            <a:chOff x="3049560" y="6248520"/>
            <a:chExt cx="3352680" cy="379440"/>
          </a:xfrm>
        </p:grpSpPr>
        <p:sp>
          <p:nvSpPr>
            <p:cNvPr id="158" name="Rectangle 15"/>
            <p:cNvSpPr/>
            <p:nvPr/>
          </p:nvSpPr>
          <p:spPr>
            <a:xfrm>
              <a:off x="3049560" y="6301080"/>
              <a:ext cx="3352680" cy="32688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Verdana"/>
                </a:rPr>
                <a:t>Presupuesto y Control de Gest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16"/>
            <p:cNvSpPr/>
            <p:nvPr/>
          </p:nvSpPr>
          <p:spPr>
            <a:xfrm>
              <a:off x="4725720" y="6248520"/>
              <a:ext cx="0" cy="525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7"/>
          <p:cNvGrpSpPr/>
          <p:nvPr/>
        </p:nvGrpSpPr>
        <p:grpSpPr>
          <a:xfrm>
            <a:off x="2593800" y="2135160"/>
            <a:ext cx="4417920" cy="2208240"/>
            <a:chOff x="2593800" y="2135160"/>
            <a:chExt cx="4417920" cy="2208240"/>
          </a:xfrm>
        </p:grpSpPr>
        <p:sp>
          <p:nvSpPr>
            <p:cNvPr id="161" name="Line 18"/>
            <p:cNvSpPr/>
            <p:nvPr/>
          </p:nvSpPr>
          <p:spPr>
            <a:xfrm>
              <a:off x="4725720" y="2135160"/>
              <a:ext cx="0" cy="22082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9"/>
            <p:cNvSpPr/>
            <p:nvPr/>
          </p:nvSpPr>
          <p:spPr>
            <a:xfrm>
              <a:off x="2593800" y="4116240"/>
              <a:ext cx="2055600" cy="150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20"/>
            <p:cNvSpPr/>
            <p:nvPr/>
          </p:nvSpPr>
          <p:spPr>
            <a:xfrm flipH="1">
              <a:off x="4803480" y="4116240"/>
              <a:ext cx="2208240" cy="150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5T22:56:56Z</dcterms:created>
  <dc:creator>Francisco J. Astudillo A.</dc:creator>
  <dc:description/>
  <dc:language>en-US</dc:language>
  <cp:lastModifiedBy>Solsire</cp:lastModifiedBy>
  <cp:lastPrinted>2004-06-01T23:06:04Z</cp:lastPrinted>
  <dcterms:modified xsi:type="dcterms:W3CDTF">2008-06-06T21:20:59Z</dcterms:modified>
  <cp:revision>514</cp:revision>
  <dc:subject/>
  <dc:title>Presentación de PowerPoint</dc:title>
</cp:coreProperties>
</file>