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TIGO.WAV" ContentType="audio/x-wav"/>
  <Override PartName="/ppt/media/DIAPO.WAV" ContentType="audio/x-wav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2011-5818-4B07-B450-47C0B5002D2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D9BD-33E9-42B3-8A07-DA6486212B2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BBF9-797F-4155-9BC8-19645C8DD48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FE93-830D-4AA2-91D7-18A95E49A74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15A-4CD4-4E96-BB81-AF611D0A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B88-51C3-4944-A8A1-3C533A8A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544-86A9-450D-86E9-49B5D85D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D57-286F-4B64-BDA9-04E89284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C379-E652-4302-880B-77422BAF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36D7-8F40-48F2-8249-9EC63F4B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D463-9E7B-4C24-824F-4B78CE40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444A-E176-40C4-9682-48BEB75B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686A-3B63-4870-8732-C49A2957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D285-5E18-4989-A352-4BE3E3A2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6932-EB1F-4F49-B269-E5B111A6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DE5-A0F0-4F56-A895-CA69D575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7B37-FC4D-42AB-AF8F-B35D0227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6CCE-2D00-40B2-A2F2-A9A1F2B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29D7-FF54-44E9-A727-E41102D1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5C9C-AED3-4592-BF28-66A461AE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BB90-9A95-4E58-9269-30C0F90B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C32-B829-4CE7-A9A0-2FAD49A5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842-220F-4EBA-982E-0B86CE14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EC1-1EB7-4BEB-9DDE-3284CC2A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E45-9553-4BF4-A631-E588E31C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E9D-9657-42F0-A1E4-989702EA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1D1-7E48-4A03-8678-1E31382D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1C5-3BBF-4F60-BDEE-8884FEFD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3030-E8DD-46B6-82F5-0B9D0503F2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2D27-0458-4B77-8E5B-670D609B10F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1"/>
          <p:cNvSpPr/>
          <p:nvPr/>
        </p:nvSpPr>
        <p:spPr>
          <a:xfrm>
            <a:off x="250920" y="3068640"/>
            <a:ext cx="8642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APACITACIÓ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ESTRATEGIA Y ANALISIS F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19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692280"/>
            <a:ext cx="2771640" cy="20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logo2_VerticalOficialfcfm_JPG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2319120" cy="17175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5003640" y="692280"/>
            <a:ext cx="2771640" cy="2016000"/>
            <a:chOff x="5003640" y="692280"/>
            <a:chExt cx="2771640" cy="2016000"/>
          </a:xfrm>
        </p:grpSpPr>
        <p:sp>
          <p:nvSpPr>
            <p:cNvPr id="95" name=""/>
            <p:cNvSpPr/>
            <p:nvPr/>
          </p:nvSpPr>
          <p:spPr>
            <a:xfrm>
              <a:off x="5003640" y="692280"/>
              <a:ext cx="2771640" cy="20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CMS" descr=""/>
            <p:cNvPicPr/>
            <p:nvPr/>
          </p:nvPicPr>
          <p:blipFill>
            <a:blip r:embed="rId2"/>
            <a:stretch/>
          </p:blipFill>
          <p:spPr>
            <a:xfrm>
              <a:off x="5074920" y="907920"/>
              <a:ext cx="2664000" cy="1495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39640" y="620640"/>
            <a:ext cx="78487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s-ES_tradnl" sz="4000" spc="-1" strike="noStrike">
                <a:solidFill>
                  <a:srgbClr val="ffffff"/>
                </a:solidFill>
                <a:latin typeface="Trebuchet MS"/>
              </a:rPr>
              <a:t>Misión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la declaración general respecto del “que hacer” del negocio/actividad para alcanzar el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782800" y="2583000"/>
            <a:ext cx="3733920" cy="1008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cisiones estratégicas claves en la definición de 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990720" y="4205160"/>
            <a:ext cx="3124080" cy="1008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finir el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alcance del negoci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que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termina dónde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076720" y="4149720"/>
            <a:ext cx="3657600" cy="13136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sarrollar las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ompetencias  únicas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asociadas al negocio, lo cual determina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ómo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378000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514836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43208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04156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Como construir una mi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1484280"/>
            <a:ext cx="84978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ofre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mplia descripción de los productos y beneficios que gen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necesidades satisface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A quién satisfa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mplia descripción de los merc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Dón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lcance de la cobertura geográfica del nego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rebuchet MS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8880" y="1635120"/>
            <a:ext cx="8166240" cy="42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Calibri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3 Marcador de contenido" descr=""/>
          <p:cNvPicPr/>
          <p:nvPr/>
        </p:nvPicPr>
        <p:blipFill>
          <a:blip r:embed="rId1"/>
          <a:stretch/>
        </p:blipFill>
        <p:spPr>
          <a:xfrm>
            <a:off x="365040" y="1822320"/>
            <a:ext cx="8425080" cy="46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181" name="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404640"/>
              <a:ext cx="4022640" cy="61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Fortaleza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posi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cursos valioso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Valor agreg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Habilidades y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apoy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er conoc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la l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bjetivos cla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643280" y="260280"/>
            <a:ext cx="4427640" cy="6338880"/>
            <a:chOff x="4643280" y="260280"/>
            <a:chExt cx="4427640" cy="6338880"/>
          </a:xfrm>
        </p:grpSpPr>
        <p:sp>
          <p:nvSpPr>
            <p:cNvPr id="184" name="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86200" y="476280"/>
              <a:ext cx="4032360" cy="61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Debilidad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ctores neg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u obstác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rdida va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s 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igi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capacidad de 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lta recurs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breendeud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Des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189" name="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" y="404640"/>
              <a:ext cx="4022640" cy="61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Oportun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aprovechables del ento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rec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mplio 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portunidad financi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poyo organiz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Nuevas tecnologí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ubsi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43280" y="260280"/>
            <a:ext cx="4427640" cy="6404400"/>
            <a:chOff x="4643280" y="260280"/>
            <a:chExt cx="4427640" cy="6404400"/>
          </a:xfrm>
        </p:grpSpPr>
        <p:sp>
          <p:nvSpPr>
            <p:cNvPr id="192" name="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86200" y="476280"/>
              <a:ext cx="403236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mena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en el amb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ligro para el logro de los 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olaps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Impuestos espec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uch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o acceso a recu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s y/o proveedores con mucho po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ANALISIS EXTERN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rebuchet MS"/>
              </a:rPr>
              <a:t>5 fuerzas de Po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Intensidad rivalidad de los competidores act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Amenaza de entrada de nuevos 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Amenaza de productos sustitu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Poder de negociación de los prov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Poder de negociación de los compr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Rivalidad competidores actu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1.- Cuantos competidores teng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2.- Cómo es la intensidad de rivalidad entre todos los competidor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068640"/>
            <a:ext cx="8136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3357720"/>
            <a:ext cx="79214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fijos a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de salida son muy altos (barreras emocionales o guberna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788000" y="3284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596360" y="386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4797360"/>
            <a:ext cx="8136000" cy="206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5013360"/>
            <a:ext cx="61466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crec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quilibrio entre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osto cambio de los compradores e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86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6720" y="530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609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5805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Amenaza de nuevos participa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1557360"/>
            <a:ext cx="7705800" cy="19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844640"/>
            <a:ext cx="705816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los productos son estandarizados (poca diferenci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 producto fácilmente cop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se requiere de baj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596360" y="177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32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407664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4292640"/>
            <a:ext cx="61470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identificación con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negocio necesita acceso a ultim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422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472428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20000" y="5229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56360" y="2923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8360" y="57168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Que aprenderemos ho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250920" y="1557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Misión y Visión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se define una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descubrir las oportunidades y amenazas del mercado (análisis ex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descubrir nuestras fortalezas y debilidades (análisis in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Amenaza de productos sustit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148428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989000"/>
            <a:ext cx="70581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disponibilidad de sustitutos cer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agresividad de los productores de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un alta relación valor-precio susti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24400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740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407664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4437000"/>
            <a:ext cx="61470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cambio del comp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liente esta acostumbrado a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4365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5157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40720" y="3068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Poder negociación de los compra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155736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69840" y="1989000"/>
            <a:ext cx="70581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compra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muchos sustitutos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comprador se puede integrar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451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164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4149720"/>
            <a:ext cx="7705800" cy="21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17720" y="4359240"/>
            <a:ext cx="614664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o costo cambio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ducto influye en la calidad de los productos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77080" y="4292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885080" y="2852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51640" y="566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Poder negociación de los provee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1773360"/>
            <a:ext cx="770580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14560" y="1989000"/>
            <a:ext cx="70578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provee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veedor se puede integrar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de cambio de mis proveedores 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proveedores influyen mucho en la calidad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380360" y="1844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380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472428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4869000"/>
            <a:ext cx="6147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sponibilidad de sustitutos para los productos de mis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08720" y="57340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308720" y="3141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244000" y="378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DATOS IMPORTAN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3640" y="1557000"/>
            <a:ext cx="86151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No todas las fuerzas son igualmente importantes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No todos los factores son igualmente importantes, ni todos están en la lis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Hay que tener en cuenta las tendencias futur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Hay que ver que muchas veces es mejor crear alianzas que compe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Calibri"/>
              </a:rPr>
              <a:t>Análisis Interno: </a:t>
            </a:r>
            <a:br>
              <a:rPr sz="4800"/>
            </a:br>
            <a:r>
              <a:rPr b="0" lang="es-CL" sz="4800" spc="-1" strike="noStrike">
                <a:solidFill>
                  <a:srgbClr val="ffffff"/>
                </a:solidFill>
                <a:latin typeface="Calibri"/>
              </a:rPr>
              <a:t>Cadena de Val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Actividades primari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4000" y="162828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Logística Interna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recepción, almacenaje, manejo de materiales, inventario, devolución a proveedo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Operaciones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Logística externa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distribución del producto terminado. Almacenaje de productos terminados, procesamiento y programación de pedi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Marketing y Ventas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ducir y facilitar el proceso de compra. Diseño de producto, canales de distribución, determinación de precios, apoyo publicitario, cotizaciones, política de descuentos y despach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Servicio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valor agregado al cli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Actividades de apoy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920" y="134100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dquisiciones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arrollo y uso de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conocimiento experto, procedimientos e insumos tecnológ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Manejo de Recursos Humanos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lección, promoción y colocación; evaluación, recompensas, desarrollo administrativo y relación  emple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Infraestructura de la Firma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ESTRATEGIAS COMPETITIVAS GEN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1989000"/>
            <a:ext cx="8642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idea es buscar una ventaja competitiva, que se traduce en un nivel de rentabilidad por sobre el promedi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e identifican tres estrategias genéricas (categorías de estrategias) para alcanzar una ventaja competitiva sos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ESTRATEGIAS COMPETITIVAS GEN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/>
          <p:nvPr/>
        </p:nvSpPr>
        <p:spPr>
          <a:xfrm>
            <a:off x="71280" y="1790640"/>
            <a:ext cx="889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Liderazgo general en costos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requiere funcionamiento eficiente, reducción de costos en producción y gastos generales, equipo de ventas, publicidad; muchos clientes etc. El margen se obtiene reduciendo el c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Diferenciación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Focalización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concentrarse en un grupo particular de compradores (segmento de mercado) o ámbito geográfico. Hay focalización tanto en diferenciación como en liderazgo en co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333360"/>
            <a:ext cx="84643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Que hace que algunos negocios tengan éxito y otro fracas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50920" y="1989000"/>
            <a:ext cx="83534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ontexto industrial donde se desarr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ontexto Global y Social: País, sus características y re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apacidades y Estrategias de la Propia Compañ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1857240"/>
            <a:ext cx="8229600" cy="192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  <a:ea typeface="Arial"/>
              </a:rPr>
              <a:t>Estrategia abarca el propósito general de una Organ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620640"/>
            <a:ext cx="4176720" cy="1656000"/>
            <a:chOff x="324000" y="620640"/>
            <a:chExt cx="4176720" cy="1656000"/>
          </a:xfrm>
        </p:grpSpPr>
        <p:sp>
          <p:nvSpPr>
            <p:cNvPr id="105" name=""/>
            <p:cNvSpPr/>
            <p:nvPr/>
          </p:nvSpPr>
          <p:spPr>
            <a:xfrm>
              <a:off x="32400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6560" y="65232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atrón coherente, unificador e integrativo que apoya la Toma de Decision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24000" y="2565360"/>
            <a:ext cx="4176720" cy="1655640"/>
            <a:chOff x="324000" y="2565360"/>
            <a:chExt cx="4176720" cy="1655640"/>
          </a:xfrm>
        </p:grpSpPr>
        <p:sp>
          <p:nvSpPr>
            <p:cNvPr id="108" name=""/>
            <p:cNvSpPr/>
            <p:nvPr/>
          </p:nvSpPr>
          <p:spPr>
            <a:xfrm>
              <a:off x="32400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8360" y="263700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identificar y determinar el propósito de nuestro negocio (objetivos, prioridades)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4000" y="4437000"/>
            <a:ext cx="4176720" cy="1656000"/>
            <a:chOff x="324000" y="4437000"/>
            <a:chExt cx="4176720" cy="1656000"/>
          </a:xfrm>
        </p:grpSpPr>
        <p:sp>
          <p:nvSpPr>
            <p:cNvPr id="111" name=""/>
            <p:cNvSpPr/>
            <p:nvPr/>
          </p:nvSpPr>
          <p:spPr>
            <a:xfrm>
              <a:off x="32400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280" y="465300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seleccionar los negocios/actividades en que va a estar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716360" y="620640"/>
            <a:ext cx="4176720" cy="1656000"/>
            <a:chOff x="4716360" y="620640"/>
            <a:chExt cx="4176720" cy="1656000"/>
          </a:xfrm>
        </p:grpSpPr>
        <p:sp>
          <p:nvSpPr>
            <p:cNvPr id="114" name=""/>
            <p:cNvSpPr/>
            <p:nvPr/>
          </p:nvSpPr>
          <p:spPr>
            <a:xfrm>
              <a:off x="471636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934c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59280" y="907920"/>
              <a:ext cx="381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barca todos los niveles jerárquicos y funcional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716360" y="2565360"/>
            <a:ext cx="4176720" cy="1994400"/>
            <a:chOff x="4716360" y="2565360"/>
            <a:chExt cx="4176720" cy="1994400"/>
          </a:xfrm>
        </p:grpSpPr>
        <p:sp>
          <p:nvSpPr>
            <p:cNvPr id="117" name=""/>
            <p:cNvSpPr/>
            <p:nvPr/>
          </p:nvSpPr>
          <p:spPr>
            <a:xfrm>
              <a:off x="471636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50000">
                  <a:srgbClr val="934c93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88000" y="2637000"/>
              <a:ext cx="4033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uede asegurar la continuidad del negocio en el tiempo adaptándose al medio cambi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716360" y="4437000"/>
            <a:ext cx="4176720" cy="1656000"/>
            <a:chOff x="4716360" y="4437000"/>
            <a:chExt cx="4176720" cy="1656000"/>
          </a:xfrm>
        </p:grpSpPr>
        <p:sp>
          <p:nvSpPr>
            <p:cNvPr id="120" name=""/>
            <p:cNvSpPr/>
            <p:nvPr/>
          </p:nvSpPr>
          <p:spPr>
            <a:xfrm>
              <a:off x="471636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6cc3c3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16360" y="4653000"/>
              <a:ext cx="403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Su esencia es lograr ventajas competitivas en el nego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865160" y="59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15632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rebuchet MS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835520" y="2276640"/>
            <a:ext cx="4158000" cy="1922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eutralizar 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Corregir 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xplotar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4103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Buscar oportunidades que puedan posicionar la empresa con una ventaja compet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492360" y="2803680"/>
            <a:ext cx="1295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956920" y="479736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33200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755640" y="40464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tenta lograr una </a:t>
            </a:r>
            <a:r>
              <a:rPr b="1" lang="es-ES_tradnl" sz="2800" spc="-1" strike="noStrike">
                <a:solidFill>
                  <a:srgbClr val="ffffff"/>
                </a:solidFill>
                <a:latin typeface="Trebuchet MS"/>
              </a:rPr>
              <a:t>ventaja sostenible a largo plazo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en cada uno de sus negocios/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V="1">
            <a:off x="1979640" y="17031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3019320"/>
            <a:ext cx="0" cy="838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24000" y="1916280"/>
            <a:ext cx="82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¿</a:t>
            </a:r>
            <a:r>
              <a:rPr b="0" lang="es-ES_tradnl" sz="4400" spc="-1" strike="noStrike">
                <a:solidFill>
                  <a:srgbClr val="ffffff"/>
                </a:solidFill>
                <a:latin typeface="Trebuchet MS"/>
              </a:rPr>
              <a:t>Cuáles son los grupos de factores que son centrales para decidir como abordar el nego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42920" y="549360"/>
            <a:ext cx="7272360" cy="1800000"/>
            <a:chOff x="1042920" y="549360"/>
            <a:chExt cx="7272360" cy="1800000"/>
          </a:xfrm>
        </p:grpSpPr>
        <p:sp>
          <p:nvSpPr>
            <p:cNvPr id="137" name=""/>
            <p:cNvSpPr/>
            <p:nvPr/>
          </p:nvSpPr>
          <p:spPr>
            <a:xfrm>
              <a:off x="1042920" y="549360"/>
              <a:ext cx="7272360" cy="180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58920" y="693360"/>
              <a:ext cx="6769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Internos:            Fortalezas (que hago bien) Debilidades (que hago mal)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140" name="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58920" y="2811600"/>
              <a:ext cx="69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143" name="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8920" y="2811600"/>
              <a:ext cx="69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440080" y="990720"/>
            <a:ext cx="4952880" cy="1143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44840" y="990720"/>
            <a:ext cx="4771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modo de conseguir un liderazgo competitiv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11280" y="2209680"/>
            <a:ext cx="3657600" cy="1905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839880" y="228600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106960" y="2209680"/>
            <a:ext cx="3505320" cy="1905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28804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20960" y="4343400"/>
            <a:ext cx="3733920" cy="990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201840" y="4419720"/>
            <a:ext cx="31435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2973240" y="5335560"/>
            <a:ext cx="3504960" cy="912960"/>
            <a:chOff x="2973240" y="5335560"/>
            <a:chExt cx="3504960" cy="912960"/>
          </a:xfrm>
        </p:grpSpPr>
        <p:sp>
          <p:nvSpPr>
            <p:cNvPr id="155" name="Rectangle 12"/>
            <p:cNvSpPr/>
            <p:nvPr/>
          </p:nvSpPr>
          <p:spPr>
            <a:xfrm>
              <a:off x="2973240" y="5410080"/>
              <a:ext cx="3504960" cy="8384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725720" y="5335560"/>
              <a:ext cx="0" cy="74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4"/>
          <p:cNvGrpSpPr/>
          <p:nvPr/>
        </p:nvGrpSpPr>
        <p:grpSpPr>
          <a:xfrm>
            <a:off x="3049560" y="6248520"/>
            <a:ext cx="3352680" cy="379440"/>
            <a:chOff x="3049560" y="6248520"/>
            <a:chExt cx="3352680" cy="379440"/>
          </a:xfrm>
        </p:grpSpPr>
        <p:sp>
          <p:nvSpPr>
            <p:cNvPr id="158" name="Rectangle 15"/>
            <p:cNvSpPr/>
            <p:nvPr/>
          </p:nvSpPr>
          <p:spPr>
            <a:xfrm>
              <a:off x="3049560" y="6301080"/>
              <a:ext cx="3352680" cy="3268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6"/>
            <p:cNvSpPr/>
            <p:nvPr/>
          </p:nvSpPr>
          <p:spPr>
            <a:xfrm>
              <a:off x="4725720" y="6248520"/>
              <a:ext cx="0" cy="5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7"/>
          <p:cNvGrpSpPr/>
          <p:nvPr/>
        </p:nvGrpSpPr>
        <p:grpSpPr>
          <a:xfrm>
            <a:off x="2593800" y="2135160"/>
            <a:ext cx="4417920" cy="2208240"/>
            <a:chOff x="2593800" y="2135160"/>
            <a:chExt cx="4417920" cy="2208240"/>
          </a:xfrm>
        </p:grpSpPr>
        <p:sp>
          <p:nvSpPr>
            <p:cNvPr id="161" name="Line 18"/>
            <p:cNvSpPr/>
            <p:nvPr/>
          </p:nvSpPr>
          <p:spPr>
            <a:xfrm>
              <a:off x="4725720" y="2135160"/>
              <a:ext cx="0" cy="2208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9"/>
            <p:cNvSpPr/>
            <p:nvPr/>
          </p:nvSpPr>
          <p:spPr>
            <a:xfrm>
              <a:off x="2593800" y="4116240"/>
              <a:ext cx="2055600" cy="15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0"/>
            <p:cNvSpPr/>
            <p:nvPr/>
          </p:nvSpPr>
          <p:spPr>
            <a:xfrm flipH="1">
              <a:off x="4803480" y="4116240"/>
              <a:ext cx="2208240" cy="15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6-06T21:20:59Z</dcterms:modified>
  <cp:revision>514</cp:revision>
  <dc:subject/>
  <dc:title>Presentación de PowerPoint</dc:title>
</cp:coreProperties>
</file>