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96FB-B6C5-4814-A90F-856E8C6FD94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B1A5-43FB-4DE8-ABAD-63FB5E5E26A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335-0704-40CC-BFE0-43F3BE374F6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331-4509-4902-BAB6-507F5D98F23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A635-339D-49C6-AC63-00572EE877F3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que se transporta es el produc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E41-9A02-46EC-9A04-3ED1F1EDDDC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a función de las organizaciones y un conjunto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cesos, para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REAR, COMUNICAR y ENTR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VALOR a los clientes y para administrar las relacione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os clientes en formas que se beneficie la organiz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sus “stakeholder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rketing es visto como una función rel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EC2-F014-4996-ABFF-31175A8E327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2AA-A6BF-46E3-AA83-862338B3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47B-EFFA-4FA1-9B39-E2AC4FF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D8-2631-4B31-BFDC-273FF2F2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8F4-6C20-4B53-833B-77C4FF43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9426-90F5-44D4-807E-FEEA4B40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5864-31B2-45AE-BFFD-BCEA1712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1712-F63B-4EEA-A9FF-5A50CFFF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0A0-91A2-45DD-8541-3DE39EA9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A9C-8A64-466C-99E9-32ECD3DD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BB48-64E4-4121-A9EB-3CD8D5E3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CD7E-74E1-4660-867E-AB78AFC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AC0-9A9B-43C0-81B2-357E5CC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EDD-3C52-4B42-AC61-494CF6F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D8A-7DA5-4B02-88AE-29AFEA8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534-BB3F-432E-9BE7-BD4A310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A23-B873-40C1-890F-510FF84D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F32-B786-4BBD-B3E3-E0E5B10E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5B453-B51D-4C14-AFC7-E5AC0AE4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3DD83-62F9-42CC-B893-E433AC3E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0CD4E-FCD0-4EC4-BEB0-BD6FA4D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C04F9-95E8-4FBF-A364-3D0B50C0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F4DC7-813F-45DD-9D0F-4D392F0B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D7C-9DD0-4B18-92C1-5F6D360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2CC44-24C2-4053-9060-8CB642A8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F8BEB-78D5-481A-99A6-171A125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0AB73-A42A-4473-AD8B-A3B24F8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BD592-3D97-4C09-BB23-FB61888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C2570-0F62-49AF-9766-6CA220BD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67D09-C705-44BB-89A4-842BC452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D4342-DDD9-470B-B831-B84AE268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C6B4-7DA4-4766-A511-1E0BC64F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5BB4-4DE3-4097-A60D-377400F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73EB-17D2-4C5E-8EB6-41E7549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B56-57CC-4CF5-BF9E-3E239DF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3D6E-F52F-446E-ACB6-E63EDAD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85F5-DC7A-4933-A3B2-04B338D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A0A8-06EB-48F6-89D8-08CE809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7914-9727-4F8F-87E2-FD4AE9D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0AD7-F8C2-4DAD-BCFB-4CFBF49B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6799-E3B9-4816-B4E7-6F38772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8BD7-EFF4-4336-919A-FFB5A22D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0DA6-E8DF-44C9-A2E0-1AE8E448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85B0-7963-4CB0-A3D2-13EC81C4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CB734-0EDC-4B0B-AE6A-CB87ACD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F1-2317-4BCA-8C17-CA1BED5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969E4-34B0-4949-8EF4-ADBB4933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86A42-0DE4-4FAF-9B4A-CCB241DB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5BFB8-6440-403F-B6FE-50E1966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9654A-24D9-44F0-8AB5-CBA429E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C91F2-681C-4B25-A8C8-3B05541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D23FF-53DA-4F41-B1BB-593AD28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4D40E-64EC-4192-B497-88C9878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810B7-E8FA-405E-8747-CC19029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80150-D201-432D-9111-92C8B6D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8E59F-E66C-4889-A5F7-1AB080A6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EC1-BDC2-42D1-8203-A458BAEC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B30A0-40BF-44D3-9B8D-B636B2CB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4579C-4D98-413A-94FC-FAA7DE77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9BEE4-E85F-41D8-AFCA-4A2C628F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1E574-57AD-4348-829F-901B49F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F8084-4B2B-43E6-A0AE-D10335B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F9415-22F3-46D2-91A9-752C8DC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DFBF1-3C34-41CC-B5BB-9FDCB195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AAD4D-C373-4C47-B6B2-380D576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8E2F8-9E22-456E-9AE7-B752533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46971-A0A4-4393-96B0-EBA92B8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8ED-3D1E-4A3C-AA0C-0CF244A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532A8-4BCF-4D77-AC29-D827B93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A2434-F718-40F3-AA9D-2BE57385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39A4B-A8CF-41F1-A756-27166092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FAD41-09EF-4623-ACA4-19BC67C8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2822F-F3DE-475C-9E7D-8FC3B00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36EFD-9A34-44B5-8D38-FCB96A7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0A0E5-4AE1-4D60-BACC-D178A61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BD2FF-538A-445C-943B-905A40A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4A47B-2C4D-4ECA-8546-EF8FBD7C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778FD-FEA5-4447-899D-035AE89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12E-F848-4C1D-B64E-F9A8439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5088A-482C-47C2-BFD0-62F2FDE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6B21D-08F8-4385-8B1B-8F99DF9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264F4-6CA9-4076-81E3-A0D49AD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EBB59-F848-4F8B-B8E1-B05441E6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B01D8-C18B-481B-BC4A-B4077555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BEFE6-82B7-4F65-B78C-F9E1FF9EF7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C13C9D-5C0F-459C-BF66-96DEF4D406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D18CC-5B6A-4018-9128-911E876840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A15DB-6DED-4180-81D6-9064EBE4FED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FD218-4F8C-4E15-B247-36870B15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1D7-6198-412E-9328-8B0B93D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E8DF1-C63D-4662-8DD7-D4F7F0FB98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A801B-6DF8-4AD3-B11D-5EEDC2107C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3433B-E468-46E9-BF47-27F1022CCA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6B30F-0342-455D-B4FA-74E349F041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BFC94-6C27-40FB-AFC0-3F718BFFCC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D76EE-4E3A-4B1C-AE2C-349625AA97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22B97-7D7E-47E7-B757-BA41AB0F0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8E05-F21A-4D37-9E9F-97B4EAFBB60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7F5D-D32F-450A-8571-0812A2C6824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68A-68B1-4F6C-93EA-5BB8D4509FC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9B42-300B-4B61-86D7-0349900A959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BDA-581C-452C-8A05-6193A09178D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2518-EDA0-4A84-AFE6-36AC231C7BA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EC7-9DB1-40E9-A532-76730D3B4C7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2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3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5EF-D990-4272-8281-BC5D201C80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ADMINISTRACIÓN </a:t>
            </a:r>
            <a:br>
              <a:rPr sz="3600"/>
            </a:b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BÁSICA DE UN NEGOCIO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Clase 6 – Desarrollo de Habilidades Directivas y Gestión de Negoci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URSOS NECESAR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apit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PROPUESTA PARA LA MICRO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administración correcta del negocio requiere conocer todos los elementos enunciados con anterioridad, pero es de suma importancia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aber manejar los flujos de din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es fácil separar dominios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YO + YO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Yo </a:t>
            </a:r>
            <a:r>
              <a:rPr b="1" lang="es-E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 TÍPICOS DE CASA BOLSIL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6956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s de la casa (solo de la casa!!!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 a proveedores y trabajad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 personal (del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yo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MANERA MUY FÁCI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 fundamental llevar un orden de estos flujos y diferenciarlos de los que son del yo y el yo empresa. 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SU U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38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 planilla permite controlar y ver de manera explícita cuanto estoy gastando en mi empresa y planificar desde ahí algunas acciones como por 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Reducir cost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Subirle el sueldo al Y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Vender más caro (considerando el precio del mercado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Cuanto puedo ganar en el futuro (proyección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1428840"/>
            <a:ext cx="73530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rebuchet MS"/>
              </a:rPr>
              <a:t>ES VITAL DISTINGUIRLOS, SOBRE TODO EN LA MICROEMPRESA, PUES PERMITE, A TRAVES DE AHORROS MARGINALES, ABRIR MUCHAS POSIBILIDAD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Compr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Reasignación de capit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suel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Variable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n aquellos en que su valor aumenta y disminuye cada vez que la producción y las ventas aumentan o disminuy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Fijos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Son independientes del nivel de ventas y produc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788796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endamiento de oficina (distinto al del local de producció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Transpor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stos en general (solo para diferenciarl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HO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rimer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dministración Básica del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egund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paración de la Cl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QUE HACER AL RESPE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MPRESA</a:t>
            </a: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	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definirla además como </a:t>
            </a:r>
            <a:r>
              <a:rPr b="1" i="1" lang="es-ES" sz="2400" spc="-1" strike="noStrike">
                <a:solidFill>
                  <a:srgbClr val="000000"/>
                </a:solidFill>
                <a:latin typeface="Trebuchet MS"/>
              </a:rPr>
              <a:t>una red de conversaciones recurrentes orientadas a resolver, a través del diseño, los quiebres del entor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RODU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o servicio que la empresa ofrece para satisfacer las necesidades de los clientes. A aquellos productos tangibles se les conoce como bienes, y son clasificados de la siguiente maner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Y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= PRODUCTO 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VICIO = PRODUCTO IN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V/S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42960" y="1397160"/>
          <a:ext cx="7858080" cy="28652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ng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mo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parar producción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OMEND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necesario considerar una serie de factores que determinan la satisfacción del cliente, que van más allá de la fabricación de un bien o entrega de un servicio (AGREGAR VALOR!!!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Higiene y Present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Buena atención, rápida, responsable y punt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Garantía del producto ofrec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e sea coherente con los IQP´s de los clien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Recordar el ciclo del trabaj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ÓMO FUNCIONA LA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9680" y="1341360"/>
            <a:ext cx="83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ctividades Funcionale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Todas las actividades que involucran el funcionamiento de la empresa en la concepción de bienes o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ursos Financiero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Capital monetario (dinero) requerido para iniciar y mantener las actividades func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rsona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curso humano que efectúa las distintas actividades funcionales además de planear estrategias y dirigir la empre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ACTIVIDADES TÍP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68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rancisco Correa</cp:lastModifiedBy>
  <dcterms:modified xsi:type="dcterms:W3CDTF">2008-09-22T06:04:13Z</dcterms:modified>
  <cp:revision>26</cp:revision>
  <dc:subject/>
  <dc:title>Diapositiva 1</dc:title>
</cp:coreProperties>
</file>