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dt" idx="2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2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 type="sldNum" idx="2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1218-2723-45D1-829B-B6D3AC3F4FE5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81E2-FABF-4061-859D-A09AEEF3423D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16C8-A59D-4B67-85DE-EE25FB8ED7C9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1CE0-6E07-4311-A2AE-DD9E4CC86B05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66DA-2A09-4A25-9BD8-9F0F575C3065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l que se transporta es el product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1F53-4777-4885-8B50-967BAE55A136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Una función de las organizaciones y un conjunto 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ocesos, para </a:t>
            </a: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REAR, COMUNICAR y ENTRE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VALOR a los clientes y para administrar las relaciones c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os clientes en formas que se beneficie la organiz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 sus “stakeholder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Marketing es visto como una función relac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614F-5692-4D3F-BAE2-C9FCBDFDAB6C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832-3940-4D72-AC61-F25E7BD5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807-F566-4CD1-9BAB-273D7FCE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63D7-53F9-4564-9518-4C25F219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1E1-0CEF-4690-9314-E8C461C5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7E84-BEA4-47D1-B328-4FBB868C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75F1-8B18-453B-8CEF-92339B21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7B23-F9C6-4914-961A-CD8503FC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B768-C84B-4BB7-BEFF-5B46E2B0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0E77-1F75-4F6B-AFC3-5F1E1A0F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168A-4B50-44A8-86E6-6CCA38F5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8D13-B946-4E38-A3E5-2D7B40B8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51F-CB7C-43BC-BF64-8CA6E7C1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A49F-3E79-4709-8080-514B99CB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3A36-2C87-462F-A543-49A22A9C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204E-C094-457C-8354-BF386B92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62C7-34B4-4251-A09E-A6666D7C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5115-08FA-4E06-B2DE-481D9D69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B48EC-9329-407F-805E-58BDDFFE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E1CB9-9C44-4EF2-BBE0-6A3D2DD2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524B2-9954-4BFC-A6AA-3A77BE19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93DA7-7F07-47EA-9422-30E05B8F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29D83-DE18-44EC-96F9-0948B8CF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D2E-35D6-4445-8367-ED6921A8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414CC-C272-46E8-BCC2-8AFDABA3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CEB9E-C8DB-4CAE-A958-0A0EADD1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9FF6C-C46D-400B-8820-DC5932DE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38E57-ABFE-490D-8841-66D900B4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D5D96-3F74-445F-9E2E-A4F552BC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AEB62-565D-4070-AB27-DB07C233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116AD-26AF-4062-B3A6-D849EA9D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2CED0-8625-4C8D-931B-723C20B7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62115-AA1A-4806-85DC-53E4D1D9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D379A-F2A7-431E-BC34-83E7D57F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A19-4F34-4B7A-AD54-B7ADCB85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3F1EA-9F1D-45C1-B429-EA2D45F0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F1F18-DB1B-4547-887F-12CD8995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4015A-C7BB-42DD-92AF-6A6BB69E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44054-BE77-4E6D-B347-16B512F5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ADEA2-A8B2-4306-856B-21EF0D47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F5837-4D13-4296-B81C-89A5273C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8A288-D80F-436A-816B-5E1B2021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27D50-4A8B-4B30-B561-B09A73C4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8E83B-7A5B-45FE-8FB4-267524BC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DBD57-AD7C-4FB5-8B29-568DECC7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EC1-DAE0-4567-BE27-2FA0DF5F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3E67F-6E6F-4606-932D-BAA8B38C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D66788-0983-4F6A-A47A-5A5162D7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F88661-342C-43D6-98F6-CFE469C6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AA146D-AE17-47F3-BBBC-82F81652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B33E6-10A8-4060-ACE8-D96F7E56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CE923-CF13-4742-99B1-9E37CBAD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D2C9B-2542-4939-B2E0-3394BC16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2E72A2-E189-4C48-8CCA-414D1770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8AF07-6682-46F7-8A09-47979DC5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824291-5380-427F-B1B1-62E24BC4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82E-A53E-4BA9-9242-EC99259E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9F7AB-57F2-48AF-B181-5ACF90A5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E92D9D-5035-4737-8CAA-7C668D40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F0345-9F73-4445-B4BC-B0E3A806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3D074-76D4-4232-A190-D712A9F9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8189A5-121A-4AFE-888C-63BCC75F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1A08E5-D149-4352-B59A-9D95688B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E14C37-5597-455B-89BD-487E1B6F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D367D1-A1F8-4C41-A847-A1AF29BE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26766C-6A81-4050-9CDE-3640C207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2493AA-8F03-461E-ADE2-E2C3929C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8D74-F4B8-4496-AE6E-1DD8CF29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A62202-8E4F-40C0-9572-FF29AB42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23FDD-A57A-490B-97D0-A2FC59C1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492498-25FB-4CEF-BA0F-3A98FC91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E08764-FD0E-4C1C-BC63-DA478680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2AF0CE-CE83-47A9-9FFB-6D6D2589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E49B5-7F9D-404C-A388-366E63FF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2A2E5A-644D-4A01-B573-2BD31FFF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3FA780-1DAD-487B-9844-C79F1296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E84FA0-E030-43E7-A79C-ECA3C6D5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E52894-A406-495F-B3A6-23F45B3D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666-310A-4FE2-906C-6ADF3703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703D7F-79E9-42D8-8C0B-14C75424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F72977-0C7F-46B4-8F4C-D2A0E0FE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79E408-121F-4286-858E-96A40901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FF0C08-DFFE-444B-A66C-47114062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BD9324-2B20-4C82-9135-EBFECBCF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825C36-1FA8-46D0-B7D2-C67BC28EC05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12E031-B49A-4EA4-B7FF-A5CBC4B7AC2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47B43D-22B5-4B07-89BC-EA91E8DE249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BD98D6-6F75-447F-B9B6-21F3EDBF292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5B8523-D06C-4092-BE9F-214F210EF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7AF-A465-44EF-8563-6F370C4D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6F997B-2DFF-43EA-A226-EE845DD3EA6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A3EDE3-4614-433B-8254-660371282F2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936C76-EB7F-4F7C-95EB-6024A4EFC01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761F8A-BEDC-4F58-B446-FC69C30453B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8EF332-A9DC-41AB-B752-C13A1774B50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638195-D965-422D-AB36-41B13E4EA2A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7B4E29-B7BE-46ED-BD72-76FDE94CC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2A42-DB2A-4BB3-A408-70D9337C117E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49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E1EE-6C98-4252-83F3-E8A846B0B0D5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ABBB-9F79-4B67-A13B-1E6ADA59AA8F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E7E1-2A36-4372-97C0-5DC4C6F8655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FF48-5424-4753-82C1-55C223B0CB98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7DC4-E438-48D7-879C-8A830DA6FF1E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BED4-D80B-483F-8660-A7E74E2304EB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2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3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A303-8DDE-4361-8F19-428A42D1080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68000" y="20602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1f497d"/>
                </a:solidFill>
                <a:latin typeface="Trebuchet MS"/>
              </a:rPr>
              <a:t>ADMINISTRACIÓN </a:t>
            </a:r>
            <a:br>
              <a:rPr sz="3600"/>
            </a:br>
            <a:r>
              <a:rPr b="1" i="1" lang="es-ES" sz="3600" spc="-1" strike="noStrike">
                <a:solidFill>
                  <a:srgbClr val="1f497d"/>
                </a:solidFill>
                <a:latin typeface="Trebuchet MS"/>
              </a:rPr>
              <a:t>BÁSICA DE UN NEGOCIO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268000" y="4076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f497d"/>
                </a:solidFill>
                <a:latin typeface="Trebuchet MS"/>
              </a:rPr>
              <a:t>Clase 6 – Desarrollo de Habilidades Directivas y Gestión de Negocio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RECURSOS NECESARI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Materias Prim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apit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UNA PROPUESTA PARA LA MICROEMPRES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Una administración correcta del negocio requiere conocer todos los elementos enunciados con anterioridad, pero es de suma importancia 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saber manejar los flujos de diner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No es fácil separar dominios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YO + YO EMPRES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73512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rebuchet MS"/>
              </a:rPr>
              <a:t>Yo </a:t>
            </a:r>
            <a:r>
              <a:rPr b="1" lang="es-ES" sz="5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ES" sz="5400" spc="-1" strike="noStrike">
                <a:solidFill>
                  <a:srgbClr val="000000"/>
                </a:solidFill>
                <a:latin typeface="Trebuchet MS"/>
              </a:rPr>
              <a:t> Yo empres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La plata que es de la empresa es distinta a la plata que utilizo para 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(El bolsillo izquierdo es el yo empresa y el derecho es el y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GASTOS TÍPICOS DE CASA BOLSILL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15640" y="1599840"/>
            <a:ext cx="69562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Gastos que involucra usar la plata del bolsillo derech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Docto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Alimentació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Viaj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Pagos de la casa (solo de la casa!!!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Gastos que involucra usar la plata del bolsillo izquierd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omprar insumos para la producció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Pago a proveedores y trabajador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Sueldo personal (del </a:t>
            </a: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yo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réditos del negoci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UNA MANERA MUY FÁCI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Es fundamental llevar un orden de estos flujos y diferenciarlos de los que son del yo y el yo empresa. </a:t>
            </a: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Nunca hay que mezclarlos!!!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Planilla ingreso-egres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onsta de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10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antidad vendida y precio de venta (ingreso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10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Gastos incurridos para la venta (costos o egreso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10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iferencia entre ingresos y egresos (saldo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BENEFICIOS DE SU US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38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ta planilla permite controlar y ver de manera explícita cuanto estoy gastando en mi empresa y planificar desde ahí algunas acciones como por ejempl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rebuchet MS"/>
              </a:rPr>
              <a:t>Reducir costo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rebuchet MS"/>
              </a:rPr>
              <a:t>Subirle el sueldo al Y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rebuchet MS"/>
              </a:rPr>
              <a:t>Vender más caro (considerando el precio del mercado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rebuchet MS"/>
              </a:rPr>
              <a:t>Cuanto puedo ganar en el futuro (proyección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OSTOS Y GAS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71320" y="1428840"/>
            <a:ext cx="735300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rebuchet MS"/>
              </a:rPr>
              <a:t>ES VITAL DISTINGUIRLOS, SOBRE TODO EN LA MICROEMPRESA, PUES PERMITE, A TRAVES DE AHORROS MARGINALES, ABRIR MUCHAS POSIBILIDAD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000000"/>
                </a:solidFill>
                <a:latin typeface="Trebuchet MS"/>
              </a:rPr>
              <a:t>Compr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000000"/>
                </a:solidFill>
                <a:latin typeface="Trebuchet MS"/>
              </a:rPr>
              <a:t>Reasignación de capital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000000"/>
                </a:solidFill>
                <a:latin typeface="Trebuchet MS"/>
              </a:rPr>
              <a:t>suel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OS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Son los desembolsos y deducciones directos causados por el proceso de fabricación o por la prestación del servicio. Son considerados costos lo siguientes ítem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Mano de obra por hora o por dí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Sueldos y Salarios del personal de plant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Materias primas e insum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Flet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Arrendamiento del local de la plant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Servicios públicos (agua, luz, teléfono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OS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0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Costos Variables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on aquellos en que su valor aumenta y disminuye cada vez que la producción y las ventas aumentan o disminuye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9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Materia Prim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9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Mano de Obr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Costos Fijos: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 Son independientes del nivel de ventas y produc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9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Sueldos fij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9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Arriendo de loca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90000"/>
              </a:lnSpc>
              <a:spcBef>
                <a:spcPts val="45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Mantenimiento de maquinari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GAS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1571400"/>
            <a:ext cx="7887960" cy="45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Son los desembolsos y deducciones causados por la administración de la empresa. Por ejemplo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Sueldos y salarios del personal administrativ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Secretari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Mensajer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Vendedores (sueldo base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Arrendamiento de oficina (distinto al del local de producción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Papelerí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orreo y teléfon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Gastos de publicidad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Transport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80000"/>
              </a:lnSpc>
              <a:spcBef>
                <a:spcPts val="45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ostos en general (solo para diferenciarlo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HOY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Primera Parte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dministración Básica del Negoc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Segunda Parte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eparación de la Cl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QUE HACER AL RESPECT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67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Una buena gestión del negocio debe traducirse en una reducción de los costos y de los gasto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xisten costos que no es posible evitar, sin embargo a través de innovaciones podemos incurrir en costos que remplazan a los existentes a un menor valor. Por ejemplo la introducción de tecnologí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idea es dejar de incurrir en gastos innecesarios para nuestro negocio, es decir, no es necesario gastar en cada uno de los elementos planteados anteriorme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EJERCICIO: IDENTIFICAR COSTOS Y GAS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357120" y="1397160"/>
          <a:ext cx="8143920" cy="4206600"/>
        </p:xfrm>
        <a:graphic>
          <a:graphicData uri="http://schemas.openxmlformats.org/drawingml/2006/table">
            <a:tbl>
              <a:tblPr/>
              <a:tblGrid>
                <a:gridCol w="3143160"/>
                <a:gridCol w="928800"/>
                <a:gridCol w="3357720"/>
                <a:gridCol w="71424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 ó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 ó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arriendo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mano de obra por día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mpra de materia prima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sueldo base de vendedor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salarios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l sueldo del empresa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servicios públicos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comisión de vendedor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preciación de equipos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mantenimiento de vehículo     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publicidad en radio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ntenimiento de maquinaria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impuestos municipales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por correo o corresponde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intereses de un préstamo    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acac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¿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EJERCICIO: IDENTIFICAR COSTOS Y GAS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57120" y="1397160"/>
          <a:ext cx="8143920" cy="4206600"/>
        </p:xfrm>
        <a:graphic>
          <a:graphicData uri="http://schemas.openxmlformats.org/drawingml/2006/table">
            <a:tbl>
              <a:tblPr/>
              <a:tblGrid>
                <a:gridCol w="3143160"/>
                <a:gridCol w="928800"/>
                <a:gridCol w="3357720"/>
                <a:gridCol w="71424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 ó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 ó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arriendo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/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mano de obra por día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mpra de materia prima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sueldo base de vendedor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salarios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/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l sueldo del empresa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servicios públicos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/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comisión de vendedor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preciación de equipos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/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mantenimiento de vehículo     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publicidad en radio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ntenimiento de maquinaria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impuestos municipales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por correo o corresponde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ago de intereses de un préstamo    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acac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AS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EMPRESA</a:t>
            </a: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	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 una organización cuyo objetivo es fabricar y distribuir mercancía, o proveer servicios a parte o a toda la comunidad mediante el pago  o retribución de los mism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odemos definirla además como </a:t>
            </a:r>
            <a:r>
              <a:rPr b="1" i="1" lang="es-ES" sz="2400" spc="-1" strike="noStrike">
                <a:solidFill>
                  <a:srgbClr val="000000"/>
                </a:solidFill>
                <a:latin typeface="Trebuchet MS"/>
              </a:rPr>
              <a:t>una red de conversaciones recurrentes orientadas a resolver, a través del diseño, los quiebres del entor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RODUCT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Bien o servicio que la empresa ofrece para satisfacer las necesidades de los clientes. A aquellos productos tangibles se les conoce como bienes, y son clasificados de la siguiente maner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just">
              <a:lnSpc>
                <a:spcPct val="100000"/>
              </a:lnSpc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Bienes de Consu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just">
              <a:lnSpc>
                <a:spcPct val="100000"/>
              </a:lnSpc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Bienes de Produc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BIENES Y SERVICI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BIEN = PRODUCTO TANGIB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ERVICIO = PRODUCTO INTANGIB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principal objetivo de esta distinción radica en reconocer elementos críticos de cada uno y de la existencia de gestiones diferentes en cada cas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BIENES V/S SERVICI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42960" y="1397160"/>
          <a:ext cx="7858080" cy="286524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  <a:gridCol w="26193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aracterí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i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ervic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ngi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v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most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macen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rans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parar producción de consu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RECOMENDACIÓ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 necesario considerar una serie de factores que determinan la satisfacción del cliente, que van más allá de la fabricación de un bien o entrega de un servicio (AGREGAR VALOR!!!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55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Higiene y Presentació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55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Buena atención, rápida, responsable y puntu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55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Garantía del producto ofrecid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55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Que sea coherente con los IQP´s de los client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lnSpc>
                <a:spcPct val="100000"/>
              </a:lnSpc>
              <a:spcBef>
                <a:spcPts val="55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Recordar el ciclo del trabaj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ÓMO FUNCIONA LA EMPRES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9680" y="1341360"/>
            <a:ext cx="83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Actividades Funcionales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: Todas las actividades que involucran el funcionamiento de la empresa en la concepción de bienes o servici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cursos Financieros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: Capital monetario (dinero) requerido para iniciar y mantener las actividades func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Personas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ecurso humano que efectúa las distintas actividades funcionales además de planear estrategias y dirigir la empres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ACTIVIDADES TÍPICA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684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ompr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lmacen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 </dc:creator>
  <dc:description/>
  <dc:language>en-US</dc:language>
  <cp:lastModifiedBy>Francisco Correa</cp:lastModifiedBy>
  <dcterms:modified xsi:type="dcterms:W3CDTF">2008-09-22T06:04:13Z</dcterms:modified>
  <cp:revision>26</cp:revision>
  <dc:subject/>
  <dc:title>Diapositiva 1</dc:title>
</cp:coreProperties>
</file>