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669D-4FB7-4D49-B39E-6EB9719E8674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683C-9CB8-4EDB-8A40-B2BF5581638D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5C48-428D-4189-BD64-CBBE132F2A9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D4B1-3FF1-42FF-9D00-61E456610C6D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EA81-F195-47D6-AA65-A5DD1191C626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que se transporta es el produc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A2AF-AEC3-4FD8-A25F-99D88B291F5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Una función de las organizaciones y un conjunto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cesos, para 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REAR, COMUNICAR y ENTR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VALOR a los clientes y para administrar las relaciones 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os clientes en formas que se beneficie la organiz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sus “stakeholder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arketing es visto como una función rela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FBF-ADBC-498E-AEFC-A78F75E1515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9BC-0214-46E7-8FEC-40194883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E13-418D-4C67-9674-7BFC47FE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2CE-41AF-43C4-8D2A-9323F1FC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6EA-29AA-4B54-AB28-2ACD4FD5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A08E-A896-4DCF-A9A1-8C0F5678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5FAA-5722-41F0-8A35-2AA9E142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B2C7-65F8-483F-8407-7B68FD07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0385-EF8F-4393-B593-5B7A5C99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49DC-7F3A-4118-A8CC-19F9B1E8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80BC-463A-4DF2-BD91-EBF953C2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A6DD-B762-4D8E-94DB-B56459A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658-632D-4107-A03B-454CF637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7CD1-F193-4661-85AB-CDB2E12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2D1C-966A-42E5-A898-B68C57EB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2597-BD54-4D22-86A4-20448F5B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B168-7415-447B-BB74-AAA311C2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453-412F-44DE-BEB3-DFDD5B9D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49F67-EF42-42B4-A035-E152134C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57C27-2649-4AFE-80A7-7FD1362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4E148-B85B-4991-91B5-DB73C1B8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AD72D-3226-4153-8DD0-60C87EE1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BC8C5-0796-448A-AE46-EA398544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7A1-B0B9-41F0-A3EB-3A7B73E7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0EEE0-015A-43EE-993E-EEE921BB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3E3D7-8422-4CBC-8077-A75FD18E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0933F-DCB4-4D3C-B65B-F40722BF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A544A-B387-4C36-94F6-F8D31FB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32220-E7D5-43E2-A53B-BC08DDCC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11EFF-9E68-4294-94D9-3D6D37DC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AD801-B8A2-4588-A37F-8362EE0C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81CA-6475-4033-BFCA-1600B702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5062-9CA7-41D9-95EA-B6FDF592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AD5C-87E3-44AA-8846-A8D89943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AC6-63FE-4EBE-871A-53F4F3BD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7568-05B8-4CB7-B6C4-E26EE8B5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0F69F-1D3B-464D-836A-9ABB356B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D9F9-7BBE-4B74-811E-5BF371C0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7ADA-0910-4DAB-821A-4A000C4E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FBEC3-A648-4411-9E0B-FB71400F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5D4C-A4D8-471F-93E2-57D3AE73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6D6F-42DB-432A-9820-0EDE8E79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8029-C170-4C75-9D47-DB1CE0A0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D19B9-A462-47E4-9152-023177A5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81D32-91A0-423B-A593-CD71D6DB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44A-0F20-4552-91DA-2272D53D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AACF2-8533-4DD5-9B85-2BD32542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F467C-DB54-4C53-9F3E-FB762D4C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003C7-218A-4173-9882-A8DAFC12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5A5B2-7BA9-4BE1-889A-38B156CF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50CA9-DB9F-4E53-BAC1-68CFDE5A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26640-16B5-4119-8487-630F1C86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DCD30-FE84-4DFB-81EC-2A7B389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6B246-D606-42D9-83DE-C897CA75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91B9E-5826-403A-B72F-5B7953CE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E29F1-BE9D-4626-9532-32F6A8A2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F33-5714-4563-B1E9-B98EF616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9B006-DA9F-47D8-859E-010AD0DF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E3CC2-DAC8-47CF-9D3B-5D2FE139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5EDC2-9A1E-4F66-8804-E1440CE7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69CBD-6DCC-47F7-B569-F9652387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0966B-159A-4565-8976-D5A6FF6F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9D871-F1C0-432D-8C6B-43AAE489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AD33F-1F94-4453-82ED-E7788A42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AB6CF-17AB-456A-9729-F35FD45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BA749-8717-4AAE-A95E-60958DFE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52FDD-45B3-46B3-93E0-D350CFEF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953-C08B-434D-B6F7-4FC2D91F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EB802-AC85-4C41-96C7-22D9B34C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4E1E9-CEE4-4E11-BC59-33535AD8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1202B-0A5F-40C5-B79C-24B1DA0A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884AE-12C4-46F2-973A-CB3946C3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6D38E-02DF-4512-99F4-426A6D4F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CEA6B-CD87-46E7-B301-C339A0E0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1986A-016E-43BA-8F3C-C4591213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05D8D-DBA2-4C07-B5A8-A4E8C99A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A2E98-9CDD-4C66-8726-6C520EFA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1DEC7-3850-4CF4-B18C-DD21573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264-CD37-4DA4-A57E-E41CF15A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D2ED62-981A-441F-A885-9984D941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BBD4E-DBD8-467A-A569-61B4990D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D2753-87ED-4E18-9F43-E4DE1041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3D4CC-77E0-4AC6-9B17-392D858D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B8037-ACBF-433C-B6F3-BED3EE69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AC48A-E734-49F8-A416-36FC029509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62618A-04FE-427D-89A2-77108A6D1CB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9D268-CD76-4E02-A934-8442C1A8DF7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22E83-D1F0-4A4C-9D27-31DE928822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F47408-AD7E-4BC3-B080-299875EB7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568-9604-47EB-AF37-F7E7EAF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03A0DA-7A39-48CB-8146-10F61AD076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1332F-35FC-49F8-A635-7DD5ABFA6D1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70FEEF-B144-404F-A539-5A9967CAF9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796344-B8EE-4A65-A90E-F0962DB265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53E35-C291-427F-B389-29CEF66B206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1C3914-608A-48FF-AE9F-1219332AA46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CD7B70-7D61-4C86-B8AC-CF3073B17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5E3B-38A6-437A-B702-6CEFFE4124A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AEDF-D268-4A49-BE4B-A15577AB6C8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0782-14EF-4F56-A6DB-49639E5D62F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5EAA-1690-4932-9B92-5D655F1C485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C638-BC16-49C1-B0EC-395184DE0E5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174C-1BB5-4DED-8330-061B550D7DC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9F6A-8775-4DDF-ADED-B38ADF0FEA6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2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3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B719-8B0C-4604-A7FC-797F6E11175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1f497d"/>
                </a:solidFill>
                <a:latin typeface="Trebuchet MS"/>
              </a:rPr>
              <a:t>ADMINISTRACIÓN </a:t>
            </a:r>
            <a:br>
              <a:rPr sz="3600"/>
            </a:br>
            <a:r>
              <a:rPr b="1" i="1" lang="es-ES" sz="3600" spc="-1" strike="noStrike">
                <a:solidFill>
                  <a:srgbClr val="1f497d"/>
                </a:solidFill>
                <a:latin typeface="Trebuchet MS"/>
              </a:rPr>
              <a:t>BÁSICA DE UN NEGOCIO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Clase 6 – Desarrollo de Habilidades Directivas y Gestión de Negoci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RECURSOS NECESARI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apit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UNA PROPUESTA PARA LA MICROEMPRES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a administración correcta del negocio requiere conocer todos los elementos enunciados con anterioridad, pero es de suma importancia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saber manejar los flujos de din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es fácil separar dominios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YO + YO EMPRES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rebuchet MS"/>
              </a:rPr>
              <a:t>Yo </a:t>
            </a:r>
            <a:r>
              <a:rPr b="1" lang="es-E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5400" spc="-1" strike="noStrike">
                <a:solidFill>
                  <a:srgbClr val="000000"/>
                </a:solidFill>
                <a:latin typeface="Trebuchet MS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GASTOS TÍPICOS DE CASA BOLSIL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6956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gos de la casa (solo de la casa!!!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go a proveedores y trabajad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ueldo personal (del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yo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UNA MANERA MUY FÁCI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 fundamental llevar un orden de estos flujos y diferenciarlos de los que son del yo y el yo empresa. </a:t>
            </a: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SU U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38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 planilla permite controlar y ver de manera explícita cuanto estoy gastando en mi empresa y planificar desde ahí algunas acciones como por 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Reducir cost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Subirle el sueldo al Y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Vender más caro (considerando el precio del mercado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Cuanto puedo ganar en el futuro (proyección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STOS Y 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71320" y="1428840"/>
            <a:ext cx="735300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rebuchet MS"/>
              </a:rPr>
              <a:t>ES VITAL DISTINGUIRLOS, SOBRE TODO EN LA MICROEMPRESA, PUES PERMITE, A TRAVES DE AHORROS MARGINALES, ABRIR MUCHAS POSIBILIDAD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Trebuchet MS"/>
              </a:rPr>
              <a:t>Compr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Trebuchet MS"/>
              </a:rPr>
              <a:t>Reasignación de capital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Trebuchet MS"/>
              </a:rPr>
              <a:t>suel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aterias primas e insum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ostos Variables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n aquellos en que su valor aumenta y disminuye cada vez que la producción y las ventas aumentan o disminuy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ateria Prim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ostos Fijos: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Son independientes del nivel de ventas y produc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ueldos fij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Arriendo de loca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antenimiento de maquina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571400"/>
            <a:ext cx="788796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Son los desembolsos y deducciones causados por la administración de la empresa. Por ejemplo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ueldos y salarios del personal administrativ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ecretari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ensajer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Vendedores (sueldo bas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Arrendamiento de oficina (distinto al del local de producción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apelerí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rreo y teléfon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astos de publicidad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Transpor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stos en general (solo para diferenciarl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HOY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rimera Parte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dministración Básica del Negoc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Segunda Parte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eparación de la Cl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QUE HACER AL RESPEC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EJERCICIO: IDENTIFICAR COSTOS Y 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57120" y="1397160"/>
          <a:ext cx="8143920" cy="4206600"/>
        </p:xfrm>
        <a:graphic>
          <a:graphicData uri="http://schemas.openxmlformats.org/drawingml/2006/table">
            <a:tbl>
              <a:tblPr/>
              <a:tblGrid>
                <a:gridCol w="3143160"/>
                <a:gridCol w="928800"/>
                <a:gridCol w="3357720"/>
                <a:gridCol w="7142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arriendo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o de obra por día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mpra de materia prima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ueldo base de vended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alarios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l sueldo del empres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ervicios públicos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comisión de vendedo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preciación de equipos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tenimiento de vehículo 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publicidad en radio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ntenimiento de maquinaria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mpuestos municipales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por correo o correspond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ntereses de un préstamo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ac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EJERCICIO: IDENTIFICAR COSTOS Y 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57120" y="1397160"/>
          <a:ext cx="8143920" cy="4206600"/>
        </p:xfrm>
        <a:graphic>
          <a:graphicData uri="http://schemas.openxmlformats.org/drawingml/2006/table">
            <a:tbl>
              <a:tblPr/>
              <a:tblGrid>
                <a:gridCol w="3143160"/>
                <a:gridCol w="928800"/>
                <a:gridCol w="3357720"/>
                <a:gridCol w="7142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arriendo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o de obra por día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mpra de materia prima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ueldo base de vended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alarios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l sueldo del empres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ervicios públicos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comisión de vendedo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preciación de equipos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tenimiento de vehículo 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publicidad en radio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ntenimiento de maquinaria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mpuestos municipales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por correo o correspond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ntereses de un préstamo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ac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A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EMPRESA</a:t>
            </a: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	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definirla además como </a:t>
            </a:r>
            <a:r>
              <a:rPr b="1" i="1" lang="es-ES" sz="2400" spc="-1" strike="noStrike">
                <a:solidFill>
                  <a:srgbClr val="000000"/>
                </a:solidFill>
                <a:latin typeface="Trebuchet MS"/>
              </a:rPr>
              <a:t>una red de conversaciones recurrentes orientadas a resolver, a través del diseño, los quiebres del entor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RODUC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 o servicio que la empresa ofrece para satisfacer las necesidades de los clientes. A aquellos productos tangibles se les conoce como bienes, y son clasificados de la siguiente maner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just">
              <a:lnSpc>
                <a:spcPct val="100000"/>
              </a:lnSpc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just">
              <a:lnSpc>
                <a:spcPct val="100000"/>
              </a:lnSpc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IENES Y SERVICI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 = PRODUCTO TANGI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RVICIO = PRODUCTO INTANGI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IENES V/S SERVICI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42960" y="1397160"/>
          <a:ext cx="7858080" cy="286524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619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aracter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rv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ng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most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mace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parar producción de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RECOMENDACIÓ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necesario considerar una serie de factores que determinan la satisfacción del cliente, que van más allá de la fabricación de un bien o entrega de un servicio (AGREGAR VALOR!!!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Higiene y Present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Buena atención, rápida, responsable y puntu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Garantía del producto ofrecid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Que sea coherente con los IQP´s de los client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Recordar el ciclo del trabaj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ÓMO FUNCIONA LA EMPRES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9680" y="1341360"/>
            <a:ext cx="83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ctividades Funcionales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: Todas las actividades que involucran el funcionamiento de la empresa en la concepción de bienes o servic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ursos Financieros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: Capital monetario (dinero) requerido para iniciar y mantener las actividades func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rsonas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curso humano que efectúa las distintas actividades funcionales además de planear estrategias y dirigir la empre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ACTIVIDADES TÍP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684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Francisco Correa</cp:lastModifiedBy>
  <dcterms:modified xsi:type="dcterms:W3CDTF">2008-09-22T06:04:13Z</dcterms:modified>
  <cp:revision>26</cp:revision>
  <dc:subject/>
  <dc:title>Diapositiva 1</dc:title>
</cp:coreProperties>
</file>