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521-F6C1-4F77-B76E-35985745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136-067C-4159-BC7E-42D9849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BD9-770E-44B2-8245-ABF364B4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800-E449-4437-B8C8-E5F70260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5309-8B96-4D78-9F3B-F80DA062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5A9ED-E6C3-4C5C-A8C5-868B475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5495-87A7-448E-9685-F577CD39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05CA-341F-468E-8B5A-2599274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10C7E-3448-48EF-B3FE-F0B09888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E9EF-5BF6-4A26-ACDF-BD16046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2D28F-1824-4BB8-BCF7-AFC0316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76B-AE16-4FE3-BC23-967ED8D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8E896-BCEA-4E88-A22B-B30CDE6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B57C-255B-4834-800C-C1E254D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684B8-BDF6-4C75-8ADF-6E236FE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A5B6A-E212-439D-B376-AB1EB168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D034-4343-4E74-9A05-5E130354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99E5-DFCE-4E22-8A01-CEF41231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E24A-2C35-4104-BFEB-948813B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DF9A-8E02-4DAC-A947-76E8B7D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E2A0-567E-4AF9-92D3-F08E33A3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E5AD-4567-43E0-B92C-DB0F7D07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A1D-7304-4AF4-A323-364D054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4F99-F333-46DA-9744-DA807D9C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B856-3A10-4822-A977-6F932AB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9ACF-A944-4FBB-ABB6-F9E66AD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0B71-E2C8-4E9E-8929-ACA85C71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9D0F-3174-4D4B-859A-02393538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B746-60DE-4BB9-A92E-89C59B34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5CCA-1F5C-4A1D-8B12-D78D2BAA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B2A6F-4659-4F30-8122-CA859315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C11CF-BEAE-4E1E-8774-41D03F4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E3126-29C3-499C-9862-0A91D6C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2C4-B2AC-4D91-A59F-652D933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712FD-0648-4923-8684-4C8BC983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F7B44-6728-4280-A948-3AFB9F1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226E2-6F97-4D03-8758-1AFD051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FE61E-57D2-4352-873F-8159701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DB13E-289B-4D9C-AF76-7BD9B69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78789-D671-4F2F-87D5-1E1BA75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49A12-6DF3-45D9-9277-1F5A050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989E6-4036-4C62-A549-D6B63B0B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1BF75-62E8-46FC-BA23-8ED5543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FBE5A-565E-4901-A0E1-66B61F0B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D9A-1062-4E22-B26A-E72701A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072A9-2099-46F1-B924-2C19428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A662B-0843-413F-BC1A-47263E1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D7D4F-3442-40E9-8682-1C72EA9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F1B61-D86E-4911-A5AF-05815F7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DA332-36AB-4A8F-8E84-01A88E80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E983D-20A4-47D3-9602-9CC8C71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F8CFD-0002-492E-B79F-7563A52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3D3B2-E3D9-45EF-9AAB-0790468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FFD2B-D415-45C3-8F37-5C58F8AE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EC34E-F3C1-491D-B31F-AF825012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445-11DA-4DE1-8B3A-17AC0FC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633DD-C930-434A-BA66-49A42D13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C45C6-D44B-4A2F-A88E-01F598FE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D829F-6DD9-4949-9834-B87880A6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F9552-2F1F-4899-BFE1-24575600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99F33-5C7D-498E-B060-F80EF49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4F477-06D4-43BA-B2C3-4885206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0AF89-8D1D-4D67-AD86-C814231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46FCA-1824-4801-86DA-3568530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7D8B0-3F7D-4F7D-934C-930112D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D704A-98BD-4DE5-ABF0-D872FFF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ED0-8E47-4452-A865-4064053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6ADD9-7145-49DF-BB49-05FB63E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BEF82-8C90-409B-BC9C-4024A5A5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76135-6DC7-4010-ADF2-60F7483B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8F9-182F-410E-B394-997D36E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540-7ECD-44D5-BAC6-FF585C3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B8C5-68E7-451A-BE11-0F803051E2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9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62C-2E0E-41E9-A9D4-5E88DF3BB3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6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1F8-8378-4367-9981-EC2BF4B546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929-DCD2-42B8-944C-6B7FADECBB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8A3D-AC5C-4ACD-984F-4CAD202D4B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B80-4CB5-45B5-8141-D32E707854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189000"/>
            <a:ext cx="8209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: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EAUCHEFF 85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dirección se encuentra ubicada entre TUPPER y BLANCO ENCALADA Con ALMTE LATORRE, paralela a PLAZA ERCILLA y CLUB HIPICO, al poniente de AVENIDA EJERCITO LIBER en la comuna de SANTIAGO, cerca de PARQUE O HIGGIN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6360" cy="30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1332000" y="1125360"/>
          <a:ext cx="61722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5360"/>
                    <a:ext cx="6172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CFM</cp:lastModifiedBy>
  <dcterms:modified xsi:type="dcterms:W3CDTF">2008-09-08T21:15:45Z</dcterms:modified>
  <cp:revision>9</cp:revision>
  <dc:subject/>
  <dc:title>Diapositiva 1</dc:title>
</cp:coreProperties>
</file>