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913-F367-4D25-8C95-523C5D97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3C7-7D4B-416C-9832-CC98C2D3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8B9-F424-4C49-BDF4-6B74D644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2584-6C32-4123-B217-70F54CBD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EEA08-3C88-4DA1-8D13-D05EEBF6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04026-2817-4134-872B-53BDACB2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88F13-7C0E-4F59-A426-AF53F308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25462-FBFB-4467-BFDF-1CE23BE0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F5106-F91A-4ABD-A89B-850CF627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8F2F2-7D27-41B9-A63C-CC2AB4C2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338A2-7BD7-42DB-861E-7D2F6EF3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A8A-57B9-4299-B682-94A8DE76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ABA85-9C68-4236-B442-A75A874F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2D54E-514E-46C7-A382-1F97CE5E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B6FA0-2225-4851-9BEC-52B26F22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FF645-C470-4470-9D1A-DB90FD36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3C4BF-B83D-4A82-ACFD-A1C6AF90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DBB1C-C997-46FC-A948-8F7BBB7E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83098-668F-4A7F-A7F3-FCEABE7E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FBF1C-D078-4FF5-91F0-D59CA176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5A26C-407B-4439-87C1-0CD93C82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84BD2-CF28-4947-B6CB-79D702CA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4C0-EDE4-4FC4-AEB3-BA97AEE6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01868-96EC-4ED9-B3F6-9EA5F66F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33253-8201-4FC0-95FE-64A4FEC0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946B5-CA9D-4B1F-B948-06F718F3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4EA4D-177C-4D6E-A62F-952E468C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0CA12-4E4F-4434-A86F-CF7BD563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890D4-043B-429C-9F1D-113BD6CF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20576-E8B1-4F81-9368-130DFB12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86FABE-1C54-461B-9051-FAF4869C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D07ED6-141B-477E-92BB-9EE62074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17FBD-F363-46F3-B0BA-984E3260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DBCF-F09F-4C9D-8679-2FB04F35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27611-404E-46B5-9FE5-B0155D36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AF737A-AC25-4B4F-9166-EE00CAE9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E9F07B-3C43-4EF1-93CE-723D8925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E0C3C4-A793-4D59-B5BE-C3ED45FB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11979-4EF5-49BC-AA36-A54DB166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C7D8A9-EA7F-435B-BE7B-7D67F4A0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D17EB8-885F-422C-9F63-FD4665CE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2206B1-C778-4FB5-84C3-A598C698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BB608-08A8-49A1-9E50-67BA3DD5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1B27D-DD65-4E4B-9861-4A13E0BA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5DE-3355-48F2-834B-6CD5DDBE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129D0-77E4-4646-B3EA-3BA79A0A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18360-EEE3-449F-8B6B-E82F7823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A9AE6-FBF3-46D1-B8FA-C0F19756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70B40F-F30D-468F-90B6-C0CA86A2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5236D-D3D8-40A1-9236-9E272B7A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A633FA-00FE-44A7-A574-34009618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91166-FCC4-4F06-924A-5EB7E98B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862A03-4D7F-458C-A80F-899524C4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E0AE77-27ED-40FE-872F-2FEF4817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F26603-8A81-497D-8818-7BD410E9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551-D73B-4538-BCB1-4F12FF0A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46C759-0A84-4094-A3D9-0404A754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86F6A4-D455-486E-9388-302496EF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F6558-BE5E-4CDC-B637-D79AF3AF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EA41C-D83E-446B-9921-3A8F32E1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F0C28F-481C-4B48-9B17-EAEDABF5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FEC6F-1C97-40F8-9A19-4C81B866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60F074-D98D-4438-A4F4-619C0A76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2A1FFD-5E20-4AE4-83B7-B3055F2F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55D981-F648-475A-9471-AAB607DF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BC9890-F12F-419E-8474-98F05EEF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383-D5E5-4176-AE6D-AF89CA83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41903E-77A6-4C60-9B0D-D077ECC5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FA43BF-37A1-4B4B-9DEF-CC46C3E2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FCD7D5-8F88-436F-B49E-5B56B69B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07E-943A-4940-9136-F24AC115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727-0440-46B1-BF53-795DE9FC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3BB4-0DDB-4590-BC41-CB2B80C1924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49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C563-CB15-42C9-864A-52A0F67EB02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6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A2A5-EC82-472D-9606-F6E682ED249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38D7-67D8-4C0A-8621-BF1206598E5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71DF-5591-4D90-9A8B-A6B37A9821F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C810-DDDA-4A36-92D4-F849AB4324A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95280" y="189000"/>
            <a:ext cx="82090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: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EAUCHEFF 850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dirección se encuentra ubicada entre TUPPER y BLANCO ENCALADA Con ALMTE LATORRE, paralela a PLAZA ERCILLA y CLUB HIPICO, al poniente de AVENIDA EJERCITO LIBER en la comuna de SANTIAGO, cerca de PARQUE O HIGGIN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06360" cy="30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1332000" y="1125360"/>
          <a:ext cx="617220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125360"/>
                    <a:ext cx="61722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 </dc:creator>
  <dc:description/>
  <dc:language>en-US</dc:language>
  <cp:lastModifiedBy>FCFM</cp:lastModifiedBy>
  <dcterms:modified xsi:type="dcterms:W3CDTF">2008-09-08T21:15:45Z</dcterms:modified>
  <cp:revision>9</cp:revision>
  <dc:subject/>
  <dc:title>Diapositiva 1</dc:title>
</cp:coreProperties>
</file>