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511-5519-4C76-B92E-532967CD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36B-932C-4FF6-BF61-20F71FCF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85D-35CD-4E27-9656-17C93CEA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BAF-5746-4999-87B8-CF8963F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0915-A171-4EC4-ADA5-FDE55D8D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EB35A-0517-44EF-AE93-99F2BB8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66B9D-C04F-4792-9896-595E53D5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85A53-FE1D-4885-B093-0223AA5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B2C9F-5B59-4A09-BB13-D8BF9AA0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3FFF0-0065-4182-BC23-9EDBD36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422C-1991-441A-8BB2-01991A9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E71-E557-4C35-8E94-E60342A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99FA9-9C66-41C8-85E7-B2B3451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8D9A-4622-4BCE-80C9-5B395AB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13B59-5A93-4B7A-A674-A7A7D41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44FF6-A86F-4F6C-9F3D-0B647C6D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9B31-5EC9-4A0E-B121-B9041705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CF7F-006E-496E-89B7-15CA569A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E2AF-A2F2-4982-8E62-2333FDF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2320-4FAF-4131-8070-0095D90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C7EB-349C-4DFA-B489-0858261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3660-BCF5-4536-84E0-86A7F50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5D6-3DBD-4B17-8AAC-75067FB8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FCF7-512A-4F0C-97D6-45E5CEF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084D-9679-4831-861A-3BF0F8D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B3B1-F2B9-41C0-89CC-F3D952D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7FF3-42FB-4E59-AC9F-7B35DD9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484F-69EE-4FC8-941D-5D243AA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D497-A9F1-4347-9624-205406F7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75FE-DC17-4F0D-8BD1-4BC94488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E2F76-82C8-4144-A383-295D06A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08715-9EE4-4026-9820-3350B67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5D3E4-C61B-4D85-8EA2-24DC88AF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1D4-3243-4F5D-970A-0A6A5644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B63A0-D63E-4F80-834D-A20E9ECC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FE874-4679-4DDE-B113-2E37BF7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E5F6A-6E2A-41D0-BC79-F4DC3077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158AF-0EC4-4C01-954B-A06C261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71BEF-D1AC-4649-915B-0D39E06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674EA-640A-4A73-A58C-FF731AD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F9A58-36BB-4D9F-9100-A917C6B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20031-CC7C-4151-AB29-300F3F6A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A5615-7772-400C-BCD4-EE40226A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E6242-16E0-4182-93B4-5D0C7A05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B6B-1360-4DD1-B84D-6EC5DDC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96467-3ECF-44B7-B780-FC3EE3B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8C707-95ED-40B2-81BA-DB8BB52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A35D3-A414-408F-B849-E5D28F31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C306F-18AC-4F39-A0E7-B94AA92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11B2D-FB63-45E1-9515-38F6868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783AF-56A3-40E1-A414-A7D801F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E573D-C1AE-4B85-90D5-2AAF9AE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5C547-9D32-42AE-9597-B080DC3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1760C-03CE-4FD1-B2C3-4124B6C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4ABFD-8EAB-4208-A1F1-6EB99302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EF3-CA39-4A5F-87EA-8289A54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D6692-C262-45B9-8EE0-43890881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21125-7BF3-4AE8-9999-F17934C9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14205-DB17-4246-A43B-FEE652F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13551-020E-416F-9092-94F57EA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56EAB-1318-4D4C-9862-7EC95C0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A62B4-2833-438A-9D7E-E65F5C6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0CEA3-041E-4330-B1B4-0B5E3A33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C8AE2-EFCD-4261-93EA-4C3954C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078D8-23AD-4358-B871-EDD1969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CBE56-1B05-4F6C-97C5-9F3F824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8A8-98EC-494D-8845-AA74C3F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5DD25-5544-4D5D-A8AC-B45170F9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42845-AA65-4195-8F47-6E1A31EB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BA8EE-9BBB-44A9-BB72-EDCD8A93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7C5-4D2B-4BD0-A238-598F663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F58-8B66-4277-A3B4-334ABBC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0510-6DE2-4CF2-8582-36F3B043B6B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9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318-33DE-44F4-9A54-06225C472C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6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369-59CF-4D57-A446-D21C6FE1FE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ECF-0491-4B24-95FC-BEA5277F05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9959-E85B-41BF-ABC8-29284116A8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65AE-465C-405E-9AB4-1ABA1BCE48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189000"/>
            <a:ext cx="8209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: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EAUCHEFF 85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dirección se encuentra ubicada entre TUPPER y BLANCO ENCALADA Con ALMTE LATORRE, paralela a PLAZA ERCILLA y CLUB HIPICO, al poniente de AVENIDA EJERCITO LIBER en la comuna de SANTIAGO, cerca de PARQUE O HIGGIN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6360" cy="30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1332000" y="1125360"/>
          <a:ext cx="61722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5360"/>
                    <a:ext cx="6172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CFM</cp:lastModifiedBy>
  <dcterms:modified xsi:type="dcterms:W3CDTF">2008-09-08T21:15:45Z</dcterms:modified>
  <cp:revision>9</cp:revision>
  <dc:subject/>
  <dc:title>Diapositiva 1</dc:title>
</cp:coreProperties>
</file>