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8741-E960-49DA-BCA4-8622582B7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80AB-CEEA-4C6F-8A1F-EE709E68C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36B73E-30F7-4708-A262-B50BF131D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D9FD89-AA48-4007-A626-253CC48B8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7ECB6D-FC42-432E-AF1E-9993944A8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9BE511-C3D1-412D-A5B4-59254FD9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A99CE6-AE09-404C-B6EC-C2E0C07B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0045DD-C0EE-4038-B0FC-5237415D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090E55-A5F9-4E99-B1D2-157B99141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52EB5D-5510-4FB6-8626-4167A9AAC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19F93A-841D-4886-A0B4-EBB2D143E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29A08C-3067-495C-BC5B-C24AF63B8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F36A-2678-455E-BC9E-A324FD078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DFE716-B0B0-4C38-82FE-2F039C21F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640E9F-0D8C-47B2-A6E5-410410357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17C585-8B19-48A6-88D4-C7753F964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76A3AF-005F-4D44-AD3E-714A0EB06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417303-66A0-4DF1-8E90-B07CFE10F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4A65EE-4523-4A8D-A5C7-5EA008B2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DAD07F-8CFA-4C8C-AAAD-BDC3EE62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2E1B99-E12F-44B0-B805-2BB01F77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2B619B-94B8-4833-992F-71F680099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08DE48-2BB2-416E-A081-1D60034BD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3FD9-6B96-443A-9693-20E80EDE0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5342DE-6E27-444C-B1CF-9E34325CF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1232AF3-69AC-4638-8C8D-29FFC7704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8D78022-93B2-4F89-97D0-FE72C0EC0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5159212-5E2C-42EB-AB86-1305DE56C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F4658FA-5DE6-40C3-9AFB-F397A415C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009F41A-E8B0-42BB-975E-4692DDE9D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D535F3B-F5E4-4D41-A72C-077741BEE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AE7560B-792D-4580-97A6-F294EE9A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E82FBBC-FA8E-459B-89E6-94D986D9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E8F8EDE-2125-4844-9A33-9EA1C3E2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F4413-0EC3-4CD8-AAA4-D2B12B15C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6ECA463-5EB3-4C7A-875C-D8D7F172E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90AE7E8-D076-4010-940A-9624651F7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2E5E687-5D34-488F-8FC9-84FCF7B95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43866DE-7651-49E6-8E7F-1A42EA212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A145485-3E5D-48E2-8011-CF4BAA006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C4533A1-BA31-45B6-9570-077EEB6F7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09D74AC-0033-46C9-9955-7AC1EAFF0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3D65830-C7DC-42D7-9E45-33A46C473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48343E4-942C-4CA2-9A06-B776D6C50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BB568E4-3FA6-42C9-8EA1-DF1B10B4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7699B-2884-4A41-AE4F-F2D84EC7A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7F128D1-9772-48EE-8F0A-6D08992C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E3D9C6D-ECBC-4CE0-8B19-2A411C5E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41247DA-AA75-434E-9656-9703E29F2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B10ABB7-6B0C-46E4-A919-43BD00D6D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83885D9-9144-4338-B113-C2356DEE6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6C236D8-1FF1-4116-B209-AEEB835B8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B24A0F8-2389-4E35-867F-50FD93866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77C9BE7-03A3-4EA3-86C9-D41D945CD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0AF33D5-BDCA-4EE2-82C3-A27F5E193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2A7F1AB-09DE-461A-8BF7-5B3FDEF42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CBE0B-9FCA-489C-A896-43B798539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E496ACA-6D5E-4590-82F4-95A507489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709F100-03EF-4B8B-A0E8-259159AA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B27B3FD-4028-4EE9-AF82-80E0E8B2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E52B90B-3B6B-48F7-8312-0600F574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DFC466D-D36C-45C6-B7CC-6D15AD787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25B99F3-1437-4BB4-90CA-D8C8186E0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C9D3F44-939B-4090-AEAC-226184956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DEA0F4-7E1F-4904-93BC-18821E2D1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3E6DD3-89A7-412A-BB66-EB89D7E47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18A797-EDC5-4774-9553-05A5D67FF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2CF78-A8FA-42AD-B13A-73A4291B6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4A8DF3-97DC-4F6A-8452-D7D29E17A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5F15E5-94BD-4CA7-89AE-282E8AB8A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1C8B13-72FE-4A8F-AEF6-7C550D3DF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33DF73-841D-4424-9F7A-1AC39A87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A81FEE-91E0-4F39-86C3-AC594736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04776F-6750-4ED9-9304-CE17770F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904A7B-C002-40B5-A406-013B3D73A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42302E-F9DE-463F-9D5F-181CBFC89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391435-9BFD-48AF-AF40-6FDD27F07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BFEBFD5-B56E-46D4-8991-EACC0B776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1A1FF-451F-496C-8F4F-4349AF270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A6877E7-7F30-49B3-90BF-904ED4E34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61CFCF1-4F24-41AB-9C0D-8CEA34167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5D8AFA9-B877-4CF6-8994-6E47442D8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D767E85-B578-489D-926F-39B243B7D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1A6AFB2-95AF-4968-AC4D-01F170C04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726FE5F-634A-45DA-801E-7A422FB3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D3DF369-C122-435C-AF3A-140F92DF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AF339F9-0C24-48E7-93EC-40A99063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2912DF8-D064-4DD8-9823-DCA8DE1D4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9152498-8422-407C-98EE-7C6F985CC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F6241-1F4A-4B43-9357-CB3F1DB8D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BAD60AE-2C20-4427-B997-79B5D2B24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69048F-C1E0-4BA5-B135-10B76B108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0912E8-ABCB-40B7-82D6-8CCDA60B9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00CD75-FD81-4DAC-BFBF-D10D4F134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A8C0CD-62EF-42C9-9A73-43CAAC6C7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A9B629-6611-426E-8102-E3BA6660F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19F5D7-67B5-42C7-9B57-50C5F54B0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8E4940-51BC-4571-8AC2-C1198A80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0A7E6C-673F-407C-A5EA-1D53D4D0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283101-C5A6-4B5A-9C39-66F7A26C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0AFC8-8BE2-46B9-AFC0-7258F30BE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30A2B3-6B6A-439C-91B1-243A8E459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F1A874-997F-4422-82F5-FD282B89E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342091-4F6E-4B9E-A933-AE9FED671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87C419A-08A1-4EB7-BBEE-89C8A5027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80DE816-C87D-4388-AC42-EED9A2ADA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33EE431-9546-4052-877B-38C0BB384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22954F1-D819-4F08-B274-4B35019BB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66AE248-DD76-4BBD-8176-55F2A6C60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21113E4-C08C-4D89-B9B7-DFADA340C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5FB3B55-D8CD-4D33-976B-EFE865E2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CFE5-1DC2-4341-AAE7-67CD755ED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8E522-4DE0-4D65-8A11-66AE693E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279BE4C-EAAD-447D-AE94-F2CB7EB9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19882D3-DA44-492F-9AB0-4FE7F6C4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B2B00A2-CC01-4C5D-9FA5-A11D04DC4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223C0D4-488D-4009-AB54-00AA94B32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5B4B265-C2B0-445D-B205-18CF0A85D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7335395-6895-466D-B2B2-F0262BEEC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B6FD3CF-8E47-4705-8148-6084E3B34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AA7E889-5FD7-408F-9F0F-BEE8B0E47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AF90F21-A13E-4A6E-B0FC-8F389E4CE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B86F6CF-0D04-4232-A353-94912B4CE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358EC-AB90-409F-80D9-E453CB54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4F25814-2A2A-40BB-BD68-E9CBFBCD0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DED66C0-0B7A-4062-A407-25D46402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6307CF8-9078-49EB-97EF-E064E9CE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6951680-8D28-4E6B-BDA6-BF5AEFE2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121E82E-8DAA-4CD5-82DF-69DEE36AC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A01BD27-0DBE-4426-89A3-F3376ED2B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559C88A-AF6A-43B6-84A4-28CF028D7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33CE6E8-E00B-4323-96DE-843E2E7C4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22AD691-15A5-460C-B5A7-C8A74C145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F6424ED-2486-48B4-A842-84CE9988F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AF233-76F2-4828-B58F-C94F41D4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3E1D163-0591-492C-8284-6C51258C2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722B1C4-FAE2-49AA-82F9-2FD29439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37AD005-5A94-4251-B829-C797A6AD0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AE9FD5C-5DE9-4AA4-89D3-691AA70A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0E41B76-97D5-426A-AF41-436F2DBC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F543AD3-BC55-47C6-80CF-B0BDF345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475CE93-A547-4CE5-87E3-77CEF2792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0BEEC7E-BFD4-4832-B90B-4D44A2169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FD24EF6-1E6B-4BDA-B732-2B6B8FEC4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EF038-A806-4CEE-B255-CE85A7C38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F9B36-2E76-4783-AB5E-19414780B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4A2329-F60A-4DDC-A39D-4F7114DAA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711A34-7ED7-4149-86F0-A8823067B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F26FB9-A4F6-4FE6-932F-67DD1CA4D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037E7D-2876-407C-A150-F73964314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3BCDDC-EFCC-4667-BDB6-24FDFC754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3CE8-A2B2-45AA-9771-7E13EAD98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53F146-F0BE-4329-9254-82FB69DBF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D8128D-31B2-457F-A351-7DDF208D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5C8C86-6984-4D8E-99DE-90FCFD5A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BDAF22-7E30-48E0-8627-5AAC6994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953C00-1CD5-4B9E-B112-CDF5D6217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DF7901-6366-4559-8B00-C2C1E0AFD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7E9AD9-CEFA-46BE-B882-4EE28A362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FACDB-C20C-43C9-BFD0-7D07D8EDB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99559-D816-4194-AB27-42DE286E9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8313E-D77B-4AC4-8AAC-BB2865F73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5478-EC4E-4043-80ED-9E2D1F57F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CE410-F50F-4F20-B436-80D9307D2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3106E-04D6-4042-A7F0-C4ED2077C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A7A58-0CFD-44A1-AD09-CD4AF4637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BE781-2E4E-40CE-9C1D-7D449466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BECB3-BA7C-4C16-979F-6794B979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5C9D9-81F7-4089-BB31-95B4128C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C56C4-183D-4B16-8DDC-26F259222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0C0C5-27FE-4EA5-8830-029C24F2B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37DA5-D6B4-4A5E-8E3F-9696EA3E2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C0D574-77A7-4DEA-856D-273375DF0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FADC-89DE-4536-BC70-63AED95A0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78DADA-F6C5-4BFF-82B8-345D8945F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0390FD-D9E7-4B40-88B2-45CB8912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197449-547C-4D8E-A08F-FFF149A54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FC6EF1-D5E9-40A3-8F07-5CD143EB6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9A237F-5F84-42E8-BA69-A86994622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2D3ACB-C991-41EF-B8F7-965830DB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20E58F-B3FA-4BFD-A15C-D96F39C9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5819CB-DFB4-477A-A7ED-F68B673B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975DE8-898F-4A4D-9472-1E950CCFC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78F7E1-33C1-4663-9EAF-985197836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0D87-3BC2-40E8-8170-A0730D9EC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5D6892-F95B-436B-92A7-F1BD2C010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9192C4-8ECB-4722-8A43-32B840866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09B4E4-0BCA-4607-BE12-BA73B46E4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583563-CB02-4C59-8059-6A0E89E52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C6215F-E32B-44D6-9421-5D59C48B9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0C696D-AD9C-4607-B515-48558A557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E7D25F-81B6-4912-A1BC-09B853B94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C2C95D-09C1-4795-800E-0ED91E0C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5F0B43-2CEE-48D8-921B-AB8BA3C6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BCD085-A412-41BF-B300-7CE1E945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5800-91C3-464D-8F0B-4D502C0D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7EFB42-0AD8-4501-881F-9ABAFA3C2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867401-79C3-4C55-9683-3A776A2F5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627C43-F010-40C7-A0D8-2B3FA0E41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849589-519E-4D19-B152-5997181DE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4DDEC8-4A6D-4772-B51F-ECB663782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30ED51-BEBF-4718-A7D8-E0C5FCFE6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405558-5336-4CC2-A989-BF4CD7C2B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01242D-3E37-43D9-8351-44BC11E82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0DC1A5-7852-46D6-AAF5-3F2E4A1B3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17F0FE-426E-480E-BA9B-3F74718B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3873-3E7E-4675-AB89-B3907D3E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152F9D-6D5F-4AF3-8877-885BBFC3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871D0B-742E-4A76-84A6-925D6FF3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457982-D1C2-48FC-87A1-3B564E119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67B48D-8783-47B7-BEB9-986D2CF81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B1904D-FE2A-4A58-9B87-39E8B64BC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5E442E-108E-44D8-8719-97C499556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86BCE4-3B8F-453C-A5C8-2DF14CEEB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30C553-F837-47C7-8BF1-4228AC011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2A0383-FB35-4D63-B6B0-B26C39181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C2990B-5475-4740-A8D9-CC01EDB1D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E999-38E0-4541-918D-08DA66A6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C0F45D-0DA6-456E-B0BC-21421384A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C12E5B-1668-47A6-B545-C75907D3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980677-EB1E-481D-B231-60131854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C226BA-1FFE-4BE9-B68B-41A46055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9C50FB-AE64-45AB-956F-A6C4A23A5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2E0DD-AB1A-4AF8-A6A0-AE4FD72BD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9C7B79-E04C-4BC9-8614-5DDAA689C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E64676-982B-4DE9-9192-B576A961E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ACD667-99DA-4E19-BD3A-BA1AD5253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F22D24-A954-4A24-A71E-6B5814334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logo fcfm"/>
          <p:cNvPicPr/>
          <p:nvPr/>
        </p:nvPicPr>
        <p:blipFill>
          <a:blip r:embed="rId2"/>
          <a:stretch/>
        </p:blipFill>
        <p:spPr>
          <a:xfrm>
            <a:off x="5867280" y="404640"/>
            <a:ext cx="2818080" cy="9255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5" descr="logo cms"/>
          <p:cNvPicPr/>
          <p:nvPr/>
        </p:nvPicPr>
        <p:blipFill>
          <a:blip r:embed="rId3"/>
          <a:stretch/>
        </p:blipFill>
        <p:spPr>
          <a:xfrm>
            <a:off x="5867280" y="4724280"/>
            <a:ext cx="2846520" cy="1606680"/>
          </a:xfrm>
          <a:prstGeom prst="rect">
            <a:avLst/>
          </a:prstGeom>
          <a:ln w="0">
            <a:noFill/>
          </a:ln>
        </p:spPr>
      </p:pic>
      <p:sp>
        <p:nvSpPr>
          <p:cNvPr id="2" name="16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17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18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19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20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23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24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25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26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27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28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29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30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31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32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33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 type="dt" idx="1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 type="ftr" idx="2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5"/>
          <p:cNvSpPr>
            <a:spLocks noGrp="1"/>
          </p:cNvSpPr>
          <p:nvPr>
            <p:ph type="sldNum" idx="3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5B066-29AC-41BF-B908-133EA94BDCF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25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26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27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28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29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30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31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28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eece1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29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0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38FCE-CBD3-4F65-839A-AA52662DF19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3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sldNum" idx="32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DCC7E-1646-4775-AFE1-9542F84650C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ftr" idx="3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14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16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20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sldNum" idx="3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EB570-15FC-485F-AB2F-1E23BAF4C91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ftr" idx="36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14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16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17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18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19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20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dt" idx="3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 type="sldNum" idx="3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9C4F5-C8F0-4C90-AF7F-D6F7EE673FD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 type="ftr" idx="3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4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4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42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39837-E15A-4AA1-8FB2-2294275FA9B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Picture 13" descr="logo cms"/>
          <p:cNvPicPr/>
          <p:nvPr/>
        </p:nvPicPr>
        <p:blipFill>
          <a:blip r:embed="rId2"/>
          <a:stretch/>
        </p:blipFill>
        <p:spPr>
          <a:xfrm>
            <a:off x="468360" y="5734080"/>
            <a:ext cx="1295280" cy="73188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14" descr="logo fcfm"/>
          <p:cNvPicPr/>
          <p:nvPr/>
        </p:nvPicPr>
        <p:blipFill>
          <a:blip r:embed="rId3"/>
          <a:stretch/>
        </p:blipFill>
        <p:spPr>
          <a:xfrm>
            <a:off x="6156360" y="5734080"/>
            <a:ext cx="1944720" cy="639720"/>
          </a:xfrm>
          <a:prstGeom prst="rect">
            <a:avLst/>
          </a:prstGeom>
          <a:ln w="0">
            <a:noFill/>
          </a:ln>
        </p:spPr>
      </p:pic>
      <p:sp>
        <p:nvSpPr>
          <p:cNvPr id="700" name="16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17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1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1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2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23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 type="dt" idx="43"/>
          </p:nvPr>
        </p:nvSpPr>
        <p:spPr>
          <a:xfrm rot="5400000">
            <a:off x="7946280" y="107352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 type="sldNum" idx="4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5C794-0657-410B-89E4-731505C4C34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 type="ftr" idx="45"/>
          </p:nvPr>
        </p:nvSpPr>
        <p:spPr>
          <a:xfrm rot="5400000">
            <a:off x="7186680" y="383868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25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26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27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28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29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30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31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 type="dt" idx="46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eece1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 type="ftr" idx="47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 type="sldNum" idx="48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4D277-609F-454C-89F6-B3133F52300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 type="dt" idx="4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 type="sldNum" idx="5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C72B7-9A21-40A4-8CEA-B76250863C3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 type="ftr" idx="5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14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16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20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dt" idx="5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 type="sldNum" idx="5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698CF-7AF7-4117-A455-43755D7BEE0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 type="ftr" idx="5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14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16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17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18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19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20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5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sldNum" idx="5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A7583-C06B-4BBA-A22C-49CC3307D56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ftr" idx="57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8A499-1A44-45EE-AE20-8804B7C0A01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3" descr="logo cms"/>
          <p:cNvPicPr/>
          <p:nvPr/>
        </p:nvPicPr>
        <p:blipFill>
          <a:blip r:embed="rId2"/>
          <a:stretch/>
        </p:blipFill>
        <p:spPr>
          <a:xfrm>
            <a:off x="468360" y="5734080"/>
            <a:ext cx="1295280" cy="731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logo fcfm"/>
          <p:cNvPicPr/>
          <p:nvPr/>
        </p:nvPicPr>
        <p:blipFill>
          <a:blip r:embed="rId3"/>
          <a:stretch/>
        </p:blipFill>
        <p:spPr>
          <a:xfrm>
            <a:off x="6156360" y="5734080"/>
            <a:ext cx="1944720" cy="639720"/>
          </a:xfrm>
          <a:prstGeom prst="rect">
            <a:avLst/>
          </a:prstGeom>
          <a:ln w="0">
            <a:noFill/>
          </a:ln>
        </p:spPr>
      </p:pic>
      <p:sp>
        <p:nvSpPr>
          <p:cNvPr id="108" name="16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7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1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1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2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23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 rot="5400000">
            <a:off x="7946280" y="107352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9620F-A47A-4CE1-ABFC-A86BB1FCE83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9"/>
          </p:nvPr>
        </p:nvSpPr>
        <p:spPr>
          <a:xfrm rot="5400000">
            <a:off x="7186680" y="383868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5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26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27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28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29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30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31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eece1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E0156-F3A0-484F-AF3E-077366F834C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430FF-7ECF-457C-B9A2-239164ADD2B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14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16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20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1C9A-2D6C-4FA0-8C72-FD413A6C0D8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4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16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17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18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19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20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40DEF-EF0F-455A-A922-42B9CC88542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055BB-2FA4-43E9-AC4A-1EB70EC03B1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13" descr="logo cms"/>
          <p:cNvPicPr/>
          <p:nvPr/>
        </p:nvPicPr>
        <p:blipFill>
          <a:blip r:embed="rId2"/>
          <a:stretch/>
        </p:blipFill>
        <p:spPr>
          <a:xfrm>
            <a:off x="468360" y="5734080"/>
            <a:ext cx="1295280" cy="73188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4" descr="logo fcfm"/>
          <p:cNvPicPr/>
          <p:nvPr/>
        </p:nvPicPr>
        <p:blipFill>
          <a:blip r:embed="rId3"/>
          <a:stretch/>
        </p:blipFill>
        <p:spPr>
          <a:xfrm>
            <a:off x="6156360" y="5734080"/>
            <a:ext cx="1944720" cy="639720"/>
          </a:xfrm>
          <a:prstGeom prst="rect">
            <a:avLst/>
          </a:prstGeom>
          <a:ln w="0">
            <a:noFill/>
          </a:ln>
        </p:spPr>
      </p:pic>
      <p:sp>
        <p:nvSpPr>
          <p:cNvPr id="404" name="16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17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1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1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2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23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5"/>
          </p:nvPr>
        </p:nvSpPr>
        <p:spPr>
          <a:xfrm rot="5400000">
            <a:off x="7946280" y="107352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sldNum" idx="2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268EA-862D-4328-AE1B-0361F5DDA96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ftr" idx="27"/>
          </p:nvPr>
        </p:nvSpPr>
        <p:spPr>
          <a:xfrm rot="5400000">
            <a:off x="7186680" y="383868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Rectangle 51"/>
          <p:cNvSpPr/>
          <p:nvPr/>
        </p:nvSpPr>
        <p:spPr>
          <a:xfrm>
            <a:off x="971640" y="2276640"/>
            <a:ext cx="7894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rebuchet MS"/>
              </a:rPr>
              <a:t>Redes y Capital Soci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Rectangle 2"/>
          <p:cNvSpPr/>
          <p:nvPr/>
        </p:nvSpPr>
        <p:spPr>
          <a:xfrm>
            <a:off x="1042920" y="452520"/>
            <a:ext cx="770580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1f497d"/>
                </a:solidFill>
                <a:latin typeface="Trebuchet MS"/>
              </a:rPr>
              <a:t>COMPONENTES CAPITAL SO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ctangle 13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14"/>
          <p:cNvSpPr/>
          <p:nvPr/>
        </p:nvSpPr>
        <p:spPr>
          <a:xfrm>
            <a:off x="468360" y="1413000"/>
            <a:ext cx="82803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Capital humano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, capacidad de las personas para producir valor en coordinación con ot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Capital relacional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, la capacidad de las organizaciones de producir y mantener las redes de colaboración para de producir val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Capital ambiental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, calidad de los contextos sociales disponibles para que los individuos y organizaciones interactúen en función de la producción de val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Capital direccional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, alineamiento de las personas y la organización con un propósito comú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1f497d"/>
                </a:solidFill>
                <a:latin typeface="Trebuchet MS"/>
              </a:rPr>
              <a:t>QUE QUEREMOS LOGR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13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4"/>
          <p:cNvSpPr/>
          <p:nvPr/>
        </p:nvSpPr>
        <p:spPr>
          <a:xfrm>
            <a:off x="468360" y="1413000"/>
            <a:ext cx="82803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Asociativ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Relaciones de Confian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Valores de cooperación, reciprocidad, respeto, aceptación, sincerida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1f497d"/>
                </a:solidFill>
                <a:latin typeface="Trebuchet MS"/>
              </a:rPr>
              <a:t>EN CHILE (PNU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13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14"/>
          <p:cNvSpPr/>
          <p:nvPr/>
        </p:nvSpPr>
        <p:spPr>
          <a:xfrm>
            <a:off x="468360" y="1413000"/>
            <a:ext cx="867564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El 14% de los chilenos cree que se puede confiar en la mayoría de las person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El 69% de los chilenos cree que una persona se aprovecharía de ellos si tuviera la oportun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Índices de Confianz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324000" y="3789360"/>
            <a:ext cx="5040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3000" indent="-685800">
              <a:lnSpc>
                <a:spcPct val="100000"/>
              </a:lnSpc>
              <a:buClr>
                <a:srgbClr val="003399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rebuchet MS"/>
              </a:rPr>
              <a:t>Carabineros de Chile (54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685800">
              <a:lnSpc>
                <a:spcPct val="100000"/>
              </a:lnSpc>
              <a:buClr>
                <a:srgbClr val="003399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rebuchet MS"/>
              </a:rPr>
              <a:t>Televisión(5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685800">
              <a:lnSpc>
                <a:spcPct val="100000"/>
              </a:lnSpc>
              <a:buClr>
                <a:srgbClr val="003399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rebuchet MS"/>
              </a:rPr>
              <a:t>Radio(5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685800">
              <a:lnSpc>
                <a:spcPct val="100000"/>
              </a:lnSpc>
              <a:buClr>
                <a:srgbClr val="003399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rebuchet MS"/>
              </a:rPr>
              <a:t>Banco Central y Iglesia Católica (48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685800">
              <a:lnSpc>
                <a:spcPct val="100000"/>
              </a:lnSpc>
              <a:buClr>
                <a:srgbClr val="003399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rebuchet MS"/>
              </a:rPr>
              <a:t>Marina y Fach (44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685800">
              <a:lnSpc>
                <a:spcPct val="100000"/>
              </a:lnSpc>
              <a:buClr>
                <a:srgbClr val="003399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rebuchet MS"/>
              </a:rPr>
              <a:t>Ejercito (4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5113440" y="3429000"/>
            <a:ext cx="3779640" cy="31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3000" indent="-685800">
              <a:lnSpc>
                <a:spcPct val="100000"/>
              </a:lnSpc>
              <a:buClr>
                <a:srgbClr val="003399"/>
              </a:buClr>
              <a:buFont typeface="Trebuchet MS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rebuchet MS"/>
              </a:rPr>
              <a:t>Policía Investigaciones (37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685800">
              <a:lnSpc>
                <a:spcPct val="100000"/>
              </a:lnSpc>
              <a:buClr>
                <a:srgbClr val="003399"/>
              </a:buClr>
              <a:buFont typeface="Trebuchet MS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rebuchet MS"/>
              </a:rPr>
              <a:t>Diarios  (36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685800">
              <a:lnSpc>
                <a:spcPct val="100000"/>
              </a:lnSpc>
              <a:buClr>
                <a:srgbClr val="003399"/>
              </a:buClr>
              <a:buFont typeface="Trebuchet MS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rebuchet MS"/>
              </a:rPr>
              <a:t>Senado (2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685800">
              <a:lnSpc>
                <a:spcPct val="100000"/>
              </a:lnSpc>
              <a:buClr>
                <a:srgbClr val="003399"/>
              </a:buClr>
              <a:buFont typeface="Trebuchet MS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rebuchet MS"/>
              </a:rPr>
              <a:t>Poder Judicial (19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685800">
              <a:lnSpc>
                <a:spcPct val="100000"/>
              </a:lnSpc>
              <a:buClr>
                <a:srgbClr val="003399"/>
              </a:buClr>
              <a:buFont typeface="Trebuchet MS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rebuchet MS"/>
              </a:rPr>
              <a:t>Cámara Diputados (18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685800">
              <a:lnSpc>
                <a:spcPct val="100000"/>
              </a:lnSpc>
              <a:buClr>
                <a:srgbClr val="003399"/>
              </a:buClr>
              <a:buFont typeface="Trebuchet MS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rebuchet MS"/>
              </a:rPr>
              <a:t>Partidos Políticos (9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0000"/>
              </a:lnSpc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1f497d"/>
                </a:solidFill>
                <a:latin typeface="Trebuchet MS"/>
              </a:rPr>
              <a:t>EN CHILE (CERC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Rectangle 13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Rectangle 14"/>
          <p:cNvSpPr/>
          <p:nvPr/>
        </p:nvSpPr>
        <p:spPr>
          <a:xfrm>
            <a:off x="468360" y="1413000"/>
            <a:ext cx="867564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La desconfianza entre los chilenos constituye un poderoso obstáculo a la superación del desarrollo económ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Los países desarrollados tienen altos índices de confianza interpersonal. El estudio mundial de valores del 2000 muestra que en Chile solo un 22,2% tenia confianza en los demás. En Suecia era el triple (63,7%), Holanda un 59,7% ; Finlandia un 56,2% ; India 38,9%, EE.UU. 35,5% ; Irlanda 35,3%; España 32,7% e Italia 31,8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1f497d"/>
                </a:solidFill>
                <a:latin typeface="Trebuchet MS"/>
              </a:rPr>
              <a:t>JUICIOS Y AFIRMA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Rectangle 13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Rectangle 14"/>
          <p:cNvSpPr/>
          <p:nvPr/>
        </p:nvSpPr>
        <p:spPr>
          <a:xfrm>
            <a:off x="755640" y="1197000"/>
            <a:ext cx="86756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Afirm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Trebuchet MS"/>
              </a:rPr>
              <a:t>Describen una observación del mundo (verdaderas o fals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Ju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rebuchet MS"/>
              </a:rPr>
              <a:t>Declaraciones basadas en el pasado y histo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rebuchet MS"/>
              </a:rPr>
              <a:t>Generan futu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rebuchet MS"/>
              </a:rPr>
              <a:t>Son fundados o infund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Fundar ju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rebuchet MS"/>
              </a:rPr>
              <a:t>Para que lo di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rebuchet MS"/>
              </a:rPr>
              <a:t>Domin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rebuchet MS"/>
              </a:rPr>
              <a:t>Estánd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rebuchet MS"/>
              </a:rPr>
              <a:t>Afirm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1f497d"/>
                </a:solidFill>
                <a:latin typeface="Trebuchet MS"/>
              </a:rPr>
              <a:t>FACTORES CLA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Rectangle 13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Rectangle 14"/>
          <p:cNvSpPr/>
          <p:nvPr/>
        </p:nvSpPr>
        <p:spPr>
          <a:xfrm>
            <a:off x="395280" y="1341360"/>
            <a:ext cx="8280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Cultivar confia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La confianza vista como acto lingüístico pertenece al mundo de los juici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rebuchet MS"/>
              </a:rPr>
              <a:t>Afecta el espacio de posibili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rebuchet MS"/>
              </a:rPr>
              <a:t>Es temporal (por lo tanto se puede construi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rebuchet MS"/>
              </a:rPr>
              <a:t>Depende del observa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rebuchet MS"/>
              </a:rPr>
              <a:t>Se restringe a determinados ámbi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rebuchet MS"/>
              </a:rPr>
              <a:t>Puede ser fundada o infundada. (los juicios se fundan en acciones recurrentes del pasado observables por cualquier observad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1f497d"/>
                </a:solidFill>
                <a:latin typeface="Trebuchet MS"/>
              </a:rPr>
              <a:t>CONFIAN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Rectangle 13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Rectangle 14"/>
          <p:cNvSpPr/>
          <p:nvPr/>
        </p:nvSpPr>
        <p:spPr>
          <a:xfrm>
            <a:off x="468360" y="1413000"/>
            <a:ext cx="82803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Sinceridad: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cimos que alguien es sincero cuando su conversación privada es coherente con la conversación o discurso público y las acciones emprendidas son coherentes con el, discurso públ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Competencia: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cimos que alguien es competente cuando tiene la capacidad o destreza para cumplir con los estándares acordados o acept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Responsabilidad: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cimos que alguien es responsable cuando tiene la capacidad de cumplir el conjunto de compromisos asumidos en los tiempos establec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1f497d"/>
                </a:solidFill>
                <a:latin typeface="Trebuchet MS"/>
              </a:rPr>
              <a:t>CONFIAN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Rectangle 13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0" name=""/>
          <p:cNvGraphicFramePr/>
          <p:nvPr/>
        </p:nvGraphicFramePr>
        <p:xfrm>
          <a:off x="684360" y="1413000"/>
          <a:ext cx="8002440" cy="3787560"/>
        </p:xfrm>
        <a:graphic>
          <a:graphicData uri="http://schemas.openxmlformats.org/drawingml/2006/table">
            <a:tbl>
              <a:tblPr/>
              <a:tblGrid>
                <a:gridCol w="2666880"/>
                <a:gridCol w="2668680"/>
                <a:gridCol w="2666880"/>
              </a:tblGrid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minios de Observ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ipo de Juic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incer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ompeten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esponsabil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nsincer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ncompeten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rresponsabil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nfund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(Sin acciones ni estándares de comparació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und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(con acciones y estándares de comparació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1" name="Line 44"/>
          <p:cNvSpPr/>
          <p:nvPr/>
        </p:nvSpPr>
        <p:spPr>
          <a:xfrm>
            <a:off x="684360" y="1484280"/>
            <a:ext cx="266364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49"/>
          <p:cNvSpPr/>
          <p:nvPr/>
        </p:nvSpPr>
        <p:spPr>
          <a:xfrm>
            <a:off x="3780000" y="3043080"/>
            <a:ext cx="180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Ingenu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Text Box 50"/>
          <p:cNvSpPr/>
          <p:nvPr/>
        </p:nvSpPr>
        <p:spPr>
          <a:xfrm>
            <a:off x="3780000" y="443700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onfia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51"/>
          <p:cNvSpPr/>
          <p:nvPr/>
        </p:nvSpPr>
        <p:spPr>
          <a:xfrm>
            <a:off x="6372360" y="3068640"/>
            <a:ext cx="208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onfia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 Box 52"/>
          <p:cNvSpPr/>
          <p:nvPr/>
        </p:nvSpPr>
        <p:spPr>
          <a:xfrm>
            <a:off x="6372360" y="443700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ud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1f497d"/>
                </a:solidFill>
                <a:latin typeface="Trebuchet MS"/>
              </a:rPr>
              <a:t>IDENTID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Rectangle 13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9" name="Group 38"/>
          <p:cNvGrpSpPr/>
          <p:nvPr/>
        </p:nvGrpSpPr>
        <p:grpSpPr>
          <a:xfrm>
            <a:off x="252360" y="1773360"/>
            <a:ext cx="9072360" cy="3740040"/>
            <a:chOff x="252360" y="1773360"/>
            <a:chExt cx="9072360" cy="3740040"/>
          </a:xfrm>
        </p:grpSpPr>
        <p:grpSp>
          <p:nvGrpSpPr>
            <p:cNvPr id="1030" name="Group 39"/>
            <p:cNvGrpSpPr/>
            <p:nvPr/>
          </p:nvGrpSpPr>
          <p:grpSpPr>
            <a:xfrm>
              <a:off x="252360" y="1773360"/>
              <a:ext cx="7200360" cy="3450960"/>
              <a:chOff x="252360" y="1773360"/>
              <a:chExt cx="7200360" cy="3450960"/>
            </a:xfrm>
          </p:grpSpPr>
          <p:grpSp>
            <p:nvGrpSpPr>
              <p:cNvPr id="1031" name="Group 40"/>
              <p:cNvGrpSpPr/>
              <p:nvPr/>
            </p:nvGrpSpPr>
            <p:grpSpPr>
              <a:xfrm>
                <a:off x="1249200" y="1773360"/>
                <a:ext cx="6203520" cy="2232000"/>
                <a:chOff x="1249200" y="1773360"/>
                <a:chExt cx="6203520" cy="2232000"/>
              </a:xfrm>
            </p:grpSpPr>
            <p:sp>
              <p:nvSpPr>
                <p:cNvPr id="1032" name="Oval 41"/>
                <p:cNvSpPr/>
                <p:nvPr/>
              </p:nvSpPr>
              <p:spPr>
                <a:xfrm>
                  <a:off x="3548160" y="1773360"/>
                  <a:ext cx="3904560" cy="2232000"/>
                </a:xfrm>
                <a:prstGeom prst="ellipse">
                  <a:avLst/>
                </a:prstGeom>
                <a:noFill/>
                <a:ln w="255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666699"/>
                      </a:solidFill>
                      <a:latin typeface="Arial"/>
                    </a:rPr>
                    <a:t>YO          Imagen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3" name="Oval 42"/>
                <p:cNvSpPr/>
                <p:nvPr/>
              </p:nvSpPr>
              <p:spPr>
                <a:xfrm>
                  <a:off x="1249200" y="1773360"/>
                  <a:ext cx="3904920" cy="2232000"/>
                </a:xfrm>
                <a:prstGeom prst="ellipse">
                  <a:avLst/>
                </a:prstGeom>
                <a:noFill/>
                <a:ln w="255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666699"/>
                      </a:solidFill>
                      <a:latin typeface="Arial"/>
                    </a:rPr>
                    <a:t>Identidad         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4" name="Line 43"/>
              <p:cNvSpPr/>
              <p:nvPr/>
            </p:nvSpPr>
            <p:spPr>
              <a:xfrm flipH="1">
                <a:off x="1260000" y="3645000"/>
                <a:ext cx="863640" cy="574560"/>
              </a:xfrm>
              <a:prstGeom prst="line">
                <a:avLst/>
              </a:prstGeom>
              <a:ln w="38160">
                <a:solidFill>
                  <a:srgbClr val="6666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Text Box 44"/>
              <p:cNvSpPr/>
              <p:nvPr/>
            </p:nvSpPr>
            <p:spPr>
              <a:xfrm>
                <a:off x="252360" y="4294080"/>
                <a:ext cx="3240000" cy="93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Century Gothic"/>
                    <a:ea typeface="Lucida Sans Unicode"/>
                  </a:rPr>
                  <a:t>“</a:t>
                </a:r>
                <a:r>
                  <a:rPr b="1" i="1" lang="en-US" sz="1800" spc="-1" strike="noStrike">
                    <a:solidFill>
                      <a:srgbClr val="666699"/>
                    </a:solidFill>
                    <a:latin typeface="Century Gothic"/>
                    <a:ea typeface="Lucida Sans Unicode"/>
                  </a:rPr>
                  <a:t>El relato que yo cuento acerca de mi mismo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3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6" name="Text Box 45"/>
            <p:cNvSpPr/>
            <p:nvPr/>
          </p:nvSpPr>
          <p:spPr>
            <a:xfrm>
              <a:off x="6084720" y="4306680"/>
              <a:ext cx="3240000" cy="12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US" sz="1800" spc="-1" strike="noStrike">
                  <a:solidFill>
                    <a:srgbClr val="666699"/>
                  </a:solidFill>
                  <a:latin typeface="Century Gothic"/>
                  <a:ea typeface="Lucida Sans Unicode"/>
                </a:rPr>
                <a:t>“</a:t>
              </a:r>
              <a:r>
                <a:rPr b="1" i="1" lang="en-US" sz="1800" spc="-1" strike="noStrike">
                  <a:solidFill>
                    <a:srgbClr val="666699"/>
                  </a:solidFill>
                  <a:latin typeface="Century Gothic"/>
                  <a:ea typeface="Lucida Sans Unicode"/>
                </a:rPr>
                <a:t>El relato que los otros cuentan de mí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Line 46"/>
            <p:cNvSpPr/>
            <p:nvPr/>
          </p:nvSpPr>
          <p:spPr>
            <a:xfrm>
              <a:off x="6804000" y="3489120"/>
              <a:ext cx="934920" cy="6480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1f497d"/>
                </a:solidFill>
                <a:latin typeface="Trebuchet MS"/>
              </a:rPr>
              <a:t>ALGUNOS DA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Rectangle 13"/>
          <p:cNvSpPr/>
          <p:nvPr/>
        </p:nvSpPr>
        <p:spPr>
          <a:xfrm>
            <a:off x="468360" y="1484280"/>
            <a:ext cx="82803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El 72% de los chilenos encuentra trabajo a través de redes de contacto. (Entrepeneur Consulto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El 80% de los chilenos encuentra trabajo a través de redes de contacto. (DB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“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La eficacia del negocio en general, depende más de actividades de “carácter humano” como la construcción de relaciones, las habilidades interpersonales y la comunicación que de habilidades y capacidades técnicas.” (Networking Intelig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1f497d"/>
                </a:solidFill>
                <a:latin typeface="Trebuchet MS"/>
              </a:rPr>
              <a:t>QUÉ SON LAS RE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Rectangle 13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3399"/>
                </a:solidFill>
                <a:latin typeface="Trebuchet MS"/>
              </a:rPr>
              <a:t>Son todas las relaciones que un individuo percibe como significativas o diferenciadas de la masa anónima de la sociedad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3399"/>
                </a:solidFill>
                <a:latin typeface="Trebuchet MS"/>
              </a:rPr>
              <a:t>Las personas que componen una RED tienen nombre y apellido, no son instituciones, ni agrupa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3399"/>
                </a:solidFill>
                <a:latin typeface="Trebuchet MS"/>
              </a:rPr>
              <a:t>Contactos secundari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rebuchet MS"/>
              </a:rPr>
              <a:t>¿Como identifico mi r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1f497d"/>
                </a:solidFill>
                <a:latin typeface="Trebuchet MS"/>
              </a:rPr>
              <a:t>MAPA DE RE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Oval 14"/>
          <p:cNvSpPr/>
          <p:nvPr/>
        </p:nvSpPr>
        <p:spPr>
          <a:xfrm>
            <a:off x="1547640" y="1690560"/>
            <a:ext cx="5715000" cy="4114800"/>
          </a:xfrm>
          <a:prstGeom prst="ellipse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Oval 15"/>
          <p:cNvSpPr/>
          <p:nvPr/>
        </p:nvSpPr>
        <p:spPr>
          <a:xfrm>
            <a:off x="2362320" y="2422440"/>
            <a:ext cx="4038480" cy="2590920"/>
          </a:xfrm>
          <a:prstGeom prst="ellipse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Oval 16"/>
          <p:cNvSpPr/>
          <p:nvPr/>
        </p:nvSpPr>
        <p:spPr>
          <a:xfrm>
            <a:off x="3200400" y="3078000"/>
            <a:ext cx="2438280" cy="1143000"/>
          </a:xfrm>
          <a:prstGeom prst="ellipse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Line 17"/>
          <p:cNvSpPr/>
          <p:nvPr/>
        </p:nvSpPr>
        <p:spPr>
          <a:xfrm>
            <a:off x="4427640" y="1197000"/>
            <a:ext cx="7920" cy="5151240"/>
          </a:xfrm>
          <a:prstGeom prst="line">
            <a:avLst/>
          </a:prstGeom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Line 18"/>
          <p:cNvSpPr/>
          <p:nvPr/>
        </p:nvSpPr>
        <p:spPr>
          <a:xfrm>
            <a:off x="762120" y="3716280"/>
            <a:ext cx="7467480" cy="0"/>
          </a:xfrm>
          <a:prstGeom prst="line">
            <a:avLst/>
          </a:prstGeom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 Box 19"/>
          <p:cNvSpPr/>
          <p:nvPr/>
        </p:nvSpPr>
        <p:spPr>
          <a:xfrm>
            <a:off x="457200" y="1278720"/>
            <a:ext cx="18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f497d"/>
                </a:solidFill>
                <a:latin typeface="Arial"/>
              </a:rPr>
              <a:t>A: FAMILIA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 Box 20"/>
          <p:cNvSpPr/>
          <p:nvPr/>
        </p:nvSpPr>
        <p:spPr>
          <a:xfrm>
            <a:off x="6715080" y="1285200"/>
            <a:ext cx="18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f497d"/>
                </a:solidFill>
                <a:latin typeface="Arial"/>
              </a:rPr>
              <a:t>B: AMI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 Box 21"/>
          <p:cNvSpPr/>
          <p:nvPr/>
        </p:nvSpPr>
        <p:spPr>
          <a:xfrm>
            <a:off x="108000" y="4581360"/>
            <a:ext cx="211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f497d"/>
                </a:solidFill>
                <a:latin typeface="Arial"/>
              </a:rPr>
              <a:t>C: COMUNIDAD (Vecinos, Organizaciones Socia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 Box 23"/>
          <p:cNvSpPr/>
          <p:nvPr/>
        </p:nvSpPr>
        <p:spPr>
          <a:xfrm>
            <a:off x="6948360" y="4507920"/>
            <a:ext cx="18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f497d"/>
                </a:solidFill>
                <a:latin typeface="Arial"/>
              </a:rPr>
              <a:t>D: TRABAJO O ESTU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WordArt 24"/>
          <p:cNvSpPr txBox="1"/>
          <p:nvPr/>
        </p:nvSpPr>
        <p:spPr>
          <a:xfrm>
            <a:off x="3348000" y="3500280"/>
            <a:ext cx="2057400" cy="5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9900"/>
                </a:solidFill>
                <a:latin typeface="Tahoma"/>
              </a:rPr>
              <a:t>INTIMIDAD</a:t>
            </a:r>
            <a:endParaRPr b="1" lang="en-US" sz="2400" spc="1" strike="noStrike">
              <a:ln w="0">
                <a:noFill/>
              </a:ln>
              <a:solidFill>
                <a:srgbClr val="ff9900"/>
              </a:solidFill>
              <a:latin typeface="Tahoma"/>
              <a:ea typeface="Tahoma"/>
            </a:endParaRPr>
          </a:p>
        </p:txBody>
      </p:sp>
      <p:sp>
        <p:nvSpPr>
          <p:cNvPr id="966" name="WordArt 25"/>
          <p:cNvSpPr txBox="1"/>
          <p:nvPr/>
        </p:nvSpPr>
        <p:spPr>
          <a:xfrm>
            <a:off x="2916360" y="4149720"/>
            <a:ext cx="3200400" cy="466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9900"/>
                </a:solidFill>
                <a:latin typeface="Tahoma"/>
              </a:rPr>
              <a:t>RELACIONES SOCIALES</a:t>
            </a:r>
            <a:endParaRPr b="1" lang="en-US" sz="2000" spc="1" strike="noStrike">
              <a:ln w="0">
                <a:noFill/>
              </a:ln>
              <a:solidFill>
                <a:srgbClr val="ff9900"/>
              </a:solidFill>
              <a:latin typeface="Tahoma"/>
              <a:ea typeface="Tahoma"/>
            </a:endParaRPr>
          </a:p>
        </p:txBody>
      </p:sp>
      <p:sp>
        <p:nvSpPr>
          <p:cNvPr id="967" name="WordArt 26"/>
          <p:cNvSpPr txBox="1"/>
          <p:nvPr/>
        </p:nvSpPr>
        <p:spPr>
          <a:xfrm>
            <a:off x="2700360" y="4581360"/>
            <a:ext cx="3527280" cy="935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9900"/>
                </a:solidFill>
                <a:latin typeface="Tahoma"/>
              </a:rPr>
              <a:t>RELACIONES INSTRUMENTALES</a:t>
            </a:r>
            <a:endParaRPr b="1" lang="en-US" sz="2000" spc="1" strike="noStrike">
              <a:ln w="0">
                <a:noFill/>
              </a:ln>
              <a:solidFill>
                <a:srgbClr val="ff9900"/>
              </a:solidFill>
              <a:latin typeface="Tahoma"/>
              <a:ea typeface="Tahoma"/>
            </a:endParaRPr>
          </a:p>
        </p:txBody>
      </p:sp>
      <p:sp>
        <p:nvSpPr>
          <p:cNvPr id="968" name="WordArt 27"/>
          <p:cNvSpPr txBox="1"/>
          <p:nvPr/>
        </p:nvSpPr>
        <p:spPr>
          <a:xfrm>
            <a:off x="3419640" y="5877000"/>
            <a:ext cx="2057400" cy="47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9900"/>
                </a:solidFill>
                <a:latin typeface="Tahoma"/>
              </a:rPr>
              <a:t>"CONTACTOS"</a:t>
            </a:r>
            <a:endParaRPr b="1" lang="en-US" sz="2000" spc="1" strike="noStrike">
              <a:ln w="0">
                <a:noFill/>
              </a:ln>
              <a:solidFill>
                <a:srgbClr val="ff9900"/>
              </a:solidFill>
              <a:latin typeface="Tahoma"/>
              <a:ea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1f497d"/>
                </a:solidFill>
                <a:latin typeface="Trebuchet MS"/>
              </a:rPr>
              <a:t>PORQUE SON IMPORT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Rectangle 13"/>
          <p:cNvSpPr/>
          <p:nvPr/>
        </p:nvSpPr>
        <p:spPr>
          <a:xfrm>
            <a:off x="468360" y="1413000"/>
            <a:ext cx="82803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Necesidad humana fundamental (sentido de pertenencia, seres soci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Nos permiten informarnos rápid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Para encontrar trabajo (72%- Entrepeneur; 80%- DB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Poder de las conversacion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Globalización (aislado es difícil, relaciones internacional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1f497d"/>
                </a:solidFill>
                <a:latin typeface="Trebuchet MS"/>
              </a:rPr>
              <a:t>BARRER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Rectangle 13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Rectangle 14"/>
          <p:cNvSpPr/>
          <p:nvPr/>
        </p:nvSpPr>
        <p:spPr>
          <a:xfrm>
            <a:off x="468360" y="1413000"/>
            <a:ext cx="82803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Pre - juicios y caracterizaciones poco fundamentadas de las perso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Desconfia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Beneficios difíciles de cuantifi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1f497d"/>
                </a:solidFill>
                <a:latin typeface="Trebuchet MS"/>
              </a:rPr>
              <a:t>COMO GESTIONAR MI 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Rectangle 13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Rectangle 14"/>
          <p:cNvSpPr/>
          <p:nvPr/>
        </p:nvSpPr>
        <p:spPr>
          <a:xfrm>
            <a:off x="468360" y="1413000"/>
            <a:ext cx="82803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Asignarle importa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Aceptación y expectativ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Ampliar círculo (poder de la diversidad, puen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Aprovechando el potencial: contactos 2do o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Generando confia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Conversaciones “poderosas”: escuch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Rectangle 2"/>
          <p:cNvSpPr/>
          <p:nvPr/>
        </p:nvSpPr>
        <p:spPr>
          <a:xfrm>
            <a:off x="1187280" y="3141720"/>
            <a:ext cx="749016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1f497d"/>
                </a:solidFill>
                <a:latin typeface="Trebuchet MS"/>
              </a:rPr>
              <a:t>CAPITAL SO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Rectangle 13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1f497d"/>
                </a:solidFill>
                <a:latin typeface="Trebuchet MS"/>
              </a:rPr>
              <a:t>DEFINI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13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14"/>
          <p:cNvSpPr/>
          <p:nvPr/>
        </p:nvSpPr>
        <p:spPr>
          <a:xfrm>
            <a:off x="468360" y="1413000"/>
            <a:ext cx="82803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“</a:t>
            </a: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Capacidad de un sistema social para producir valor a través de sus relaciones de confianza, cooperación y reciprocidad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La calidad de las relaciones entre las personas determina centralmente la eficacia, la eficiencia, la capacidad de evolucionar y el bienestar de toda organización hum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5T22:56:56Z</dcterms:created>
  <dc:creator>Francisco J. Astudillo A.</dc:creator>
  <dc:description/>
  <dc:language>en-US</dc:language>
  <cp:lastModifiedBy>Familia Donoso</cp:lastModifiedBy>
  <cp:lastPrinted>2004-06-01T23:06:04Z</cp:lastPrinted>
  <dcterms:modified xsi:type="dcterms:W3CDTF">2008-08-29T03:57:26Z</dcterms:modified>
  <cp:revision>459</cp:revision>
  <dc:subject/>
  <dc:title>Presentación de PowerPoint</dc:title>
</cp:coreProperties>
</file>