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81E-A288-4FA9-806D-E094C347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367-2388-42A4-929D-585818F2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CFA76-78A7-43E8-913E-36613285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E5B15-231E-43CD-8D72-9B49636E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0B941-0BEF-4801-A2DE-D1110C13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047CE7-A3B0-496D-A325-9DC36A2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14987-FC54-4D30-A29D-3D2009A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CFCE3-6DBE-4CFB-8055-8883D2D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3B27C-7A0D-4DC0-BD8F-C600AB79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9B89D-60C5-450D-941C-F2EEDE4D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DC66B7-DDCC-4A3D-93F3-DB54AB5F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046DD-C831-45EF-A829-4A3BC70C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0F4-755F-4E3D-903B-97DFF78C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B45BC-4FAC-4C5B-96BF-B151C30E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74163-EC9C-4EAD-9407-0388838A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9EF0D-A355-4EC0-BC1C-227B1C3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321CE-38CB-4B85-AC09-DF1625DD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74ED2-BA1A-4E2D-B1CC-6E78E324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5A59E-C2B6-48FE-BEFC-63FEF38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31000-3237-4284-B95D-C97840B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D63CC-E09E-437D-AD36-FB88250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68003-5B97-424C-BF79-822317F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AE73D-51C2-40A1-A845-3A4F6EE7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EC3-E48D-41CA-8AD3-921F1BF1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9C748-48A0-4E77-A89B-534B1E54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63AB91-06F4-44C5-B335-5A757BF4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E6973D-E801-472E-B58A-0657837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C75E1A-C52C-401E-B395-F43F66C1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8F1025-4564-4041-9DCF-C4CD4080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63FFB7-8392-4179-9BBA-B660DB4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7A9F7E-FD6B-4358-8CA3-C2A26C3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AEC0D2-12AD-4B3B-8DF1-0991E328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1CBC8-0701-48E9-BDE7-E03E2B2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577810-9933-4C45-B86B-8492D218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71C5-3088-4E69-B5CC-42587951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D7211E-AD41-4DF3-821F-DC780F10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5516AF-AFCF-46C7-A541-450B783F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BA73E7-B79E-4C74-962A-C1C1C4DE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1C9227-DB98-4E66-816E-88450DAC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3F8037-3BA7-426A-9CE2-2B3AADC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347CD5-D640-4876-B167-081E2EA6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9527AD-92CC-4BF8-AA5A-0A60B3C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8D7B7E-80E1-4075-B346-EE938274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63A8F2-9CFF-4C31-A1DC-2EE19848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A83A2A-A4FE-405B-9CB0-669541D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455D-6FCB-4ED3-933E-5F4707F9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367DBE-91FA-4637-B20D-558AF5CE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F47410-5705-4F20-9B72-CB3CBBB3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8113B0-DC7D-45CA-906E-F2EC71D1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DEFE69-5385-4078-8BBD-2F74C208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2E5ADC-07EC-434A-B851-D79EB600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C3CD54-568E-4DB9-ACA4-41DC6376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DAC301-EBBF-4C1C-9B31-EB6B5F7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708EB8-89FB-4D83-BEB0-536311A9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64B673-D22E-4A29-B6E6-27CB885C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BFB1F0-AAC3-4648-B07E-791DE77D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E7D3-AB9B-44B7-B5FF-656BD82D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A01D7B-43F9-4318-9F37-4B5655DC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118388-97B2-4ADC-9A2E-A123147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A74FA8-87B2-41E8-B797-F8F624A6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EF021C-CDB0-4DF7-9620-B0B9CBF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FDA97-DFA0-4DFF-86E6-C8A53C3B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7161FA-EFD1-40CA-8542-84C0B06B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8FA19-9C5A-46E7-9E35-FCBFBB62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DEBBD-D81A-4665-AAE7-98E61186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4CB4A-6AF1-4731-9F43-249BA711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681EC-8242-4E45-8FAC-BD7A7F9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90C8-B28F-4607-B8F6-0DA679A6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E3DEA-0B66-4B72-A6EB-5FB40135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301FD-30CE-4CD4-98FE-62426275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571B5-92C8-42E2-A1DF-3D66B44D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47D3A-874D-4974-A004-C704D3D9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9EF46-B1A2-4DB6-AC65-08F89F6A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F5E8F-5F9A-4A9A-BAC1-E8385D7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FB8C5-BB4B-4D82-B67B-DA50187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C8C4C-7282-4531-A1FA-47F5EEDF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C56FB-91F4-4424-BE4A-B9B88D5D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6C0F37-278E-4062-A529-0EBF87FF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429-30A9-4C98-ADE7-7C97CF45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57A003-D8F9-464C-B050-9B7E9215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DFA630-A2FD-4D76-9B18-369F214D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6ACC19-FE0B-439C-8EC9-C7F16F45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6B4157-95D6-4826-9797-3EDEA4B5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5E79ED-43EA-473F-BF49-6076576B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9DB772-F0BF-40B3-9129-372EAAF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1A40E6-4432-41A5-BF5A-AB20C76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F5B2C9-8370-4ED2-A116-E445768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A64E82-137A-41C1-B312-C4DFBBB9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B9CBBD-BF97-47F8-8FBF-F8B509E6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ADF0-AB29-4536-ADD9-62A3B79F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EBB1BB-1556-4783-A8A7-220CB5B8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9344A-6E35-45C5-B583-054DAE50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710B7-0733-46C6-9F48-666C8C49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3693E-79DA-4904-BB44-932D5719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1E7F4-6240-4902-A732-ED1AC0E3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25A2F-F43C-48E7-B801-A0FD3935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DBA20-4D72-4267-B983-5BA81F60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75466-4CE0-41BA-A83C-D51D37F5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1ADB8-6DDF-4CB1-BF7D-AD09F1E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CF5A3-9391-4A47-B8A8-C4DC9CE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F268-673A-413A-BDAD-07A962B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16A87-8DBD-456E-8A76-9613CCB1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9D1E9-27DD-4F71-A09C-CC5069EF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C4BCC-81A3-4348-8FE5-C893E83A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3161CD-760E-414C-ACC4-F0985179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A4E258-08A2-4A78-B698-33B9FAD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26ECA3-826B-49F4-8760-D8E3AB13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8AC41C-8816-42BC-AE28-FB04DBE8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069C58-43C0-4A14-B7F4-3594B6E4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7FBDC7-6A3B-4079-BA47-CA07324D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E8F954-83BB-4A03-96F4-4F6A36D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5F0-66EB-4C5A-9B86-F91C54A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5646-54A5-4CCA-8C7F-B74FB66A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B53A0D-13EF-47C8-B081-165AE09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78BFDC-B69B-49FF-9099-34B7891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D2B89D-8BF9-43E5-9D7C-34BA4D7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67FB02-C62B-4E4A-9A73-682A14D6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B0A628-E39F-4ACD-8995-FB082093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BE5777-D5C6-421F-9644-3EA00D23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36691C-20EF-4EC0-A340-F862FFEB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ED4EB7-2921-40CC-96B9-CFA0E055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40C78F-A276-4A9F-B37C-DDE2CC59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15E940-D82E-4C88-85DD-7E1F1A2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E803-A559-4E1E-8312-066AE19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D4D1C9-AF4A-4419-96A4-85D37144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8430C7-0B5B-40A0-9D7C-0D9685F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A62CA7-22DC-45BD-BE16-C76A97E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D22108-51AB-4495-B175-DC79E68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E6B83E-59B0-4215-A150-7D2BEFB8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7A08B2-548A-44D8-9500-2C1D3005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05B861-8590-49CF-8453-A01ACC83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E90426-2C09-498C-965F-580BFAC6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4A7D49-B389-4526-8458-684C7BD5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157ECF-042B-421A-B2B6-A77EBB7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62C-28D1-47AA-8C55-DD49D93C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0D65C3-2E25-4301-B036-43279798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33063C-EA2E-4AA5-9BA1-59C800A6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F355EE-495F-4C01-B90F-3007F156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8C42BE-61F6-4AE2-A4ED-8F9FDFF2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808111-A768-4CDE-AB92-DD8B6654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108DFD-8D7E-486A-8617-2142CD6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6D2830-7E40-4876-BDA9-EE984F1F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E70FE2-E10B-4EED-BD5C-D3F41ABF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6E620A-032C-4C79-AD05-4CBEC103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6251-A621-4D9F-9FA6-B6B799E5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638A-1842-444C-A66F-8B425A83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8C0CB-D0CA-4A69-AE78-446315C9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EB067-20CB-448E-9D0E-08C1329A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FEAF6-24A8-4A14-8FC6-4C6770F7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D1B76-7594-462E-BE5D-0D61F361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EC46C-236A-4F94-AAB1-518E6686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6BD-477B-4C0A-8920-A87711C2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4CBD9-1694-40AC-A70F-CE367C65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8E854-7DB7-40D3-BAAB-6AD8A324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25268-A5B7-4182-AAEF-630EE43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670A4-4390-4C49-93AA-900B7B2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DC70F-895B-4379-BD49-ED186E8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74E1D-CE1B-4547-9BC3-8111C855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8B3DE-D64D-4780-A80A-CA6BD839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6CFE-D2B2-46B8-A26C-99D3EFF7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7696-8C1B-4A63-B6C8-F4B95514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16FA-E72E-46B5-8B73-BEABCB6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B4D-6571-4714-AEE5-BB3343A6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8E240-F7DC-4BF5-8115-D6E2CE03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7E90-CCB8-4CB9-8B2A-89A0AEDA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C44C-7F6A-4263-A18C-8739210D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E4AE-7B14-4CA6-89DB-3775FED0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085F-DA5D-4FDC-BD82-B6E2FFB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A344-6B8E-44EB-9D71-4D3CAD22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1116-C971-4152-AB12-0A71BABF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D825-AE6A-4902-BE15-038533D2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FAE1-F8C9-4C92-B904-FEC8E792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40036-C04B-4E8E-9D64-F266ECF4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445-56E6-41BD-925E-56E9B30C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7B59F-836A-4B6F-9931-923D6C96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6FB03-2F39-49E9-BF44-3CCF20A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2FD07-C302-4B7B-9E7E-52B2FCD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E7E87-FFE5-499B-9167-F19A5657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7EB9A-089E-4047-9853-BE5E0AA6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E27D7-3459-4886-B30D-6EF3D59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3894D-807E-41A1-BA30-F768B26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9E79A-B0AF-4349-9B14-E468478E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405C1-2E54-4956-BE54-3FCEA7D5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5DE22-D06A-4EFD-8B01-30B0623C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718-4918-42C5-8FD2-EF5FA3B3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81916-6047-45B0-B0A5-8FE9E5CA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2E255-BEF2-4E1B-82C1-6878A609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34DB4-76EF-46EC-91F7-A256C3AC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D1D0C-742E-4B55-BDC7-FB0639F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C725F-134A-48C4-9313-EC4CCB51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F86D0-02E5-4797-8A81-4720591C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44D92-D4CF-4CEE-8DD4-FA33EF69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4FE97-8496-4D4A-815F-5797306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7E8CB-7A84-4046-96CC-11BDA5CC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68049E-3224-49C4-91A0-EF8CC78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CDC-1EB5-498A-901C-055A02FB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314EC-190A-49A7-A55F-C12D7801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9EE1F-5F47-434D-9DEB-F962C162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E3AFB-82F3-4911-8FA3-D703D666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5CEB8-C6F5-455E-A0C2-50698141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5C82A-0946-4EFA-A9E1-F654E024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C1073-C7C1-44E3-89E9-26BD0EF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07EFB-2E6E-41AB-BEE5-1134E403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406B2-AFD5-4870-8FEC-F408AFD3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37DA6-A9EF-4CBE-A5FC-9975B4C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01343-FFA8-4F7A-B575-786183D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2F1-D99B-4FCC-B44E-0125ECE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B50B5-7FD6-43A8-B586-02785AB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DB418-CF9D-4ABC-BF81-D72F73D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98B12-CB46-492B-95DA-BC62D717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FB4F6-76DC-4002-BA4D-7F3E4FA9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4B14B-BCB7-4274-A40D-DD5ACAA0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2341-0F05-4C8D-BADB-BD7AECD2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A435A-EA99-4982-8969-1D32479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165EC-C322-4658-BF85-7768AC0D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0E35-2233-478B-B7BE-15E25B0C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CE9F9-7D2A-4345-B08D-4B52DA96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ACF-2481-4155-80F8-D5615FE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638AB-69CB-476D-8C2E-C41AF3B5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5922-6E35-495B-928B-6DB45F9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266D4-B0A4-425F-9867-A5FB181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71AF2-072A-4C13-AE13-3B44100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95E78-C731-4DD6-9BDC-99334DF0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0C22B-EADE-4563-9034-591712CA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FBD44-5965-45BA-90C0-2BA4B9D7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AC9F9-8C90-4744-86AE-E0B251CB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68A63-E7BE-4561-9420-E639437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A797A-3247-4D96-994E-6846AF6A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2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522-69C7-4CDD-8A25-738E997682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B3E-AD70-4399-A936-763FF2D4D5E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7A22-FDCB-40B1-AB7E-545D7617A16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1D66-0F44-416B-AE85-B7977175E2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572E-3EB7-4BD1-A53C-5B68B439F7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AD2-845F-409B-88F0-5109F0F144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700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3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55E7-1F16-414C-B4E5-034B3A955E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ftr" idx="45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125F-5DDE-43F6-9690-B317E48CEE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DECA-997C-4675-89E1-D94FFA656E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CD26-E7C2-4019-A097-BA4F120E735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FEB2-8AF0-4770-AA1B-E632AC62BC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1BA-7023-47DA-985F-9A38B71B43D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42D6-A42C-4893-BC35-E4BE398E519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FF28-AFF8-42AE-BDEE-F60A866AD6E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B82-B74A-48E0-AD98-0C9F74760A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8F95-FBD9-424A-90D3-E67A36859FF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400F-D79C-4B85-BA1C-4EF07235DE6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870F-F70A-4B95-9259-C3E2A525F3E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404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15F-610A-44E0-A2C0-6C3B8F25A4D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7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51"/>
          <p:cNvSpPr/>
          <p:nvPr/>
        </p:nvSpPr>
        <p:spPr>
          <a:xfrm>
            <a:off x="971640" y="2276640"/>
            <a:ext cx="789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Redes y Capital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1042920" y="452520"/>
            <a:ext cx="7705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COMPONENTES 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human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pacidad de las personas para producir valor en coordinación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rela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la capacidad de las organizaciones de producir y mantener las redes de colaboración para de produci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ambient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lidad de los contextos sociales disponibles para que los individuos y organizaciones interactúen en función de la produc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direc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alineamiento de las personas y la organización con un propósito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QUE QUEREMOS LOG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soci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Relaciones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Valores de cooperación, reciprocidad, respeto, aceptación, sinceri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EN CHILE (PNU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14% de los chilenos cree que se puede confiar en la mayoría de las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69% de los chilenos cree que una persona se aprovecharía de ellos si tuviera la 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Índices de Confia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4000" y="378936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arabineros de Chile (5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Televisión(5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Radio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nco Central y Iglesia Católica 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Marina y Fach (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jercito (4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13440" y="3429000"/>
            <a:ext cx="37796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licía Investigaciones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iarios  (3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Senado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der Judicial (1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ámara Diputados (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artidos Políticos 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EN CHILE (CE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desconfianza entre los chilenos constituye un poderoso obstáculo a la superación del desarroll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s países desarrollados tienen altos índices de confianza interpersonal. El estudio mundial de valores del 2000 muestra que en Chile solo un 22,2% tenia confianza en los demás. En Suecia era el triple (63,7%), Holanda un 59,7% ; Finlandia un 56,2% ; India 38,9%, EE.UU. 35,5% ; Irlanda 35,3%; España 32,7% e Italia 31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JUICIOS Y AFIRM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4"/>
          <p:cNvSpPr/>
          <p:nvPr/>
        </p:nvSpPr>
        <p:spPr>
          <a:xfrm>
            <a:off x="755640" y="11970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fir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scriben una observación del mundo (verdaderas o fal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Ju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claraciones basadas en el pasado y hi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Generan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on fundados o infu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Fundar ju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ara que lo 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tánd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irm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FACTORE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4"/>
          <p:cNvSpPr/>
          <p:nvPr/>
        </p:nvSpPr>
        <p:spPr>
          <a:xfrm>
            <a:off x="39528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ltivar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onfianza vista como acto lingüístico pertenece al mundo de los jui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ecta el espacio de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 temporal (por lo tanto se puede constru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pende del observ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e restringe a determinad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uede ser fundada o infundada. (los juicios se fundan en acciones recurrentes del pasado observables por cualquier observ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Sincer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sincero cuando su conversación privada es coherente con la conversación o discurso público y las acciones emprendidas son coherentes con el, discurs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mpetencia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competente cuando tiene la capacidad o destreza para cumplir con los estándares acordados o acep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Responsabil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responsable cuando tiene la capacidad de cumplir el conjunto de compromisos asumidos en los tiempos establ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684360" y="1413000"/>
          <a:ext cx="8002440" cy="378756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inios de 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Ju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ce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a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ince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rresponsa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un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Sin acciones ni estándares de compar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con acciones y estándares de compar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1" name="Line 44"/>
          <p:cNvSpPr/>
          <p:nvPr/>
        </p:nvSpPr>
        <p:spPr>
          <a:xfrm>
            <a:off x="684360" y="148428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3780000" y="3043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ge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378000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6372360" y="3068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6372360" y="443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u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38"/>
          <p:cNvGrpSpPr/>
          <p:nvPr/>
        </p:nvGrpSpPr>
        <p:grpSpPr>
          <a:xfrm>
            <a:off x="252360" y="1773360"/>
            <a:ext cx="9072360" cy="3740040"/>
            <a:chOff x="252360" y="1773360"/>
            <a:chExt cx="9072360" cy="3740040"/>
          </a:xfrm>
        </p:grpSpPr>
        <p:grpSp>
          <p:nvGrpSpPr>
            <p:cNvPr id="1030" name="Group 39"/>
            <p:cNvGrpSpPr/>
            <p:nvPr/>
          </p:nvGrpSpPr>
          <p:grpSpPr>
            <a:xfrm>
              <a:off x="252360" y="1773360"/>
              <a:ext cx="7200360" cy="3450960"/>
              <a:chOff x="252360" y="1773360"/>
              <a:chExt cx="7200360" cy="3450960"/>
            </a:xfrm>
          </p:grpSpPr>
          <p:grpSp>
            <p:nvGrpSpPr>
              <p:cNvPr id="1031" name="Group 40"/>
              <p:cNvGrpSpPr/>
              <p:nvPr/>
            </p:nvGrpSpPr>
            <p:grpSpPr>
              <a:xfrm>
                <a:off x="1249200" y="1773360"/>
                <a:ext cx="6203520" cy="2232000"/>
                <a:chOff x="1249200" y="1773360"/>
                <a:chExt cx="6203520" cy="2232000"/>
              </a:xfrm>
            </p:grpSpPr>
            <p:sp>
              <p:nvSpPr>
                <p:cNvPr id="1032" name="Oval 41"/>
                <p:cNvSpPr/>
                <p:nvPr/>
              </p:nvSpPr>
              <p:spPr>
                <a:xfrm>
                  <a:off x="3548160" y="1773360"/>
                  <a:ext cx="390456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YO          Image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Oval 42"/>
                <p:cNvSpPr/>
                <p:nvPr/>
              </p:nvSpPr>
              <p:spPr>
                <a:xfrm>
                  <a:off x="1249200" y="1773360"/>
                  <a:ext cx="390492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Identidad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Line 43"/>
              <p:cNvSpPr/>
              <p:nvPr/>
            </p:nvSpPr>
            <p:spPr>
              <a:xfrm flipH="1">
                <a:off x="1260000" y="3645000"/>
                <a:ext cx="863640" cy="5745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44"/>
              <p:cNvSpPr/>
              <p:nvPr/>
            </p:nvSpPr>
            <p:spPr>
              <a:xfrm>
                <a:off x="252360" y="4294080"/>
                <a:ext cx="3240000" cy="9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  <a:ea typeface="Lucida Sans Unicode"/>
                  </a:rPr>
                  <a:t>“</a:t>
                </a: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  <a:ea typeface="Lucida Sans Unicode"/>
                  </a:rPr>
                  <a:t>El relato que yo cuento acerca de mi mismo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Text Box 45"/>
            <p:cNvSpPr/>
            <p:nvPr/>
          </p:nvSpPr>
          <p:spPr>
            <a:xfrm>
              <a:off x="6084720" y="4306680"/>
              <a:ext cx="3240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  <a:ea typeface="Lucida Sans Unicode"/>
                </a:rPr>
                <a:t>“</a:t>
              </a: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  <a:ea typeface="Lucida Sans Unicode"/>
                </a:rPr>
                <a:t>El relato que los otros cuentan de mí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46"/>
            <p:cNvSpPr/>
            <p:nvPr/>
          </p:nvSpPr>
          <p:spPr>
            <a:xfrm>
              <a:off x="6804000" y="3489120"/>
              <a:ext cx="934920" cy="6480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ALGUN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"/>
          <p:cNvSpPr/>
          <p:nvPr/>
        </p:nvSpPr>
        <p:spPr>
          <a:xfrm>
            <a:off x="46836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72% de los chilenos encuentra trabajo a través de redes de contacto. (Entrepeneur Consult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80% de los chilenos encuentra trabajo a través de redes de contacto. (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eficacia del negocio en general, depende más de actividades de “carácter humano” como la construcción de relaciones, las habilidades interpersonales y la comunicación que de habilidades y capacidades técnicas.” (Networking Intel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QUÉ SON LAS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Son todas las relaciones que un individuo percibe como significativas o diferenciadas de la masa anónima de la socied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as personas que componen una RED tienen nombre y apellido, no son instituciones, ni agrup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Contactos secunda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¿Como identifico mi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MAP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4"/>
          <p:cNvSpPr/>
          <p:nvPr/>
        </p:nvSpPr>
        <p:spPr>
          <a:xfrm>
            <a:off x="1547640" y="1690560"/>
            <a:ext cx="5715000" cy="41148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5"/>
          <p:cNvSpPr/>
          <p:nvPr/>
        </p:nvSpPr>
        <p:spPr>
          <a:xfrm>
            <a:off x="2362320" y="2422440"/>
            <a:ext cx="4038480" cy="259092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6"/>
          <p:cNvSpPr/>
          <p:nvPr/>
        </p:nvSpPr>
        <p:spPr>
          <a:xfrm>
            <a:off x="3200400" y="3078000"/>
            <a:ext cx="2438280" cy="11430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7"/>
          <p:cNvSpPr/>
          <p:nvPr/>
        </p:nvSpPr>
        <p:spPr>
          <a:xfrm>
            <a:off x="4427640" y="1197000"/>
            <a:ext cx="7920" cy="51512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8"/>
          <p:cNvSpPr/>
          <p:nvPr/>
        </p:nvSpPr>
        <p:spPr>
          <a:xfrm>
            <a:off x="762120" y="3716280"/>
            <a:ext cx="746748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457200" y="12787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A: FAMIL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0"/>
          <p:cNvSpPr/>
          <p:nvPr/>
        </p:nvSpPr>
        <p:spPr>
          <a:xfrm>
            <a:off x="6715080" y="128520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B: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1"/>
          <p:cNvSpPr/>
          <p:nvPr/>
        </p:nvSpPr>
        <p:spPr>
          <a:xfrm>
            <a:off x="108000" y="458136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C: COMUNIDAD (Vecinos, Organizacion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3"/>
          <p:cNvSpPr/>
          <p:nvPr/>
        </p:nvSpPr>
        <p:spPr>
          <a:xfrm>
            <a:off x="6948360" y="450792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D: TRABAJO O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WordArt 24"/>
          <p:cNvSpPr txBox="1"/>
          <p:nvPr/>
        </p:nvSpPr>
        <p:spPr>
          <a:xfrm>
            <a:off x="3348000" y="3500280"/>
            <a:ext cx="20574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INTIMIDAD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6" name="WordArt 25"/>
          <p:cNvSpPr txBox="1"/>
          <p:nvPr/>
        </p:nvSpPr>
        <p:spPr>
          <a:xfrm>
            <a:off x="2916360" y="4149720"/>
            <a:ext cx="320040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SOCI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7" name="WordArt 26"/>
          <p:cNvSpPr txBox="1"/>
          <p:nvPr/>
        </p:nvSpPr>
        <p:spPr>
          <a:xfrm>
            <a:off x="2700360" y="4581360"/>
            <a:ext cx="35272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INSTRUMENT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8" name="WordArt 27"/>
          <p:cNvSpPr txBox="1"/>
          <p:nvPr/>
        </p:nvSpPr>
        <p:spPr>
          <a:xfrm>
            <a:off x="3419640" y="5877000"/>
            <a:ext cx="20574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"CONTACTOS"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PORQUE SON IM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ecesidad humana fundamental (sentido de pertenencia, seres so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os permiten informarnos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ra encontrar trabajo (72%- Entrepeneur; 80%- 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oder de las conversa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Globalización (aislado es difícil, relaciones internaciona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BARR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 - juicios y caracterizaciones poco fundamentadas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eneficios difíciles de c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signarl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ceptación y expecta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mpliar círculo (poder de la diversidad, pu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provechando el potencial: contactos 2d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Generando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versaciones “poderosas”: 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DEFIN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acidad de un sistema social para producir valor a través de sus relaciones de confianza, cooperación y reciproc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alidad de las relaciones entre las personas determina centralmente la eficacia, la eficiencia, la capacidad de evolucionar y el bienestar de toda organización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Familia Donoso</cp:lastModifiedBy>
  <cp:lastPrinted>2004-06-01T23:06:04Z</cp:lastPrinted>
  <dcterms:modified xsi:type="dcterms:W3CDTF">2008-08-29T03:57:26Z</dcterms:modified>
  <cp:revision>459</cp:revision>
  <dc:subject/>
  <dc:title>Presentación de PowerPoint</dc:title>
</cp:coreProperties>
</file>